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B99-8927-4898-B591-66BCC8F0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7C1-5D6F-4774-B6D5-796C62E1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A07-540B-4FEB-84B3-2C02A6B0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EC9-D903-4396-A155-0A73AD72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655-A2FB-4601-A6D1-E3C68BF2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A2D-21CD-460A-ABE7-98403192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E5F-F0D4-4F62-8FA2-99CD3C32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A94-952B-4654-87E0-BA0E58FA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9AE-4E3A-43AE-A06D-6177C5E4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188-8393-4D19-BCA2-83164041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48F-BF86-435E-955F-B692640D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35E-9CE3-4995-93AF-40755525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8E44-7F15-41A2-B9EE-011D94395B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uesday, September 22n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complement and supplement of each of the given ang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5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Ink 4"/>
          <p:cNvSpPr/>
          <p:nvPr/>
        </p:nvSpPr>
        <p:spPr>
          <a:xfrm>
            <a:off x="374760" y="3321000"/>
            <a:ext cx="849240" cy="554040"/>
          </a:xfrm>
          <a:custGeom>
            <a:avLst/>
            <a:gdLst/>
            <a:ahLst/>
            <a:rect l="l" t="t" r="r" b="b"/>
            <a:pathLst>
              <a:path w="2357" h="1539">
                <a:moveTo>
                  <a:pt x="1042" y="9277"/>
                </a:moveTo>
                <a:cubicBezTo>
                  <a:pt x="1137" y="9268"/>
                  <a:pt x="1216" y="9252"/>
                  <a:pt x="1315" y="9252"/>
                </a:cubicBezTo>
                <a:cubicBezTo>
                  <a:pt x="1447" y="9252"/>
                  <a:pt x="1580" y="9252"/>
                  <a:pt x="1712" y="9252"/>
                </a:cubicBezTo>
              </a:path>
              <a:path w="2357" h="1539">
                <a:moveTo>
                  <a:pt x="1364" y="9252"/>
                </a:moveTo>
                <a:cubicBezTo>
                  <a:pt x="1364" y="9422"/>
                  <a:pt x="1363" y="9584"/>
                  <a:pt x="1339" y="9748"/>
                </a:cubicBezTo>
                <a:cubicBezTo>
                  <a:pt x="1330" y="9813"/>
                  <a:pt x="1318" y="9837"/>
                  <a:pt x="1364" y="9823"/>
                </a:cubicBezTo>
              </a:path>
              <a:path w="2357" h="1539">
                <a:moveTo>
                  <a:pt x="1563" y="9277"/>
                </a:moveTo>
                <a:cubicBezTo>
                  <a:pt x="1557" y="9356"/>
                  <a:pt x="1524" y="9445"/>
                  <a:pt x="1538" y="9525"/>
                </a:cubicBezTo>
                <a:cubicBezTo>
                  <a:pt x="1555" y="9618"/>
                  <a:pt x="1567" y="9737"/>
                  <a:pt x="1612" y="9823"/>
                </a:cubicBezTo>
                <a:cubicBezTo>
                  <a:pt x="1629" y="9855"/>
                  <a:pt x="1658" y="9865"/>
                  <a:pt x="1687" y="9872"/>
                </a:cubicBezTo>
              </a:path>
              <a:path w="2357" h="1539">
                <a:moveTo>
                  <a:pt x="1141" y="9847"/>
                </a:moveTo>
                <a:cubicBezTo>
                  <a:pt x="1201" y="9907"/>
                  <a:pt x="1227" y="9897"/>
                  <a:pt x="1315" y="9897"/>
                </a:cubicBezTo>
                <a:cubicBezTo>
                  <a:pt x="1412" y="9897"/>
                  <a:pt x="1497" y="9907"/>
                  <a:pt x="1588" y="9922"/>
                </a:cubicBezTo>
                <a:cubicBezTo>
                  <a:pt x="1642" y="9931"/>
                  <a:pt x="1706" y="9922"/>
                  <a:pt x="1761" y="9922"/>
                </a:cubicBezTo>
              </a:path>
              <a:path w="2357" h="1539">
                <a:moveTo>
                  <a:pt x="1339" y="10046"/>
                </a:moveTo>
                <a:cubicBezTo>
                  <a:pt x="1438" y="10046"/>
                  <a:pt x="1520" y="10056"/>
                  <a:pt x="1612" y="10071"/>
                </a:cubicBezTo>
                <a:cubicBezTo>
                  <a:pt x="1629" y="10071"/>
                  <a:pt x="1645" y="10071"/>
                  <a:pt x="1662" y="10071"/>
                </a:cubicBezTo>
                <a:cubicBezTo>
                  <a:pt x="1662" y="10147"/>
                  <a:pt x="1665" y="10167"/>
                  <a:pt x="1612" y="10220"/>
                </a:cubicBezTo>
                <a:cubicBezTo>
                  <a:pt x="1562" y="10270"/>
                  <a:pt x="1513" y="10350"/>
                  <a:pt x="1463" y="10393"/>
                </a:cubicBezTo>
                <a:cubicBezTo>
                  <a:pt x="1420" y="10415"/>
                  <a:pt x="1408" y="10419"/>
                  <a:pt x="1389" y="10443"/>
                </a:cubicBezTo>
                <a:cubicBezTo>
                  <a:pt x="1438" y="10492"/>
                  <a:pt x="1464" y="10527"/>
                  <a:pt x="1538" y="10542"/>
                </a:cubicBezTo>
                <a:cubicBezTo>
                  <a:pt x="1605" y="10555"/>
                  <a:pt x="1660" y="10527"/>
                  <a:pt x="1712" y="10517"/>
                </a:cubicBezTo>
                <a:cubicBezTo>
                  <a:pt x="1728" y="10517"/>
                  <a:pt x="1745" y="10517"/>
                  <a:pt x="1761" y="10517"/>
                </a:cubicBezTo>
              </a:path>
              <a:path w="2357" h="1539">
                <a:moveTo>
                  <a:pt x="2059" y="9922"/>
                </a:moveTo>
                <a:cubicBezTo>
                  <a:pt x="2224" y="9922"/>
                  <a:pt x="2390" y="9922"/>
                  <a:pt x="2555" y="9922"/>
                </a:cubicBezTo>
              </a:path>
              <a:path w="2357" h="1539">
                <a:moveTo>
                  <a:pt x="2729" y="9302"/>
                </a:moveTo>
                <a:cubicBezTo>
                  <a:pt x="2886" y="9302"/>
                  <a:pt x="3140" y="9345"/>
                  <a:pt x="3274" y="9277"/>
                </a:cubicBezTo>
              </a:path>
              <a:path w="2357" h="1539">
                <a:moveTo>
                  <a:pt x="3001" y="9227"/>
                </a:moveTo>
                <a:cubicBezTo>
                  <a:pt x="2978" y="9344"/>
                  <a:pt x="2952" y="9433"/>
                  <a:pt x="2952" y="9550"/>
                </a:cubicBezTo>
                <a:cubicBezTo>
                  <a:pt x="2952" y="9664"/>
                  <a:pt x="2952" y="9765"/>
                  <a:pt x="2977" y="9872"/>
                </a:cubicBezTo>
                <a:cubicBezTo>
                  <a:pt x="2977" y="9880"/>
                  <a:pt x="2977" y="9889"/>
                  <a:pt x="2977" y="9897"/>
                </a:cubicBezTo>
              </a:path>
              <a:path w="2357" h="1539">
                <a:moveTo>
                  <a:pt x="3175" y="9351"/>
                </a:moveTo>
                <a:cubicBezTo>
                  <a:pt x="3190" y="9472"/>
                  <a:pt x="3175" y="9506"/>
                  <a:pt x="3175" y="9624"/>
                </a:cubicBezTo>
                <a:cubicBezTo>
                  <a:pt x="3175" y="9708"/>
                  <a:pt x="3192" y="9803"/>
                  <a:pt x="3225" y="9872"/>
                </a:cubicBezTo>
                <a:cubicBezTo>
                  <a:pt x="3245" y="9913"/>
                  <a:pt x="3253" y="9919"/>
                  <a:pt x="3249" y="9947"/>
                </a:cubicBezTo>
              </a:path>
              <a:path w="2357" h="1539">
                <a:moveTo>
                  <a:pt x="2778" y="9922"/>
                </a:moveTo>
                <a:cubicBezTo>
                  <a:pt x="2879" y="9930"/>
                  <a:pt x="2974" y="9947"/>
                  <a:pt x="3076" y="9947"/>
                </a:cubicBezTo>
                <a:cubicBezTo>
                  <a:pt x="3169" y="9947"/>
                  <a:pt x="3256" y="9965"/>
                  <a:pt x="3349" y="9971"/>
                </a:cubicBezTo>
              </a:path>
              <a:path w="2357" h="1539">
                <a:moveTo>
                  <a:pt x="3175" y="10071"/>
                </a:moveTo>
                <a:cubicBezTo>
                  <a:pt x="3132" y="10133"/>
                  <a:pt x="3080" y="10172"/>
                  <a:pt x="3076" y="10244"/>
                </a:cubicBezTo>
                <a:cubicBezTo>
                  <a:pt x="3073" y="10291"/>
                  <a:pt x="3103" y="10346"/>
                  <a:pt x="3150" y="10368"/>
                </a:cubicBezTo>
                <a:cubicBezTo>
                  <a:pt x="3222" y="10402"/>
                  <a:pt x="3287" y="10405"/>
                  <a:pt x="3349" y="10368"/>
                </a:cubicBezTo>
              </a:path>
              <a:path w="2357" h="1539">
                <a:moveTo>
                  <a:pt x="3398" y="10071"/>
                </a:moveTo>
                <a:cubicBezTo>
                  <a:pt x="3367" y="10156"/>
                  <a:pt x="3315" y="10307"/>
                  <a:pt x="3324" y="10393"/>
                </a:cubicBezTo>
                <a:cubicBezTo>
                  <a:pt x="3331" y="10466"/>
                  <a:pt x="3369" y="10538"/>
                  <a:pt x="3373" y="10616"/>
                </a:cubicBezTo>
                <a:cubicBezTo>
                  <a:pt x="3376" y="10675"/>
                  <a:pt x="3398" y="10702"/>
                  <a:pt x="3398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1482840" y="3357720"/>
            <a:ext cx="1179360" cy="544320"/>
          </a:xfrm>
          <a:custGeom>
            <a:avLst/>
            <a:gdLst/>
            <a:ahLst/>
            <a:rect l="l" t="t" r="r" b="b"/>
            <a:pathLst>
              <a:path w="3275" h="1514">
                <a:moveTo>
                  <a:pt x="4118" y="9376"/>
                </a:moveTo>
                <a:cubicBezTo>
                  <a:pt x="4153" y="9354"/>
                  <a:pt x="4219" y="9316"/>
                  <a:pt x="4266" y="9327"/>
                </a:cubicBezTo>
                <a:cubicBezTo>
                  <a:pt x="4351" y="9346"/>
                  <a:pt x="4362" y="9413"/>
                  <a:pt x="4316" y="9475"/>
                </a:cubicBezTo>
                <a:cubicBezTo>
                  <a:pt x="4267" y="9541"/>
                  <a:pt x="4225" y="9584"/>
                  <a:pt x="4192" y="9649"/>
                </a:cubicBezTo>
                <a:cubicBezTo>
                  <a:pt x="4159" y="9715"/>
                  <a:pt x="4113" y="9711"/>
                  <a:pt x="4167" y="9798"/>
                </a:cubicBezTo>
                <a:cubicBezTo>
                  <a:pt x="4201" y="9854"/>
                  <a:pt x="4302" y="9829"/>
                  <a:pt x="4341" y="9798"/>
                </a:cubicBezTo>
                <a:cubicBezTo>
                  <a:pt x="4349" y="9790"/>
                  <a:pt x="4358" y="9781"/>
                  <a:pt x="4366" y="9773"/>
                </a:cubicBezTo>
              </a:path>
              <a:path w="3275" h="1514">
                <a:moveTo>
                  <a:pt x="4490" y="9451"/>
                </a:moveTo>
                <a:cubicBezTo>
                  <a:pt x="4566" y="9434"/>
                  <a:pt x="4629" y="9451"/>
                  <a:pt x="4713" y="9451"/>
                </a:cubicBezTo>
                <a:cubicBezTo>
                  <a:pt x="4764" y="9451"/>
                  <a:pt x="4783" y="9450"/>
                  <a:pt x="4812" y="9426"/>
                </a:cubicBezTo>
              </a:path>
              <a:path w="3275" h="1514">
                <a:moveTo>
                  <a:pt x="4638" y="9500"/>
                </a:moveTo>
                <a:cubicBezTo>
                  <a:pt x="4620" y="9554"/>
                  <a:pt x="4582" y="9691"/>
                  <a:pt x="4589" y="9748"/>
                </a:cubicBezTo>
                <a:cubicBezTo>
                  <a:pt x="4617" y="9776"/>
                  <a:pt x="4626" y="9790"/>
                  <a:pt x="4614" y="9823"/>
                </a:cubicBezTo>
              </a:path>
              <a:path w="3275" h="1514">
                <a:moveTo>
                  <a:pt x="4762" y="9451"/>
                </a:moveTo>
                <a:cubicBezTo>
                  <a:pt x="4762" y="9579"/>
                  <a:pt x="4756" y="9710"/>
                  <a:pt x="4787" y="9823"/>
                </a:cubicBezTo>
                <a:cubicBezTo>
                  <a:pt x="4787" y="9831"/>
                  <a:pt x="4787" y="9839"/>
                  <a:pt x="4787" y="9847"/>
                </a:cubicBezTo>
              </a:path>
              <a:path w="3275" h="1514">
                <a:moveTo>
                  <a:pt x="4266" y="9971"/>
                </a:moveTo>
                <a:cubicBezTo>
                  <a:pt x="4423" y="9971"/>
                  <a:pt x="4581" y="9971"/>
                  <a:pt x="4738" y="9971"/>
                </a:cubicBezTo>
              </a:path>
              <a:path w="3275" h="1514">
                <a:moveTo>
                  <a:pt x="4589" y="10096"/>
                </a:moveTo>
                <a:cubicBezTo>
                  <a:pt x="4543" y="10175"/>
                  <a:pt x="4525" y="10202"/>
                  <a:pt x="4564" y="10294"/>
                </a:cubicBezTo>
                <a:cubicBezTo>
                  <a:pt x="4592" y="10360"/>
                  <a:pt x="4655" y="10376"/>
                  <a:pt x="4713" y="10393"/>
                </a:cubicBezTo>
                <a:cubicBezTo>
                  <a:pt x="4721" y="10393"/>
                  <a:pt x="4730" y="10393"/>
                  <a:pt x="4738" y="10393"/>
                </a:cubicBezTo>
              </a:path>
              <a:path w="3275" h="1514">
                <a:moveTo>
                  <a:pt x="4837" y="10120"/>
                </a:moveTo>
                <a:cubicBezTo>
                  <a:pt x="4813" y="10185"/>
                  <a:pt x="4790" y="10249"/>
                  <a:pt x="4787" y="10319"/>
                </a:cubicBezTo>
                <a:cubicBezTo>
                  <a:pt x="4783" y="10414"/>
                  <a:pt x="4762" y="10493"/>
                  <a:pt x="4762" y="10592"/>
                </a:cubicBezTo>
                <a:cubicBezTo>
                  <a:pt x="4762" y="10700"/>
                  <a:pt x="4754" y="10770"/>
                  <a:pt x="4837" y="10716"/>
                </a:cubicBezTo>
              </a:path>
              <a:path w="3275" h="1514">
                <a:moveTo>
                  <a:pt x="5085" y="9996"/>
                </a:moveTo>
                <a:cubicBezTo>
                  <a:pt x="5183" y="9996"/>
                  <a:pt x="5244" y="9992"/>
                  <a:pt x="5333" y="9971"/>
                </a:cubicBezTo>
                <a:cubicBezTo>
                  <a:pt x="5341" y="9971"/>
                  <a:pt x="5350" y="9971"/>
                  <a:pt x="5358" y="9971"/>
                </a:cubicBezTo>
              </a:path>
              <a:path w="3275" h="1514">
                <a:moveTo>
                  <a:pt x="5631" y="9550"/>
                </a:moveTo>
                <a:cubicBezTo>
                  <a:pt x="5743" y="9488"/>
                  <a:pt x="5780" y="9500"/>
                  <a:pt x="5904" y="9525"/>
                </a:cubicBezTo>
                <a:cubicBezTo>
                  <a:pt x="5912" y="9525"/>
                  <a:pt x="5920" y="9525"/>
                  <a:pt x="5928" y="9525"/>
                </a:cubicBezTo>
              </a:path>
              <a:path w="3275" h="1514">
                <a:moveTo>
                  <a:pt x="5705" y="9550"/>
                </a:moveTo>
                <a:cubicBezTo>
                  <a:pt x="5691" y="9626"/>
                  <a:pt x="5626" y="9811"/>
                  <a:pt x="5655" y="9897"/>
                </a:cubicBezTo>
                <a:cubicBezTo>
                  <a:pt x="5663" y="9905"/>
                  <a:pt x="5672" y="9914"/>
                  <a:pt x="5680" y="9922"/>
                </a:cubicBezTo>
              </a:path>
              <a:path w="3275" h="1514">
                <a:moveTo>
                  <a:pt x="5854" y="9525"/>
                </a:moveTo>
                <a:cubicBezTo>
                  <a:pt x="5847" y="9604"/>
                  <a:pt x="5829" y="9667"/>
                  <a:pt x="5829" y="9748"/>
                </a:cubicBezTo>
                <a:cubicBezTo>
                  <a:pt x="5829" y="9828"/>
                  <a:pt x="5827" y="9881"/>
                  <a:pt x="5854" y="9947"/>
                </a:cubicBezTo>
                <a:cubicBezTo>
                  <a:pt x="5873" y="10004"/>
                  <a:pt x="5882" y="10011"/>
                  <a:pt x="5879" y="10046"/>
                </a:cubicBezTo>
              </a:path>
              <a:path w="3275" h="1514">
                <a:moveTo>
                  <a:pt x="5606" y="10071"/>
                </a:moveTo>
                <a:cubicBezTo>
                  <a:pt x="5722" y="10071"/>
                  <a:pt x="5837" y="10071"/>
                  <a:pt x="5953" y="10071"/>
                </a:cubicBezTo>
              </a:path>
              <a:path w="3275" h="1514">
                <a:moveTo>
                  <a:pt x="5804" y="10269"/>
                </a:moveTo>
                <a:cubicBezTo>
                  <a:pt x="5783" y="10434"/>
                  <a:pt x="5770" y="10388"/>
                  <a:pt x="5879" y="10468"/>
                </a:cubicBezTo>
                <a:cubicBezTo>
                  <a:pt x="5916" y="10495"/>
                  <a:pt x="5932" y="10492"/>
                  <a:pt x="5978" y="10492"/>
                </a:cubicBezTo>
              </a:path>
              <a:path w="3275" h="1514">
                <a:moveTo>
                  <a:pt x="6003" y="10244"/>
                </a:moveTo>
                <a:cubicBezTo>
                  <a:pt x="5977" y="10344"/>
                  <a:pt x="5932" y="10464"/>
                  <a:pt x="5928" y="10567"/>
                </a:cubicBezTo>
                <a:cubicBezTo>
                  <a:pt x="5925" y="10649"/>
                  <a:pt x="5928" y="10733"/>
                  <a:pt x="5928" y="10815"/>
                </a:cubicBezTo>
              </a:path>
              <a:path w="3275" h="1514">
                <a:moveTo>
                  <a:pt x="6300" y="9971"/>
                </a:moveTo>
                <a:cubicBezTo>
                  <a:pt x="6350" y="9963"/>
                  <a:pt x="6399" y="9955"/>
                  <a:pt x="6449" y="9947"/>
                </a:cubicBezTo>
              </a:path>
              <a:path w="3275" h="1514">
                <a:moveTo>
                  <a:pt x="6276" y="10170"/>
                </a:moveTo>
                <a:cubicBezTo>
                  <a:pt x="6366" y="10193"/>
                  <a:pt x="6397" y="10189"/>
                  <a:pt x="6474" y="10170"/>
                </a:cubicBezTo>
              </a:path>
              <a:path w="3275" h="1514">
                <a:moveTo>
                  <a:pt x="6796" y="9649"/>
                </a:moveTo>
                <a:cubicBezTo>
                  <a:pt x="6888" y="9615"/>
                  <a:pt x="6930" y="9640"/>
                  <a:pt x="7020" y="9649"/>
                </a:cubicBezTo>
                <a:cubicBezTo>
                  <a:pt x="7103" y="9649"/>
                  <a:pt x="7119" y="9649"/>
                  <a:pt x="7169" y="9649"/>
                </a:cubicBezTo>
              </a:path>
              <a:path w="3275" h="1514">
                <a:moveTo>
                  <a:pt x="6970" y="9723"/>
                </a:moveTo>
                <a:cubicBezTo>
                  <a:pt x="6952" y="9811"/>
                  <a:pt x="6901" y="9920"/>
                  <a:pt x="6945" y="9996"/>
                </a:cubicBezTo>
              </a:path>
              <a:path w="3275" h="1514">
                <a:moveTo>
                  <a:pt x="7144" y="9674"/>
                </a:moveTo>
                <a:cubicBezTo>
                  <a:pt x="7144" y="9765"/>
                  <a:pt x="7153" y="9845"/>
                  <a:pt x="7169" y="9922"/>
                </a:cubicBezTo>
                <a:cubicBezTo>
                  <a:pt x="7180" y="9975"/>
                  <a:pt x="7169" y="10042"/>
                  <a:pt x="7169" y="10096"/>
                </a:cubicBezTo>
              </a:path>
              <a:path w="3275" h="1514">
                <a:moveTo>
                  <a:pt x="6921" y="10096"/>
                </a:moveTo>
                <a:cubicBezTo>
                  <a:pt x="7033" y="10101"/>
                  <a:pt x="7133" y="10120"/>
                  <a:pt x="7243" y="10120"/>
                </a:cubicBezTo>
                <a:cubicBezTo>
                  <a:pt x="7311" y="10120"/>
                  <a:pt x="7330" y="10123"/>
                  <a:pt x="7367" y="10096"/>
                </a:cubicBezTo>
              </a:path>
              <a:path w="3275" h="1514">
                <a:moveTo>
                  <a:pt x="7119" y="10294"/>
                </a:moveTo>
                <a:cubicBezTo>
                  <a:pt x="7096" y="10344"/>
                  <a:pt x="7043" y="10439"/>
                  <a:pt x="7144" y="10468"/>
                </a:cubicBezTo>
                <a:cubicBezTo>
                  <a:pt x="7214" y="10488"/>
                  <a:pt x="7318" y="10468"/>
                  <a:pt x="7392" y="10468"/>
                </a:cubicBezTo>
              </a:path>
              <a:path w="3275" h="1514">
                <a:moveTo>
                  <a:pt x="7342" y="10220"/>
                </a:moveTo>
                <a:cubicBezTo>
                  <a:pt x="7334" y="10313"/>
                  <a:pt x="7304" y="10403"/>
                  <a:pt x="7293" y="10492"/>
                </a:cubicBezTo>
                <a:cubicBezTo>
                  <a:pt x="7283" y="10575"/>
                  <a:pt x="7317" y="10655"/>
                  <a:pt x="7317" y="10740"/>
                </a:cubicBezTo>
                <a:cubicBezTo>
                  <a:pt x="7317" y="10773"/>
                  <a:pt x="7317" y="10807"/>
                  <a:pt x="7317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152280" y="3884760"/>
            <a:ext cx="1089000" cy="608040"/>
          </a:xfrm>
          <a:custGeom>
            <a:avLst/>
            <a:gdLst/>
            <a:ahLst/>
            <a:rect l="l" t="t" r="r" b="b"/>
            <a:pathLst>
              <a:path w="3027" h="1688">
                <a:moveTo>
                  <a:pt x="422" y="10815"/>
                </a:moveTo>
                <a:cubicBezTo>
                  <a:pt x="519" y="10842"/>
                  <a:pt x="593" y="10840"/>
                  <a:pt x="695" y="10840"/>
                </a:cubicBezTo>
                <a:cubicBezTo>
                  <a:pt x="765" y="10840"/>
                  <a:pt x="799" y="10834"/>
                  <a:pt x="868" y="10815"/>
                </a:cubicBezTo>
              </a:path>
              <a:path w="3027" h="1688">
                <a:moveTo>
                  <a:pt x="595" y="10815"/>
                </a:moveTo>
                <a:cubicBezTo>
                  <a:pt x="577" y="10934"/>
                  <a:pt x="571" y="11042"/>
                  <a:pt x="571" y="11162"/>
                </a:cubicBezTo>
                <a:cubicBezTo>
                  <a:pt x="571" y="11212"/>
                  <a:pt x="558" y="11349"/>
                  <a:pt x="595" y="11311"/>
                </a:cubicBezTo>
              </a:path>
              <a:path w="3027" h="1688">
                <a:moveTo>
                  <a:pt x="769" y="10790"/>
                </a:moveTo>
                <a:cubicBezTo>
                  <a:pt x="779" y="10867"/>
                  <a:pt x="794" y="10931"/>
                  <a:pt x="794" y="11013"/>
                </a:cubicBezTo>
                <a:cubicBezTo>
                  <a:pt x="794" y="11103"/>
                  <a:pt x="808" y="11179"/>
                  <a:pt x="819" y="11261"/>
                </a:cubicBezTo>
                <a:cubicBezTo>
                  <a:pt x="832" y="11360"/>
                  <a:pt x="844" y="11359"/>
                  <a:pt x="893" y="11435"/>
                </a:cubicBezTo>
                <a:cubicBezTo>
                  <a:pt x="915" y="11479"/>
                  <a:pt x="918" y="11490"/>
                  <a:pt x="943" y="11509"/>
                </a:cubicBezTo>
              </a:path>
              <a:path w="3027" h="1688">
                <a:moveTo>
                  <a:pt x="1191" y="11385"/>
                </a:moveTo>
                <a:cubicBezTo>
                  <a:pt x="1304" y="11414"/>
                  <a:pt x="1350" y="11435"/>
                  <a:pt x="1463" y="11435"/>
                </a:cubicBezTo>
                <a:cubicBezTo>
                  <a:pt x="1535" y="11435"/>
                  <a:pt x="1680" y="11458"/>
                  <a:pt x="1712" y="11410"/>
                </a:cubicBezTo>
              </a:path>
              <a:path w="3027" h="1688">
                <a:moveTo>
                  <a:pt x="2158" y="10914"/>
                </a:moveTo>
                <a:cubicBezTo>
                  <a:pt x="2226" y="10940"/>
                  <a:pt x="2308" y="10954"/>
                  <a:pt x="2381" y="10964"/>
                </a:cubicBezTo>
                <a:cubicBezTo>
                  <a:pt x="2450" y="10974"/>
                  <a:pt x="2542" y="10970"/>
                  <a:pt x="2604" y="10939"/>
                </a:cubicBezTo>
                <a:cubicBezTo>
                  <a:pt x="2612" y="10931"/>
                  <a:pt x="2621" y="10922"/>
                  <a:pt x="2629" y="10914"/>
                </a:cubicBezTo>
              </a:path>
              <a:path w="3027" h="1688">
                <a:moveTo>
                  <a:pt x="2332" y="11013"/>
                </a:moveTo>
                <a:cubicBezTo>
                  <a:pt x="2332" y="11138"/>
                  <a:pt x="2340" y="11219"/>
                  <a:pt x="2356" y="11336"/>
                </a:cubicBezTo>
                <a:cubicBezTo>
                  <a:pt x="2365" y="11398"/>
                  <a:pt x="2369" y="11450"/>
                  <a:pt x="2381" y="11509"/>
                </a:cubicBezTo>
              </a:path>
              <a:path w="3027" h="1688">
                <a:moveTo>
                  <a:pt x="2604" y="10988"/>
                </a:moveTo>
                <a:cubicBezTo>
                  <a:pt x="2628" y="11037"/>
                  <a:pt x="2646" y="11124"/>
                  <a:pt x="2629" y="11187"/>
                </a:cubicBezTo>
                <a:cubicBezTo>
                  <a:pt x="2606" y="11271"/>
                  <a:pt x="2640" y="11300"/>
                  <a:pt x="2654" y="11385"/>
                </a:cubicBezTo>
                <a:cubicBezTo>
                  <a:pt x="2654" y="11427"/>
                  <a:pt x="2654" y="11435"/>
                  <a:pt x="2654" y="11460"/>
                </a:cubicBezTo>
              </a:path>
              <a:path w="3027" h="1688">
                <a:moveTo>
                  <a:pt x="2158" y="11559"/>
                </a:moveTo>
                <a:cubicBezTo>
                  <a:pt x="2296" y="11587"/>
                  <a:pt x="2439" y="11596"/>
                  <a:pt x="2580" y="11609"/>
                </a:cubicBezTo>
                <a:cubicBezTo>
                  <a:pt x="2629" y="11609"/>
                  <a:pt x="2646" y="11609"/>
                  <a:pt x="2679" y="11609"/>
                </a:cubicBezTo>
              </a:path>
              <a:path w="3027" h="1688">
                <a:moveTo>
                  <a:pt x="2530" y="11782"/>
                </a:moveTo>
                <a:cubicBezTo>
                  <a:pt x="2500" y="11822"/>
                  <a:pt x="2437" y="11897"/>
                  <a:pt x="2456" y="11956"/>
                </a:cubicBezTo>
                <a:cubicBezTo>
                  <a:pt x="2473" y="12009"/>
                  <a:pt x="2535" y="12046"/>
                  <a:pt x="2580" y="12055"/>
                </a:cubicBezTo>
                <a:cubicBezTo>
                  <a:pt x="2639" y="12055"/>
                  <a:pt x="2665" y="12052"/>
                  <a:pt x="2704" y="12030"/>
                </a:cubicBezTo>
              </a:path>
              <a:path w="3027" h="1688">
                <a:moveTo>
                  <a:pt x="2803" y="11733"/>
                </a:moveTo>
                <a:cubicBezTo>
                  <a:pt x="2764" y="11865"/>
                  <a:pt x="2729" y="11968"/>
                  <a:pt x="2729" y="12105"/>
                </a:cubicBezTo>
                <a:cubicBezTo>
                  <a:pt x="2729" y="12201"/>
                  <a:pt x="2737" y="12295"/>
                  <a:pt x="2753" y="12378"/>
                </a:cubicBezTo>
                <a:cubicBezTo>
                  <a:pt x="2764" y="12437"/>
                  <a:pt x="2751" y="12451"/>
                  <a:pt x="2803" y="12477"/>
                </a:cubicBezTo>
              </a:path>
              <a:path w="3027" h="1688">
                <a:moveTo>
                  <a:pt x="3225" y="11509"/>
                </a:moveTo>
                <a:cubicBezTo>
                  <a:pt x="3305" y="11523"/>
                  <a:pt x="3349" y="11534"/>
                  <a:pt x="3423" y="11534"/>
                </a:cubicBezTo>
              </a:path>
              <a:path w="3027" h="1688">
                <a:moveTo>
                  <a:pt x="3299" y="11708"/>
                </a:moveTo>
                <a:cubicBezTo>
                  <a:pt x="3383" y="11687"/>
                  <a:pt x="3402" y="11685"/>
                  <a:pt x="3448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81000" y="2946240"/>
            <a:ext cx="534960" cy="447840"/>
          </a:xfrm>
          <a:custGeom>
            <a:avLst/>
            <a:gdLst/>
            <a:ahLst/>
            <a:rect l="l" t="t" r="r" b="b"/>
            <a:pathLst>
              <a:path w="1490" h="1241">
                <a:moveTo>
                  <a:pt x="397" y="8905"/>
                </a:moveTo>
                <a:cubicBezTo>
                  <a:pt x="405" y="8930"/>
                  <a:pt x="414" y="8954"/>
                  <a:pt x="422" y="8979"/>
                </a:cubicBezTo>
                <a:cubicBezTo>
                  <a:pt x="398" y="8949"/>
                  <a:pt x="364" y="8867"/>
                  <a:pt x="322" y="8855"/>
                </a:cubicBezTo>
                <a:cubicBezTo>
                  <a:pt x="219" y="8825"/>
                  <a:pt x="226" y="8969"/>
                  <a:pt x="223" y="9029"/>
                </a:cubicBezTo>
                <a:cubicBezTo>
                  <a:pt x="219" y="9120"/>
                  <a:pt x="210" y="9227"/>
                  <a:pt x="248" y="9302"/>
                </a:cubicBezTo>
                <a:cubicBezTo>
                  <a:pt x="272" y="9348"/>
                  <a:pt x="334" y="9431"/>
                  <a:pt x="397" y="9426"/>
                </a:cubicBezTo>
                <a:cubicBezTo>
                  <a:pt x="427" y="9396"/>
                  <a:pt x="441" y="9385"/>
                  <a:pt x="471" y="9376"/>
                </a:cubicBezTo>
              </a:path>
              <a:path w="1490" h="1241">
                <a:moveTo>
                  <a:pt x="546" y="8954"/>
                </a:moveTo>
                <a:cubicBezTo>
                  <a:pt x="563" y="9069"/>
                  <a:pt x="529" y="9285"/>
                  <a:pt x="645" y="9277"/>
                </a:cubicBezTo>
                <a:cubicBezTo>
                  <a:pt x="716" y="9272"/>
                  <a:pt x="780" y="9192"/>
                  <a:pt x="794" y="9128"/>
                </a:cubicBezTo>
                <a:cubicBezTo>
                  <a:pt x="807" y="9072"/>
                  <a:pt x="793" y="8977"/>
                  <a:pt x="769" y="8930"/>
                </a:cubicBezTo>
                <a:cubicBezTo>
                  <a:pt x="733" y="8858"/>
                  <a:pt x="654" y="8871"/>
                  <a:pt x="595" y="8905"/>
                </a:cubicBezTo>
                <a:cubicBezTo>
                  <a:pt x="573" y="8927"/>
                  <a:pt x="565" y="8932"/>
                  <a:pt x="571" y="8954"/>
                </a:cubicBezTo>
              </a:path>
              <a:path w="1490" h="1241">
                <a:moveTo>
                  <a:pt x="893" y="8855"/>
                </a:moveTo>
                <a:cubicBezTo>
                  <a:pt x="914" y="8951"/>
                  <a:pt x="912" y="9057"/>
                  <a:pt x="893" y="8930"/>
                </a:cubicBezTo>
                <a:cubicBezTo>
                  <a:pt x="882" y="8856"/>
                  <a:pt x="888" y="8765"/>
                  <a:pt x="918" y="8706"/>
                </a:cubicBezTo>
                <a:cubicBezTo>
                  <a:pt x="955" y="8771"/>
                  <a:pt x="977" y="8843"/>
                  <a:pt x="1017" y="8905"/>
                </a:cubicBezTo>
                <a:cubicBezTo>
                  <a:pt x="1048" y="8953"/>
                  <a:pt x="1127" y="8980"/>
                  <a:pt x="1166" y="8930"/>
                </a:cubicBezTo>
                <a:cubicBezTo>
                  <a:pt x="1201" y="8885"/>
                  <a:pt x="1229" y="8809"/>
                  <a:pt x="1240" y="8756"/>
                </a:cubicBezTo>
              </a:path>
              <a:path w="1490" h="1241">
                <a:moveTo>
                  <a:pt x="1191" y="8483"/>
                </a:moveTo>
                <a:cubicBezTo>
                  <a:pt x="1213" y="8573"/>
                  <a:pt x="1216" y="8651"/>
                  <a:pt x="1265" y="8731"/>
                </a:cubicBezTo>
                <a:cubicBezTo>
                  <a:pt x="1279" y="8753"/>
                  <a:pt x="1356" y="8897"/>
                  <a:pt x="1414" y="8855"/>
                </a:cubicBezTo>
                <a:cubicBezTo>
                  <a:pt x="1422" y="8839"/>
                  <a:pt x="1431" y="8822"/>
                  <a:pt x="1439" y="8806"/>
                </a:cubicBezTo>
              </a:path>
              <a:path w="1490" h="1241">
                <a:moveTo>
                  <a:pt x="1414" y="8558"/>
                </a:moveTo>
                <a:cubicBezTo>
                  <a:pt x="1406" y="8541"/>
                  <a:pt x="1397" y="8525"/>
                  <a:pt x="1389" y="8508"/>
                </a:cubicBezTo>
                <a:cubicBezTo>
                  <a:pt x="1389" y="8591"/>
                  <a:pt x="1371" y="8682"/>
                  <a:pt x="1414" y="8756"/>
                </a:cubicBezTo>
                <a:cubicBezTo>
                  <a:pt x="1441" y="8803"/>
                  <a:pt x="1480" y="8861"/>
                  <a:pt x="1513" y="8905"/>
                </a:cubicBezTo>
                <a:cubicBezTo>
                  <a:pt x="1521" y="8913"/>
                  <a:pt x="1530" y="8922"/>
                  <a:pt x="1538" y="8930"/>
                </a:cubicBezTo>
                <a:cubicBezTo>
                  <a:pt x="1497" y="8858"/>
                  <a:pt x="1496" y="8781"/>
                  <a:pt x="1463" y="8706"/>
                </a:cubicBezTo>
                <a:cubicBezTo>
                  <a:pt x="1421" y="8610"/>
                  <a:pt x="1393" y="8513"/>
                  <a:pt x="1389" y="8409"/>
                </a:cubicBezTo>
                <a:cubicBezTo>
                  <a:pt x="1387" y="8350"/>
                  <a:pt x="1372" y="8245"/>
                  <a:pt x="1439" y="8210"/>
                </a:cubicBezTo>
                <a:cubicBezTo>
                  <a:pt x="1515" y="8171"/>
                  <a:pt x="1602" y="8207"/>
                  <a:pt x="1662" y="8260"/>
                </a:cubicBezTo>
                <a:cubicBezTo>
                  <a:pt x="1736" y="8325"/>
                  <a:pt x="1720" y="8396"/>
                  <a:pt x="1687" y="8483"/>
                </a:cubicBezTo>
                <a:cubicBezTo>
                  <a:pt x="1661" y="8550"/>
                  <a:pt x="1619" y="8571"/>
                  <a:pt x="1563" y="86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1384200" y="4786200"/>
            <a:ext cx="1054080" cy="625680"/>
          </a:xfrm>
          <a:custGeom>
            <a:avLst/>
            <a:gdLst/>
            <a:ahLst/>
            <a:rect l="l" t="t" r="r" b="b"/>
            <a:pathLst>
              <a:path w="2928" h="1738">
                <a:moveTo>
                  <a:pt x="3994" y="14635"/>
                </a:moveTo>
                <a:cubicBezTo>
                  <a:pt x="4016" y="14612"/>
                  <a:pt x="4021" y="14604"/>
                  <a:pt x="4043" y="14610"/>
                </a:cubicBezTo>
              </a:path>
              <a:path w="2928" h="1738">
                <a:moveTo>
                  <a:pt x="4316" y="14486"/>
                </a:moveTo>
                <a:cubicBezTo>
                  <a:pt x="4389" y="14516"/>
                  <a:pt x="4411" y="14532"/>
                  <a:pt x="4465" y="14585"/>
                </a:cubicBezTo>
                <a:cubicBezTo>
                  <a:pt x="4514" y="14633"/>
                  <a:pt x="4518" y="14702"/>
                  <a:pt x="4490" y="14759"/>
                </a:cubicBezTo>
                <a:cubicBezTo>
                  <a:pt x="4472" y="14794"/>
                  <a:pt x="4347" y="14864"/>
                  <a:pt x="4316" y="14858"/>
                </a:cubicBezTo>
                <a:cubicBezTo>
                  <a:pt x="4244" y="14844"/>
                  <a:pt x="4273" y="14768"/>
                  <a:pt x="4291" y="14734"/>
                </a:cubicBezTo>
                <a:cubicBezTo>
                  <a:pt x="4299" y="14717"/>
                  <a:pt x="4308" y="14701"/>
                  <a:pt x="4316" y="14684"/>
                </a:cubicBezTo>
                <a:cubicBezTo>
                  <a:pt x="4372" y="14740"/>
                  <a:pt x="4405" y="14787"/>
                  <a:pt x="4440" y="14858"/>
                </a:cubicBezTo>
                <a:cubicBezTo>
                  <a:pt x="4470" y="14918"/>
                  <a:pt x="4484" y="14980"/>
                  <a:pt x="4514" y="15032"/>
                </a:cubicBezTo>
              </a:path>
              <a:path w="2928" h="1738">
                <a:moveTo>
                  <a:pt x="3845" y="13791"/>
                </a:moveTo>
                <a:lnTo>
                  <a:pt x="3845" y="13791"/>
                </a:lnTo>
              </a:path>
              <a:path w="2928" h="1738">
                <a:moveTo>
                  <a:pt x="3994" y="13444"/>
                </a:moveTo>
                <a:cubicBezTo>
                  <a:pt x="4046" y="13416"/>
                  <a:pt x="4138" y="13349"/>
                  <a:pt x="4192" y="13419"/>
                </a:cubicBezTo>
                <a:cubicBezTo>
                  <a:pt x="4251" y="13495"/>
                  <a:pt x="4195" y="13546"/>
                  <a:pt x="4167" y="13618"/>
                </a:cubicBezTo>
                <a:cubicBezTo>
                  <a:pt x="4139" y="13690"/>
                  <a:pt x="4114" y="13755"/>
                  <a:pt x="4068" y="13816"/>
                </a:cubicBezTo>
                <a:cubicBezTo>
                  <a:pt x="4029" y="13868"/>
                  <a:pt x="3993" y="13877"/>
                  <a:pt x="4043" y="13940"/>
                </a:cubicBezTo>
                <a:cubicBezTo>
                  <a:pt x="4100" y="14011"/>
                  <a:pt x="4185" y="14012"/>
                  <a:pt x="4266" y="14015"/>
                </a:cubicBezTo>
                <a:cubicBezTo>
                  <a:pt x="4283" y="14015"/>
                  <a:pt x="4299" y="14015"/>
                  <a:pt x="4316" y="14015"/>
                </a:cubicBezTo>
              </a:path>
              <a:path w="2928" h="1738">
                <a:moveTo>
                  <a:pt x="4812" y="13643"/>
                </a:moveTo>
                <a:cubicBezTo>
                  <a:pt x="4875" y="13636"/>
                  <a:pt x="4971" y="13593"/>
                  <a:pt x="5035" y="13618"/>
                </a:cubicBezTo>
                <a:cubicBezTo>
                  <a:pt x="5043" y="13626"/>
                  <a:pt x="5052" y="13635"/>
                  <a:pt x="5060" y="13643"/>
                </a:cubicBezTo>
              </a:path>
              <a:path w="2928" h="1738">
                <a:moveTo>
                  <a:pt x="4986" y="14039"/>
                </a:moveTo>
                <a:lnTo>
                  <a:pt x="4986" y="14039"/>
                </a:lnTo>
              </a:path>
              <a:path w="2928" h="1738">
                <a:moveTo>
                  <a:pt x="5482" y="13295"/>
                </a:moveTo>
                <a:cubicBezTo>
                  <a:pt x="5618" y="13301"/>
                  <a:pt x="5729" y="13303"/>
                  <a:pt x="5854" y="13345"/>
                </a:cubicBezTo>
              </a:path>
              <a:path w="2928" h="1738">
                <a:moveTo>
                  <a:pt x="5581" y="13419"/>
                </a:moveTo>
                <a:cubicBezTo>
                  <a:pt x="5544" y="13529"/>
                  <a:pt x="5543" y="13565"/>
                  <a:pt x="5556" y="13667"/>
                </a:cubicBezTo>
                <a:cubicBezTo>
                  <a:pt x="5566" y="13746"/>
                  <a:pt x="5570" y="13770"/>
                  <a:pt x="5606" y="13841"/>
                </a:cubicBezTo>
              </a:path>
              <a:path w="2928" h="1738">
                <a:moveTo>
                  <a:pt x="5829" y="13370"/>
                </a:moveTo>
                <a:cubicBezTo>
                  <a:pt x="5829" y="13499"/>
                  <a:pt x="5840" y="13617"/>
                  <a:pt x="5854" y="13742"/>
                </a:cubicBezTo>
                <a:cubicBezTo>
                  <a:pt x="5864" y="13829"/>
                  <a:pt x="5887" y="13907"/>
                  <a:pt x="5904" y="13990"/>
                </a:cubicBezTo>
              </a:path>
              <a:path w="2928" h="1738">
                <a:moveTo>
                  <a:pt x="6276" y="13370"/>
                </a:moveTo>
                <a:cubicBezTo>
                  <a:pt x="6232" y="13458"/>
                  <a:pt x="6228" y="13523"/>
                  <a:pt x="6201" y="13618"/>
                </a:cubicBezTo>
                <a:cubicBezTo>
                  <a:pt x="6164" y="13749"/>
                  <a:pt x="6094" y="13851"/>
                  <a:pt x="6077" y="13990"/>
                </a:cubicBezTo>
                <a:cubicBezTo>
                  <a:pt x="6064" y="14096"/>
                  <a:pt x="6037" y="14207"/>
                  <a:pt x="6028" y="14312"/>
                </a:cubicBezTo>
                <a:cubicBezTo>
                  <a:pt x="6028" y="14387"/>
                  <a:pt x="6028" y="14395"/>
                  <a:pt x="6028" y="14436"/>
                </a:cubicBezTo>
              </a:path>
              <a:path w="2928" h="1738">
                <a:moveTo>
                  <a:pt x="6375" y="14114"/>
                </a:moveTo>
                <a:cubicBezTo>
                  <a:pt x="6347" y="14198"/>
                  <a:pt x="6301" y="14295"/>
                  <a:pt x="6325" y="14387"/>
                </a:cubicBezTo>
                <a:cubicBezTo>
                  <a:pt x="6356" y="14507"/>
                  <a:pt x="6410" y="14699"/>
                  <a:pt x="6524" y="14759"/>
                </a:cubicBezTo>
                <a:cubicBezTo>
                  <a:pt x="6594" y="14796"/>
                  <a:pt x="6634" y="14762"/>
                  <a:pt x="6697" y="14709"/>
                </a:cubicBezTo>
                <a:cubicBezTo>
                  <a:pt x="6742" y="14671"/>
                  <a:pt x="6786" y="14574"/>
                  <a:pt x="6772" y="14511"/>
                </a:cubicBezTo>
                <a:cubicBezTo>
                  <a:pt x="6753" y="14426"/>
                  <a:pt x="6732" y="14417"/>
                  <a:pt x="6672" y="14362"/>
                </a:cubicBezTo>
                <a:cubicBezTo>
                  <a:pt x="6627" y="14320"/>
                  <a:pt x="6508" y="14382"/>
                  <a:pt x="6474" y="14436"/>
                </a:cubicBezTo>
                <a:cubicBezTo>
                  <a:pt x="6407" y="14541"/>
                  <a:pt x="6433" y="14695"/>
                  <a:pt x="6400" y="14808"/>
                </a:cubicBezTo>
              </a:path>
              <a:path w="2928" h="1738">
                <a:moveTo>
                  <a:pt x="4887" y="13965"/>
                </a:moveTo>
                <a:cubicBezTo>
                  <a:pt x="5047" y="13936"/>
                  <a:pt x="5099" y="13962"/>
                  <a:pt x="5259" y="13990"/>
                </a:cubicBezTo>
                <a:cubicBezTo>
                  <a:pt x="5267" y="13990"/>
                  <a:pt x="5275" y="13990"/>
                  <a:pt x="5283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554040" y="5518080"/>
            <a:ext cx="465120" cy="689040"/>
          </a:xfrm>
          <a:custGeom>
            <a:avLst/>
            <a:gdLst/>
            <a:ahLst/>
            <a:rect l="l" t="t" r="r" b="b"/>
            <a:pathLst>
              <a:path w="1291" h="1911">
                <a:moveTo>
                  <a:pt x="2034" y="15553"/>
                </a:moveTo>
                <a:cubicBezTo>
                  <a:pt x="2139" y="15525"/>
                  <a:pt x="2249" y="15473"/>
                  <a:pt x="2356" y="15453"/>
                </a:cubicBezTo>
                <a:cubicBezTo>
                  <a:pt x="2373" y="15453"/>
                  <a:pt x="2389" y="15453"/>
                  <a:pt x="2406" y="15453"/>
                </a:cubicBezTo>
              </a:path>
              <a:path w="1291" h="1911">
                <a:moveTo>
                  <a:pt x="2059" y="15627"/>
                </a:moveTo>
                <a:cubicBezTo>
                  <a:pt x="2044" y="15757"/>
                  <a:pt x="2034" y="15871"/>
                  <a:pt x="2034" y="15999"/>
                </a:cubicBezTo>
                <a:cubicBezTo>
                  <a:pt x="2034" y="16040"/>
                  <a:pt x="2034" y="16048"/>
                  <a:pt x="2034" y="16073"/>
                </a:cubicBezTo>
              </a:path>
              <a:path w="1291" h="1911">
                <a:moveTo>
                  <a:pt x="2257" y="15553"/>
                </a:moveTo>
                <a:cubicBezTo>
                  <a:pt x="2287" y="15656"/>
                  <a:pt x="2307" y="15719"/>
                  <a:pt x="2307" y="15825"/>
                </a:cubicBezTo>
                <a:cubicBezTo>
                  <a:pt x="2307" y="15929"/>
                  <a:pt x="2286" y="16021"/>
                  <a:pt x="2282" y="16123"/>
                </a:cubicBezTo>
                <a:cubicBezTo>
                  <a:pt x="2282" y="16189"/>
                  <a:pt x="2282" y="16206"/>
                  <a:pt x="2282" y="16247"/>
                </a:cubicBezTo>
              </a:path>
              <a:path w="1291" h="1911">
                <a:moveTo>
                  <a:pt x="2604" y="16024"/>
                </a:moveTo>
                <a:cubicBezTo>
                  <a:pt x="2685" y="16006"/>
                  <a:pt x="2750" y="15963"/>
                  <a:pt x="2828" y="15925"/>
                </a:cubicBezTo>
              </a:path>
              <a:path w="1291" h="1911">
                <a:moveTo>
                  <a:pt x="1910" y="16247"/>
                </a:moveTo>
                <a:cubicBezTo>
                  <a:pt x="1999" y="16217"/>
                  <a:pt x="2026" y="16243"/>
                  <a:pt x="2108" y="16247"/>
                </a:cubicBezTo>
                <a:cubicBezTo>
                  <a:pt x="2194" y="16251"/>
                  <a:pt x="2269" y="16272"/>
                  <a:pt x="2356" y="16272"/>
                </a:cubicBezTo>
                <a:cubicBezTo>
                  <a:pt x="2427" y="16272"/>
                  <a:pt x="2461" y="16285"/>
                  <a:pt x="2530" y="16272"/>
                </a:cubicBezTo>
                <a:cubicBezTo>
                  <a:pt x="2575" y="16272"/>
                  <a:pt x="2588" y="16268"/>
                  <a:pt x="2604" y="16297"/>
                </a:cubicBezTo>
              </a:path>
              <a:path w="1291" h="1911">
                <a:moveTo>
                  <a:pt x="2232" y="16570"/>
                </a:moveTo>
                <a:cubicBezTo>
                  <a:pt x="2251" y="16676"/>
                  <a:pt x="2257" y="16760"/>
                  <a:pt x="2257" y="16867"/>
                </a:cubicBezTo>
                <a:cubicBezTo>
                  <a:pt x="2257" y="16974"/>
                  <a:pt x="2244" y="17059"/>
                  <a:pt x="2232" y="17165"/>
                </a:cubicBezTo>
                <a:cubicBezTo>
                  <a:pt x="2232" y="17206"/>
                  <a:pt x="2232" y="17214"/>
                  <a:pt x="2232" y="17239"/>
                </a:cubicBezTo>
              </a:path>
              <a:path w="1291" h="1911">
                <a:moveTo>
                  <a:pt x="1637" y="15329"/>
                </a:moveTo>
                <a:cubicBezTo>
                  <a:pt x="1714" y="15329"/>
                  <a:pt x="1770" y="15333"/>
                  <a:pt x="1836" y="15379"/>
                </a:cubicBezTo>
                <a:cubicBezTo>
                  <a:pt x="1869" y="15402"/>
                  <a:pt x="1885" y="15447"/>
                  <a:pt x="1910" y="15478"/>
                </a:cubicBezTo>
                <a:cubicBezTo>
                  <a:pt x="1857" y="15531"/>
                  <a:pt x="1837" y="15528"/>
                  <a:pt x="1761" y="15528"/>
                </a:cubicBezTo>
                <a:cubicBezTo>
                  <a:pt x="1745" y="15528"/>
                  <a:pt x="1728" y="15528"/>
                  <a:pt x="1712" y="15528"/>
                </a:cubicBezTo>
                <a:cubicBezTo>
                  <a:pt x="1758" y="15535"/>
                  <a:pt x="1812" y="15550"/>
                  <a:pt x="1836" y="15602"/>
                </a:cubicBezTo>
                <a:cubicBezTo>
                  <a:pt x="1859" y="15651"/>
                  <a:pt x="1880" y="15770"/>
                  <a:pt x="1860" y="15825"/>
                </a:cubicBezTo>
                <a:cubicBezTo>
                  <a:pt x="1852" y="15833"/>
                  <a:pt x="1844" y="15842"/>
                  <a:pt x="1836" y="15850"/>
                </a:cubicBezTo>
                <a:cubicBezTo>
                  <a:pt x="1794" y="15823"/>
                  <a:pt x="1710" y="15764"/>
                  <a:pt x="1662" y="15751"/>
                </a:cubicBezTo>
                <a:cubicBezTo>
                  <a:pt x="1611" y="15737"/>
                  <a:pt x="1576" y="15753"/>
                  <a:pt x="1538" y="15776"/>
                </a:cubicBezTo>
              </a:path>
              <a:path w="1291" h="1911">
                <a:moveTo>
                  <a:pt x="1736" y="16396"/>
                </a:moveTo>
                <a:cubicBezTo>
                  <a:pt x="1833" y="16378"/>
                  <a:pt x="1855" y="16387"/>
                  <a:pt x="1935" y="16446"/>
                </a:cubicBezTo>
                <a:cubicBezTo>
                  <a:pt x="2023" y="16510"/>
                  <a:pt x="1919" y="16551"/>
                  <a:pt x="1885" y="16570"/>
                </a:cubicBezTo>
                <a:cubicBezTo>
                  <a:pt x="1826" y="16603"/>
                  <a:pt x="1775" y="16558"/>
                  <a:pt x="1811" y="16594"/>
                </a:cubicBezTo>
                <a:cubicBezTo>
                  <a:pt x="1852" y="16635"/>
                  <a:pt x="1883" y="16667"/>
                  <a:pt x="1910" y="16718"/>
                </a:cubicBezTo>
                <a:cubicBezTo>
                  <a:pt x="1944" y="16782"/>
                  <a:pt x="1970" y="16890"/>
                  <a:pt x="1885" y="16917"/>
                </a:cubicBezTo>
                <a:cubicBezTo>
                  <a:pt x="1830" y="16934"/>
                  <a:pt x="1731" y="16872"/>
                  <a:pt x="1687" y="16842"/>
                </a:cubicBezTo>
                <a:cubicBezTo>
                  <a:pt x="1664" y="16820"/>
                  <a:pt x="1659" y="16812"/>
                  <a:pt x="1637" y="168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1170000" y="5581800"/>
            <a:ext cx="1054080" cy="544320"/>
          </a:xfrm>
          <a:custGeom>
            <a:avLst/>
            <a:gdLst/>
            <a:ahLst/>
            <a:rect l="l" t="t" r="r" b="b"/>
            <a:pathLst>
              <a:path w="2928" h="1514">
                <a:moveTo>
                  <a:pt x="3274" y="15528"/>
                </a:moveTo>
                <a:cubicBezTo>
                  <a:pt x="3414" y="15528"/>
                  <a:pt x="3537" y="15526"/>
                  <a:pt x="3671" y="15503"/>
                </a:cubicBezTo>
              </a:path>
              <a:path w="2928" h="1514">
                <a:moveTo>
                  <a:pt x="3423" y="15602"/>
                </a:moveTo>
                <a:cubicBezTo>
                  <a:pt x="3388" y="15716"/>
                  <a:pt x="3373" y="15841"/>
                  <a:pt x="3324" y="15949"/>
                </a:cubicBezTo>
                <a:cubicBezTo>
                  <a:pt x="3294" y="16014"/>
                  <a:pt x="3272" y="16080"/>
                  <a:pt x="3249" y="16148"/>
                </a:cubicBezTo>
              </a:path>
              <a:path w="2928" h="1514">
                <a:moveTo>
                  <a:pt x="3497" y="15602"/>
                </a:moveTo>
                <a:cubicBezTo>
                  <a:pt x="3539" y="15700"/>
                  <a:pt x="3507" y="15750"/>
                  <a:pt x="3497" y="15850"/>
                </a:cubicBezTo>
                <a:cubicBezTo>
                  <a:pt x="3487" y="15954"/>
                  <a:pt x="3461" y="16048"/>
                  <a:pt x="3448" y="16148"/>
                </a:cubicBezTo>
              </a:path>
              <a:path w="2928" h="1514">
                <a:moveTo>
                  <a:pt x="3919" y="15776"/>
                </a:moveTo>
                <a:cubicBezTo>
                  <a:pt x="3827" y="15868"/>
                  <a:pt x="3743" y="15944"/>
                  <a:pt x="3671" y="16049"/>
                </a:cubicBezTo>
                <a:cubicBezTo>
                  <a:pt x="3605" y="16145"/>
                  <a:pt x="3574" y="16219"/>
                  <a:pt x="3522" y="16321"/>
                </a:cubicBezTo>
                <a:cubicBezTo>
                  <a:pt x="3486" y="16390"/>
                  <a:pt x="3424" y="16462"/>
                  <a:pt x="3373" y="16520"/>
                </a:cubicBezTo>
                <a:cubicBezTo>
                  <a:pt x="3365" y="16528"/>
                  <a:pt x="3357" y="16537"/>
                  <a:pt x="3349" y="16545"/>
                </a:cubicBezTo>
              </a:path>
              <a:path w="2928" h="1514">
                <a:moveTo>
                  <a:pt x="3721" y="16346"/>
                </a:moveTo>
                <a:cubicBezTo>
                  <a:pt x="3775" y="16350"/>
                  <a:pt x="3881" y="16346"/>
                  <a:pt x="3919" y="16396"/>
                </a:cubicBezTo>
                <a:cubicBezTo>
                  <a:pt x="3964" y="16455"/>
                  <a:pt x="3949" y="16505"/>
                  <a:pt x="3894" y="16545"/>
                </a:cubicBezTo>
                <a:cubicBezTo>
                  <a:pt x="3831" y="16591"/>
                  <a:pt x="3800" y="16586"/>
                  <a:pt x="3746" y="16619"/>
                </a:cubicBezTo>
                <a:cubicBezTo>
                  <a:pt x="3824" y="16654"/>
                  <a:pt x="3917" y="16671"/>
                  <a:pt x="3944" y="16768"/>
                </a:cubicBezTo>
                <a:cubicBezTo>
                  <a:pt x="3966" y="16844"/>
                  <a:pt x="3943" y="16893"/>
                  <a:pt x="3894" y="16942"/>
                </a:cubicBezTo>
                <a:cubicBezTo>
                  <a:pt x="3825" y="17011"/>
                  <a:pt x="3799" y="17000"/>
                  <a:pt x="3746" y="16942"/>
                </a:cubicBezTo>
                <a:cubicBezTo>
                  <a:pt x="3699" y="16890"/>
                  <a:pt x="3654" y="16829"/>
                  <a:pt x="3621" y="16768"/>
                </a:cubicBezTo>
                <a:cubicBezTo>
                  <a:pt x="3613" y="16751"/>
                  <a:pt x="3605" y="16735"/>
                  <a:pt x="3597" y="16718"/>
                </a:cubicBezTo>
              </a:path>
              <a:path w="2928" h="1514">
                <a:moveTo>
                  <a:pt x="4316" y="15999"/>
                </a:moveTo>
                <a:cubicBezTo>
                  <a:pt x="4389" y="15955"/>
                  <a:pt x="4435" y="15986"/>
                  <a:pt x="4514" y="15999"/>
                </a:cubicBezTo>
                <a:cubicBezTo>
                  <a:pt x="4531" y="15999"/>
                  <a:pt x="4547" y="15999"/>
                  <a:pt x="4564" y="15999"/>
                </a:cubicBezTo>
              </a:path>
              <a:path w="2928" h="1514">
                <a:moveTo>
                  <a:pt x="4366" y="16098"/>
                </a:moveTo>
                <a:cubicBezTo>
                  <a:pt x="4403" y="16119"/>
                  <a:pt x="4499" y="16189"/>
                  <a:pt x="4539" y="16197"/>
                </a:cubicBezTo>
                <a:cubicBezTo>
                  <a:pt x="4615" y="16197"/>
                  <a:pt x="4641" y="16197"/>
                  <a:pt x="4688" y="16173"/>
                </a:cubicBezTo>
              </a:path>
              <a:path w="2928" h="1514">
                <a:moveTo>
                  <a:pt x="5283" y="15652"/>
                </a:moveTo>
                <a:cubicBezTo>
                  <a:pt x="5340" y="15699"/>
                  <a:pt x="5356" y="15763"/>
                  <a:pt x="5333" y="15850"/>
                </a:cubicBezTo>
                <a:cubicBezTo>
                  <a:pt x="5324" y="15885"/>
                  <a:pt x="5259" y="16001"/>
                  <a:pt x="5234" y="16024"/>
                </a:cubicBezTo>
                <a:cubicBezTo>
                  <a:pt x="5184" y="16070"/>
                  <a:pt x="5111" y="16089"/>
                  <a:pt x="5060" y="16049"/>
                </a:cubicBezTo>
                <a:cubicBezTo>
                  <a:pt x="5014" y="16013"/>
                  <a:pt x="5035" y="15952"/>
                  <a:pt x="5035" y="15900"/>
                </a:cubicBezTo>
                <a:cubicBezTo>
                  <a:pt x="5119" y="15912"/>
                  <a:pt x="5184" y="15950"/>
                  <a:pt x="5234" y="16024"/>
                </a:cubicBezTo>
                <a:cubicBezTo>
                  <a:pt x="5259" y="16073"/>
                  <a:pt x="5267" y="16089"/>
                  <a:pt x="5308" y="16098"/>
                </a:cubicBezTo>
              </a:path>
              <a:path w="2928" h="1514">
                <a:moveTo>
                  <a:pt x="5531" y="15677"/>
                </a:moveTo>
                <a:cubicBezTo>
                  <a:pt x="5619" y="15597"/>
                  <a:pt x="5630" y="15562"/>
                  <a:pt x="5730" y="15602"/>
                </a:cubicBezTo>
                <a:cubicBezTo>
                  <a:pt x="5776" y="15621"/>
                  <a:pt x="5812" y="15642"/>
                  <a:pt x="5854" y="15652"/>
                </a:cubicBezTo>
              </a:path>
              <a:path w="2928" h="1514">
                <a:moveTo>
                  <a:pt x="5680" y="15726"/>
                </a:moveTo>
                <a:cubicBezTo>
                  <a:pt x="5667" y="15815"/>
                  <a:pt x="5655" y="15867"/>
                  <a:pt x="5655" y="15949"/>
                </a:cubicBezTo>
              </a:path>
              <a:path w="2928" h="1514">
                <a:moveTo>
                  <a:pt x="5829" y="15602"/>
                </a:moveTo>
                <a:cubicBezTo>
                  <a:pt x="5829" y="15730"/>
                  <a:pt x="5815" y="15847"/>
                  <a:pt x="5804" y="15974"/>
                </a:cubicBezTo>
                <a:cubicBezTo>
                  <a:pt x="5799" y="16030"/>
                  <a:pt x="5804" y="16091"/>
                  <a:pt x="5804" y="16148"/>
                </a:cubicBezTo>
              </a:path>
              <a:path w="2928" h="1514">
                <a:moveTo>
                  <a:pt x="6052" y="15875"/>
                </a:moveTo>
                <a:cubicBezTo>
                  <a:pt x="5977" y="15936"/>
                  <a:pt x="5958" y="15973"/>
                  <a:pt x="5904" y="16049"/>
                </a:cubicBezTo>
                <a:cubicBezTo>
                  <a:pt x="5846" y="16130"/>
                  <a:pt x="5809" y="16211"/>
                  <a:pt x="5755" y="16297"/>
                </a:cubicBezTo>
                <a:cubicBezTo>
                  <a:pt x="5700" y="16385"/>
                  <a:pt x="5665" y="16472"/>
                  <a:pt x="5631" y="16570"/>
                </a:cubicBezTo>
                <a:cubicBezTo>
                  <a:pt x="5605" y="16645"/>
                  <a:pt x="5585" y="16666"/>
                  <a:pt x="5531" y="16718"/>
                </a:cubicBezTo>
              </a:path>
              <a:path w="2928" h="1514">
                <a:moveTo>
                  <a:pt x="5904" y="16446"/>
                </a:moveTo>
                <a:cubicBezTo>
                  <a:pt x="6018" y="16452"/>
                  <a:pt x="6073" y="16439"/>
                  <a:pt x="6152" y="16520"/>
                </a:cubicBezTo>
                <a:cubicBezTo>
                  <a:pt x="6160" y="16528"/>
                  <a:pt x="6168" y="16537"/>
                  <a:pt x="6176" y="16545"/>
                </a:cubicBezTo>
                <a:cubicBezTo>
                  <a:pt x="6130" y="16581"/>
                  <a:pt x="6106" y="16575"/>
                  <a:pt x="6052" y="16594"/>
                </a:cubicBezTo>
                <a:cubicBezTo>
                  <a:pt x="6036" y="16602"/>
                  <a:pt x="6019" y="16611"/>
                  <a:pt x="6003" y="16619"/>
                </a:cubicBezTo>
                <a:cubicBezTo>
                  <a:pt x="6024" y="16640"/>
                  <a:pt x="6119" y="16702"/>
                  <a:pt x="6127" y="16718"/>
                </a:cubicBezTo>
                <a:cubicBezTo>
                  <a:pt x="6164" y="16791"/>
                  <a:pt x="6110" y="16841"/>
                  <a:pt x="6077" y="16892"/>
                </a:cubicBezTo>
                <a:cubicBezTo>
                  <a:pt x="6024" y="16974"/>
                  <a:pt x="6017" y="17000"/>
                  <a:pt x="5904" y="17016"/>
                </a:cubicBezTo>
                <a:cubicBezTo>
                  <a:pt x="5817" y="17029"/>
                  <a:pt x="5811" y="16998"/>
                  <a:pt x="5755" y="169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6242040" y="3973680"/>
            <a:ext cx="250920" cy="285480"/>
          </a:xfrm>
          <a:custGeom>
            <a:avLst/>
            <a:gdLst/>
            <a:ahLst/>
            <a:rect l="l" t="t" r="r" b="b"/>
            <a:pathLst>
              <a:path w="696" h="795">
                <a:moveTo>
                  <a:pt x="17363" y="11733"/>
                </a:moveTo>
                <a:cubicBezTo>
                  <a:pt x="17355" y="11766"/>
                  <a:pt x="17346" y="11799"/>
                  <a:pt x="17338" y="11832"/>
                </a:cubicBezTo>
                <a:cubicBezTo>
                  <a:pt x="17338" y="11758"/>
                  <a:pt x="17354" y="11700"/>
                  <a:pt x="17363" y="11633"/>
                </a:cubicBezTo>
                <a:cubicBezTo>
                  <a:pt x="17377" y="11526"/>
                  <a:pt x="17397" y="11410"/>
                  <a:pt x="17438" y="11311"/>
                </a:cubicBezTo>
                <a:cubicBezTo>
                  <a:pt x="17467" y="11241"/>
                  <a:pt x="17510" y="11234"/>
                  <a:pt x="17562" y="11187"/>
                </a:cubicBezTo>
                <a:cubicBezTo>
                  <a:pt x="17620" y="11135"/>
                  <a:pt x="17639" y="11207"/>
                  <a:pt x="17686" y="11237"/>
                </a:cubicBezTo>
                <a:cubicBezTo>
                  <a:pt x="17777" y="11295"/>
                  <a:pt x="17791" y="11390"/>
                  <a:pt x="17835" y="11485"/>
                </a:cubicBezTo>
                <a:cubicBezTo>
                  <a:pt x="17873" y="11565"/>
                  <a:pt x="17913" y="11612"/>
                  <a:pt x="17959" y="11683"/>
                </a:cubicBezTo>
                <a:cubicBezTo>
                  <a:pt x="17999" y="11744"/>
                  <a:pt x="17980" y="11779"/>
                  <a:pt x="18033" y="11832"/>
                </a:cubicBezTo>
                <a:cubicBezTo>
                  <a:pt x="18008" y="11758"/>
                  <a:pt x="18006" y="11681"/>
                  <a:pt x="17983" y="11609"/>
                </a:cubicBezTo>
                <a:cubicBezTo>
                  <a:pt x="17947" y="11497"/>
                  <a:pt x="17934" y="11404"/>
                  <a:pt x="17934" y="11286"/>
                </a:cubicBezTo>
                <a:cubicBezTo>
                  <a:pt x="17934" y="11185"/>
                  <a:pt x="17940" y="11127"/>
                  <a:pt x="17983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6599160" y="3983040"/>
            <a:ext cx="88920" cy="196920"/>
          </a:xfrm>
          <a:custGeom>
            <a:avLst/>
            <a:gdLst/>
            <a:ahLst/>
            <a:rect l="l" t="t" r="r" b="b"/>
            <a:pathLst>
              <a:path w="249" h="547">
                <a:moveTo>
                  <a:pt x="18380" y="11137"/>
                </a:moveTo>
                <a:cubicBezTo>
                  <a:pt x="18397" y="11239"/>
                  <a:pt x="18399" y="11363"/>
                  <a:pt x="18430" y="11460"/>
                </a:cubicBezTo>
                <a:cubicBezTo>
                  <a:pt x="18450" y="11524"/>
                  <a:pt x="18457" y="11561"/>
                  <a:pt x="18504" y="11609"/>
                </a:cubicBezTo>
                <a:cubicBezTo>
                  <a:pt x="18557" y="11556"/>
                  <a:pt x="18554" y="11536"/>
                  <a:pt x="18554" y="11460"/>
                </a:cubicBezTo>
                <a:cubicBezTo>
                  <a:pt x="18554" y="11358"/>
                  <a:pt x="18576" y="11292"/>
                  <a:pt x="18554" y="11187"/>
                </a:cubicBezTo>
                <a:cubicBezTo>
                  <a:pt x="18534" y="11090"/>
                  <a:pt x="18489" y="11024"/>
                  <a:pt x="18380" y="11063"/>
                </a:cubicBezTo>
                <a:cubicBezTo>
                  <a:pt x="18355" y="11088"/>
                  <a:pt x="18347" y="11096"/>
                  <a:pt x="18331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3"/>
          <p:cNvSpPr/>
          <p:nvPr/>
        </p:nvSpPr>
        <p:spPr>
          <a:xfrm>
            <a:off x="6848640" y="3813120"/>
            <a:ext cx="849240" cy="455760"/>
          </a:xfrm>
          <a:custGeom>
            <a:avLst/>
            <a:gdLst/>
            <a:ahLst/>
            <a:rect l="l" t="t" r="r" b="b"/>
            <a:pathLst>
              <a:path w="2358" h="1266">
                <a:moveTo>
                  <a:pt x="19199" y="10889"/>
                </a:moveTo>
                <a:cubicBezTo>
                  <a:pt x="19256" y="10929"/>
                  <a:pt x="19300" y="10964"/>
                  <a:pt x="19348" y="11013"/>
                </a:cubicBezTo>
                <a:cubicBezTo>
                  <a:pt x="19356" y="11021"/>
                  <a:pt x="19364" y="11030"/>
                  <a:pt x="19372" y="11038"/>
                </a:cubicBezTo>
                <a:cubicBezTo>
                  <a:pt x="19321" y="10985"/>
                  <a:pt x="19320" y="10958"/>
                  <a:pt x="19248" y="10988"/>
                </a:cubicBezTo>
                <a:cubicBezTo>
                  <a:pt x="19179" y="11016"/>
                  <a:pt x="19150" y="11069"/>
                  <a:pt x="19124" y="11137"/>
                </a:cubicBezTo>
                <a:cubicBezTo>
                  <a:pt x="19087" y="11233"/>
                  <a:pt x="19080" y="11341"/>
                  <a:pt x="19050" y="11435"/>
                </a:cubicBezTo>
                <a:cubicBezTo>
                  <a:pt x="19026" y="11511"/>
                  <a:pt x="19040" y="11567"/>
                  <a:pt x="19075" y="11633"/>
                </a:cubicBezTo>
                <a:cubicBezTo>
                  <a:pt x="19124" y="11725"/>
                  <a:pt x="19134" y="11716"/>
                  <a:pt x="19224" y="11708"/>
                </a:cubicBezTo>
                <a:cubicBezTo>
                  <a:pt x="19324" y="11699"/>
                  <a:pt x="19365" y="11633"/>
                  <a:pt x="19447" y="11559"/>
                </a:cubicBezTo>
              </a:path>
              <a:path w="2358" h="1266">
                <a:moveTo>
                  <a:pt x="19695" y="11112"/>
                </a:moveTo>
                <a:cubicBezTo>
                  <a:pt x="19651" y="11156"/>
                  <a:pt x="19631" y="11199"/>
                  <a:pt x="19621" y="11261"/>
                </a:cubicBezTo>
                <a:cubicBezTo>
                  <a:pt x="19607" y="11350"/>
                  <a:pt x="19589" y="11405"/>
                  <a:pt x="19645" y="11485"/>
                </a:cubicBezTo>
                <a:cubicBezTo>
                  <a:pt x="19689" y="11548"/>
                  <a:pt x="19718" y="11531"/>
                  <a:pt x="19769" y="11485"/>
                </a:cubicBezTo>
                <a:cubicBezTo>
                  <a:pt x="19847" y="11415"/>
                  <a:pt x="19828" y="11381"/>
                  <a:pt x="19819" y="11286"/>
                </a:cubicBezTo>
                <a:cubicBezTo>
                  <a:pt x="19815" y="11246"/>
                  <a:pt x="19782" y="11137"/>
                  <a:pt x="19745" y="11112"/>
                </a:cubicBezTo>
                <a:cubicBezTo>
                  <a:pt x="19687" y="11093"/>
                  <a:pt x="19680" y="11085"/>
                  <a:pt x="19645" y="11088"/>
                </a:cubicBezTo>
              </a:path>
              <a:path w="2358" h="1266">
                <a:moveTo>
                  <a:pt x="20067" y="10914"/>
                </a:moveTo>
                <a:cubicBezTo>
                  <a:pt x="20086" y="11022"/>
                  <a:pt x="20092" y="11104"/>
                  <a:pt x="20092" y="11212"/>
                </a:cubicBezTo>
                <a:cubicBezTo>
                  <a:pt x="20092" y="11278"/>
                  <a:pt x="20092" y="11344"/>
                  <a:pt x="20092" y="11410"/>
                </a:cubicBezTo>
                <a:cubicBezTo>
                  <a:pt x="20077" y="11338"/>
                  <a:pt x="20071" y="11307"/>
                  <a:pt x="20092" y="11237"/>
                </a:cubicBezTo>
                <a:cubicBezTo>
                  <a:pt x="20115" y="11159"/>
                  <a:pt x="20158" y="11046"/>
                  <a:pt x="20241" y="11013"/>
                </a:cubicBezTo>
                <a:cubicBezTo>
                  <a:pt x="20300" y="10990"/>
                  <a:pt x="20364" y="11073"/>
                  <a:pt x="20389" y="11112"/>
                </a:cubicBezTo>
                <a:cubicBezTo>
                  <a:pt x="20434" y="11182"/>
                  <a:pt x="20445" y="11267"/>
                  <a:pt x="20489" y="11336"/>
                </a:cubicBezTo>
                <a:cubicBezTo>
                  <a:pt x="20497" y="11344"/>
                  <a:pt x="20505" y="11353"/>
                  <a:pt x="20513" y="11361"/>
                </a:cubicBezTo>
                <a:cubicBezTo>
                  <a:pt x="20568" y="11320"/>
                  <a:pt x="20624" y="11292"/>
                  <a:pt x="20638" y="11212"/>
                </a:cubicBezTo>
                <a:cubicBezTo>
                  <a:pt x="20653" y="11126"/>
                  <a:pt x="20655" y="11048"/>
                  <a:pt x="20687" y="10964"/>
                </a:cubicBezTo>
                <a:cubicBezTo>
                  <a:pt x="20695" y="10947"/>
                  <a:pt x="20704" y="10931"/>
                  <a:pt x="20712" y="10914"/>
                </a:cubicBezTo>
                <a:cubicBezTo>
                  <a:pt x="20721" y="10991"/>
                  <a:pt x="20753" y="11065"/>
                  <a:pt x="20762" y="11137"/>
                </a:cubicBezTo>
                <a:cubicBezTo>
                  <a:pt x="20775" y="11237"/>
                  <a:pt x="20791" y="11316"/>
                  <a:pt x="20836" y="11410"/>
                </a:cubicBezTo>
                <a:cubicBezTo>
                  <a:pt x="20865" y="11472"/>
                  <a:pt x="20878" y="11524"/>
                  <a:pt x="20910" y="11584"/>
                </a:cubicBezTo>
                <a:cubicBezTo>
                  <a:pt x="20900" y="11501"/>
                  <a:pt x="20871" y="11416"/>
                  <a:pt x="20861" y="11336"/>
                </a:cubicBezTo>
                <a:cubicBezTo>
                  <a:pt x="20861" y="11245"/>
                  <a:pt x="20861" y="11203"/>
                  <a:pt x="20861" y="11137"/>
                </a:cubicBezTo>
                <a:cubicBezTo>
                  <a:pt x="20861" y="11194"/>
                  <a:pt x="20846" y="11182"/>
                  <a:pt x="20861" y="11237"/>
                </a:cubicBezTo>
                <a:cubicBezTo>
                  <a:pt x="20884" y="11319"/>
                  <a:pt x="20891" y="11402"/>
                  <a:pt x="20910" y="11485"/>
                </a:cubicBezTo>
                <a:cubicBezTo>
                  <a:pt x="20931" y="11577"/>
                  <a:pt x="20973" y="11700"/>
                  <a:pt x="21010" y="11782"/>
                </a:cubicBezTo>
                <a:cubicBezTo>
                  <a:pt x="21018" y="11790"/>
                  <a:pt x="21026" y="11799"/>
                  <a:pt x="21034" y="11807"/>
                </a:cubicBezTo>
                <a:cubicBezTo>
                  <a:pt x="21009" y="11911"/>
                  <a:pt x="20968" y="11677"/>
                  <a:pt x="20960" y="11633"/>
                </a:cubicBezTo>
                <a:cubicBezTo>
                  <a:pt x="20939" y="11520"/>
                  <a:pt x="20935" y="11403"/>
                  <a:pt x="20935" y="11286"/>
                </a:cubicBezTo>
                <a:cubicBezTo>
                  <a:pt x="20935" y="11166"/>
                  <a:pt x="20929" y="11056"/>
                  <a:pt x="20960" y="10939"/>
                </a:cubicBezTo>
                <a:cubicBezTo>
                  <a:pt x="20985" y="10847"/>
                  <a:pt x="21015" y="10710"/>
                  <a:pt x="21084" y="10641"/>
                </a:cubicBezTo>
                <a:cubicBezTo>
                  <a:pt x="21142" y="10583"/>
                  <a:pt x="21222" y="10586"/>
                  <a:pt x="21282" y="10616"/>
                </a:cubicBezTo>
                <a:cubicBezTo>
                  <a:pt x="21318" y="10634"/>
                  <a:pt x="21372" y="10703"/>
                  <a:pt x="21382" y="10740"/>
                </a:cubicBezTo>
                <a:cubicBezTo>
                  <a:pt x="21410" y="10841"/>
                  <a:pt x="21274" y="11000"/>
                  <a:pt x="21233" y="11063"/>
                </a:cubicBezTo>
                <a:cubicBezTo>
                  <a:pt x="21180" y="11143"/>
                  <a:pt x="21123" y="11215"/>
                  <a:pt x="21059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4"/>
          <p:cNvSpPr/>
          <p:nvPr/>
        </p:nvSpPr>
        <p:spPr>
          <a:xfrm>
            <a:off x="6912000" y="4197240"/>
            <a:ext cx="1919160" cy="509760"/>
          </a:xfrm>
          <a:custGeom>
            <a:avLst/>
            <a:gdLst/>
            <a:ahLst/>
            <a:rect l="l" t="t" r="r" b="b"/>
            <a:pathLst>
              <a:path w="5334" h="1415">
                <a:moveTo>
                  <a:pt x="19273" y="12080"/>
                </a:moveTo>
                <a:cubicBezTo>
                  <a:pt x="19280" y="12194"/>
                  <a:pt x="19298" y="12287"/>
                  <a:pt x="19298" y="12402"/>
                </a:cubicBezTo>
                <a:cubicBezTo>
                  <a:pt x="19298" y="12505"/>
                  <a:pt x="19285" y="12622"/>
                  <a:pt x="19273" y="12725"/>
                </a:cubicBezTo>
                <a:cubicBezTo>
                  <a:pt x="19267" y="12780"/>
                  <a:pt x="19172" y="13013"/>
                  <a:pt x="19199" y="13072"/>
                </a:cubicBezTo>
                <a:cubicBezTo>
                  <a:pt x="19207" y="13072"/>
                  <a:pt x="19216" y="13072"/>
                  <a:pt x="19224" y="13072"/>
                </a:cubicBezTo>
              </a:path>
              <a:path w="5334" h="1415">
                <a:moveTo>
                  <a:pt x="19720" y="12229"/>
                </a:moveTo>
                <a:cubicBezTo>
                  <a:pt x="19736" y="12196"/>
                  <a:pt x="19753" y="12162"/>
                  <a:pt x="19769" y="12129"/>
                </a:cubicBezTo>
                <a:cubicBezTo>
                  <a:pt x="19698" y="12202"/>
                  <a:pt x="19623" y="12254"/>
                  <a:pt x="19546" y="12328"/>
                </a:cubicBezTo>
                <a:cubicBezTo>
                  <a:pt x="19483" y="12389"/>
                  <a:pt x="19373" y="12435"/>
                  <a:pt x="19348" y="12526"/>
                </a:cubicBezTo>
                <a:cubicBezTo>
                  <a:pt x="19348" y="12543"/>
                  <a:pt x="19348" y="12559"/>
                  <a:pt x="19348" y="12576"/>
                </a:cubicBezTo>
                <a:cubicBezTo>
                  <a:pt x="19406" y="12636"/>
                  <a:pt x="19451" y="12610"/>
                  <a:pt x="19521" y="12650"/>
                </a:cubicBezTo>
                <a:cubicBezTo>
                  <a:pt x="19573" y="12680"/>
                  <a:pt x="19641" y="12683"/>
                  <a:pt x="19695" y="12725"/>
                </a:cubicBezTo>
                <a:cubicBezTo>
                  <a:pt x="19756" y="12772"/>
                  <a:pt x="19815" y="12840"/>
                  <a:pt x="19794" y="12923"/>
                </a:cubicBezTo>
                <a:cubicBezTo>
                  <a:pt x="19776" y="12996"/>
                  <a:pt x="19687" y="12982"/>
                  <a:pt x="19645" y="12998"/>
                </a:cubicBezTo>
                <a:cubicBezTo>
                  <a:pt x="19594" y="13018"/>
                  <a:pt x="19595" y="13012"/>
                  <a:pt x="19546" y="12973"/>
                </a:cubicBezTo>
                <a:cubicBezTo>
                  <a:pt x="19560" y="12795"/>
                  <a:pt x="19616" y="12743"/>
                  <a:pt x="19695" y="12576"/>
                </a:cubicBezTo>
                <a:cubicBezTo>
                  <a:pt x="19746" y="12470"/>
                  <a:pt x="19772" y="12420"/>
                  <a:pt x="19844" y="12328"/>
                </a:cubicBezTo>
                <a:cubicBezTo>
                  <a:pt x="19882" y="12280"/>
                  <a:pt x="19902" y="12245"/>
                  <a:pt x="19943" y="12204"/>
                </a:cubicBezTo>
                <a:cubicBezTo>
                  <a:pt x="19991" y="12284"/>
                  <a:pt x="19937" y="12295"/>
                  <a:pt x="19918" y="12378"/>
                </a:cubicBezTo>
                <a:cubicBezTo>
                  <a:pt x="19903" y="12446"/>
                  <a:pt x="19878" y="12528"/>
                  <a:pt x="19893" y="12601"/>
                </a:cubicBezTo>
                <a:cubicBezTo>
                  <a:pt x="19915" y="12705"/>
                  <a:pt x="19955" y="12754"/>
                  <a:pt x="20067" y="12725"/>
                </a:cubicBezTo>
                <a:cubicBezTo>
                  <a:pt x="20155" y="12702"/>
                  <a:pt x="20156" y="12576"/>
                  <a:pt x="20141" y="12502"/>
                </a:cubicBezTo>
                <a:cubicBezTo>
                  <a:pt x="20109" y="12345"/>
                  <a:pt x="20086" y="12373"/>
                  <a:pt x="19968" y="12328"/>
                </a:cubicBezTo>
                <a:cubicBezTo>
                  <a:pt x="19945" y="12305"/>
                  <a:pt x="19941" y="12297"/>
                  <a:pt x="19918" y="12303"/>
                </a:cubicBezTo>
              </a:path>
              <a:path w="5334" h="1415">
                <a:moveTo>
                  <a:pt x="20315" y="12402"/>
                </a:moveTo>
                <a:cubicBezTo>
                  <a:pt x="20433" y="12432"/>
                  <a:pt x="20519" y="12430"/>
                  <a:pt x="20638" y="12402"/>
                </a:cubicBezTo>
                <a:cubicBezTo>
                  <a:pt x="20671" y="12394"/>
                  <a:pt x="20704" y="12386"/>
                  <a:pt x="20737" y="12378"/>
                </a:cubicBezTo>
              </a:path>
              <a:path w="5334" h="1415">
                <a:moveTo>
                  <a:pt x="21059" y="12129"/>
                </a:moveTo>
                <a:cubicBezTo>
                  <a:pt x="21059" y="12223"/>
                  <a:pt x="21042" y="12316"/>
                  <a:pt x="21034" y="12402"/>
                </a:cubicBezTo>
                <a:cubicBezTo>
                  <a:pt x="21023" y="12512"/>
                  <a:pt x="21023" y="12616"/>
                  <a:pt x="21010" y="12725"/>
                </a:cubicBezTo>
                <a:cubicBezTo>
                  <a:pt x="21002" y="12788"/>
                  <a:pt x="21005" y="12848"/>
                  <a:pt x="21034" y="12898"/>
                </a:cubicBezTo>
              </a:path>
              <a:path w="5334" h="1415">
                <a:moveTo>
                  <a:pt x="21258" y="12278"/>
                </a:moveTo>
                <a:cubicBezTo>
                  <a:pt x="21303" y="12178"/>
                  <a:pt x="21339" y="12127"/>
                  <a:pt x="21456" y="12105"/>
                </a:cubicBezTo>
                <a:cubicBezTo>
                  <a:pt x="21503" y="12096"/>
                  <a:pt x="21605" y="12146"/>
                  <a:pt x="21605" y="12204"/>
                </a:cubicBezTo>
                <a:cubicBezTo>
                  <a:pt x="21605" y="12267"/>
                  <a:pt x="21520" y="12339"/>
                  <a:pt x="21481" y="12378"/>
                </a:cubicBezTo>
                <a:cubicBezTo>
                  <a:pt x="21436" y="12422"/>
                  <a:pt x="21435" y="12453"/>
                  <a:pt x="21406" y="12502"/>
                </a:cubicBezTo>
                <a:cubicBezTo>
                  <a:pt x="21474" y="12530"/>
                  <a:pt x="21562" y="12499"/>
                  <a:pt x="21630" y="12526"/>
                </a:cubicBezTo>
                <a:cubicBezTo>
                  <a:pt x="21718" y="12560"/>
                  <a:pt x="21666" y="12698"/>
                  <a:pt x="21630" y="12750"/>
                </a:cubicBezTo>
                <a:cubicBezTo>
                  <a:pt x="21550" y="12864"/>
                  <a:pt x="21438" y="12959"/>
                  <a:pt x="21332" y="13047"/>
                </a:cubicBezTo>
                <a:cubicBezTo>
                  <a:pt x="21340" y="13039"/>
                  <a:pt x="21349" y="13030"/>
                  <a:pt x="21357" y="13022"/>
                </a:cubicBezTo>
              </a:path>
              <a:path w="5334" h="1415">
                <a:moveTo>
                  <a:pt x="21903" y="12154"/>
                </a:moveTo>
                <a:cubicBezTo>
                  <a:pt x="21953" y="12124"/>
                  <a:pt x="22152" y="12067"/>
                  <a:pt x="22200" y="12030"/>
                </a:cubicBezTo>
                <a:cubicBezTo>
                  <a:pt x="22200" y="12022"/>
                  <a:pt x="22200" y="12013"/>
                  <a:pt x="22200" y="12005"/>
                </a:cubicBezTo>
              </a:path>
              <a:path w="5334" h="1415">
                <a:moveTo>
                  <a:pt x="21878" y="12179"/>
                </a:moveTo>
                <a:cubicBezTo>
                  <a:pt x="21842" y="12226"/>
                  <a:pt x="21793" y="12290"/>
                  <a:pt x="21779" y="12353"/>
                </a:cubicBezTo>
                <a:cubicBezTo>
                  <a:pt x="21779" y="12369"/>
                  <a:pt x="21779" y="12386"/>
                  <a:pt x="21779" y="12402"/>
                </a:cubicBezTo>
                <a:cubicBezTo>
                  <a:pt x="21854" y="12393"/>
                  <a:pt x="21952" y="12348"/>
                  <a:pt x="22027" y="12353"/>
                </a:cubicBezTo>
                <a:cubicBezTo>
                  <a:pt x="22102" y="12358"/>
                  <a:pt x="22173" y="12375"/>
                  <a:pt x="22225" y="12427"/>
                </a:cubicBezTo>
                <a:cubicBezTo>
                  <a:pt x="22289" y="12491"/>
                  <a:pt x="22284" y="12547"/>
                  <a:pt x="22250" y="12626"/>
                </a:cubicBezTo>
                <a:cubicBezTo>
                  <a:pt x="22201" y="12741"/>
                  <a:pt x="22169" y="12769"/>
                  <a:pt x="22076" y="12849"/>
                </a:cubicBezTo>
                <a:cubicBezTo>
                  <a:pt x="22022" y="12895"/>
                  <a:pt x="22008" y="12933"/>
                  <a:pt x="21952" y="12973"/>
                </a:cubicBezTo>
              </a:path>
              <a:path w="5334" h="1415">
                <a:moveTo>
                  <a:pt x="22523" y="12378"/>
                </a:moveTo>
                <a:cubicBezTo>
                  <a:pt x="22583" y="12355"/>
                  <a:pt x="22634" y="12331"/>
                  <a:pt x="22696" y="12328"/>
                </a:cubicBezTo>
                <a:cubicBezTo>
                  <a:pt x="22754" y="12328"/>
                  <a:pt x="22763" y="12328"/>
                  <a:pt x="22796" y="12328"/>
                </a:cubicBezTo>
              </a:path>
              <a:path w="5334" h="1415">
                <a:moveTo>
                  <a:pt x="22547" y="12576"/>
                </a:moveTo>
                <a:cubicBezTo>
                  <a:pt x="22580" y="12568"/>
                  <a:pt x="22614" y="12559"/>
                  <a:pt x="22647" y="12551"/>
                </a:cubicBezTo>
              </a:path>
              <a:path w="5334" h="1415">
                <a:moveTo>
                  <a:pt x="23093" y="12105"/>
                </a:moveTo>
                <a:cubicBezTo>
                  <a:pt x="23093" y="12185"/>
                  <a:pt x="23066" y="12355"/>
                  <a:pt x="23143" y="12427"/>
                </a:cubicBezTo>
                <a:cubicBezTo>
                  <a:pt x="23195" y="12475"/>
                  <a:pt x="23262" y="12405"/>
                  <a:pt x="23316" y="12378"/>
                </a:cubicBezTo>
                <a:cubicBezTo>
                  <a:pt x="23333" y="12370"/>
                  <a:pt x="23349" y="12361"/>
                  <a:pt x="23366" y="12353"/>
                </a:cubicBezTo>
              </a:path>
              <a:path w="5334" h="1415">
                <a:moveTo>
                  <a:pt x="23391" y="11981"/>
                </a:moveTo>
                <a:cubicBezTo>
                  <a:pt x="23375" y="12137"/>
                  <a:pt x="23355" y="12300"/>
                  <a:pt x="23341" y="12452"/>
                </a:cubicBezTo>
                <a:cubicBezTo>
                  <a:pt x="23328" y="12593"/>
                  <a:pt x="23332" y="12736"/>
                  <a:pt x="23316" y="12874"/>
                </a:cubicBezTo>
                <a:cubicBezTo>
                  <a:pt x="23311" y="12921"/>
                  <a:pt x="23316" y="12974"/>
                  <a:pt x="23316" y="13022"/>
                </a:cubicBezTo>
              </a:path>
              <a:path w="5334" h="1415">
                <a:moveTo>
                  <a:pt x="23614" y="12080"/>
                </a:moveTo>
                <a:cubicBezTo>
                  <a:pt x="23714" y="12037"/>
                  <a:pt x="23808" y="12018"/>
                  <a:pt x="23912" y="11981"/>
                </a:cubicBezTo>
                <a:cubicBezTo>
                  <a:pt x="23989" y="11953"/>
                  <a:pt x="24042" y="11921"/>
                  <a:pt x="24110" y="11881"/>
                </a:cubicBezTo>
              </a:path>
              <a:path w="5334" h="1415">
                <a:moveTo>
                  <a:pt x="23614" y="12129"/>
                </a:moveTo>
                <a:cubicBezTo>
                  <a:pt x="23598" y="12217"/>
                  <a:pt x="23589" y="12269"/>
                  <a:pt x="23589" y="12353"/>
                </a:cubicBezTo>
                <a:cubicBezTo>
                  <a:pt x="23662" y="12344"/>
                  <a:pt x="23686" y="12329"/>
                  <a:pt x="23738" y="12278"/>
                </a:cubicBezTo>
                <a:cubicBezTo>
                  <a:pt x="23784" y="12233"/>
                  <a:pt x="23841" y="12184"/>
                  <a:pt x="23912" y="12204"/>
                </a:cubicBezTo>
                <a:cubicBezTo>
                  <a:pt x="23972" y="12221"/>
                  <a:pt x="24055" y="12301"/>
                  <a:pt x="24085" y="12353"/>
                </a:cubicBezTo>
                <a:cubicBezTo>
                  <a:pt x="24125" y="12421"/>
                  <a:pt x="24163" y="12491"/>
                  <a:pt x="24135" y="12576"/>
                </a:cubicBezTo>
                <a:cubicBezTo>
                  <a:pt x="24119" y="12625"/>
                  <a:pt x="24080" y="12712"/>
                  <a:pt x="24036" y="12750"/>
                </a:cubicBezTo>
                <a:cubicBezTo>
                  <a:pt x="23985" y="12793"/>
                  <a:pt x="23902" y="12854"/>
                  <a:pt x="23837" y="12874"/>
                </a:cubicBezTo>
                <a:cubicBezTo>
                  <a:pt x="23773" y="12894"/>
                  <a:pt x="23792" y="12783"/>
                  <a:pt x="23788" y="12750"/>
                </a:cubicBezTo>
              </a:path>
              <a:path w="5334" h="1415">
                <a:moveTo>
                  <a:pt x="24309" y="11708"/>
                </a:moveTo>
                <a:cubicBezTo>
                  <a:pt x="24280" y="11824"/>
                  <a:pt x="24241" y="11839"/>
                  <a:pt x="24309" y="11906"/>
                </a:cubicBezTo>
                <a:cubicBezTo>
                  <a:pt x="24362" y="11876"/>
                  <a:pt x="24476" y="11827"/>
                  <a:pt x="24507" y="11782"/>
                </a:cubicBezTo>
                <a:cubicBezTo>
                  <a:pt x="24515" y="11757"/>
                  <a:pt x="24524" y="11733"/>
                  <a:pt x="24532" y="11708"/>
                </a:cubicBezTo>
                <a:cubicBezTo>
                  <a:pt x="24437" y="11637"/>
                  <a:pt x="24360" y="11672"/>
                  <a:pt x="24234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5"/>
          <p:cNvSpPr/>
          <p:nvPr/>
        </p:nvSpPr>
        <p:spPr>
          <a:xfrm>
            <a:off x="5392800" y="4830840"/>
            <a:ext cx="2984400" cy="1071360"/>
          </a:xfrm>
          <a:custGeom>
            <a:avLst/>
            <a:gdLst/>
            <a:ahLst/>
            <a:rect l="l" t="t" r="r" b="b"/>
            <a:pathLst>
              <a:path w="8286" h="2978">
                <a:moveTo>
                  <a:pt x="15801" y="14784"/>
                </a:moveTo>
                <a:cubicBezTo>
                  <a:pt x="15856" y="14747"/>
                  <a:pt x="15933" y="14720"/>
                  <a:pt x="15999" y="14709"/>
                </a:cubicBezTo>
                <a:cubicBezTo>
                  <a:pt x="16082" y="14695"/>
                  <a:pt x="16160" y="14668"/>
                  <a:pt x="16247" y="14660"/>
                </a:cubicBezTo>
              </a:path>
              <a:path w="8286" h="2978">
                <a:moveTo>
                  <a:pt x="16024" y="14734"/>
                </a:moveTo>
                <a:cubicBezTo>
                  <a:pt x="15996" y="14816"/>
                  <a:pt x="16024" y="14903"/>
                  <a:pt x="15999" y="14982"/>
                </a:cubicBezTo>
                <a:cubicBezTo>
                  <a:pt x="15983" y="15032"/>
                  <a:pt x="15974" y="15069"/>
                  <a:pt x="15974" y="15131"/>
                </a:cubicBezTo>
              </a:path>
              <a:path w="8286" h="2978">
                <a:moveTo>
                  <a:pt x="16197" y="14560"/>
                </a:moveTo>
                <a:cubicBezTo>
                  <a:pt x="16185" y="14659"/>
                  <a:pt x="16152" y="14754"/>
                  <a:pt x="16148" y="14858"/>
                </a:cubicBezTo>
                <a:cubicBezTo>
                  <a:pt x="16145" y="14941"/>
                  <a:pt x="16097" y="15047"/>
                  <a:pt x="16123" y="15131"/>
                </a:cubicBezTo>
                <a:cubicBezTo>
                  <a:pt x="16145" y="15153"/>
                  <a:pt x="16154" y="15158"/>
                  <a:pt x="16148" y="15180"/>
                </a:cubicBezTo>
              </a:path>
              <a:path w="8286" h="2978">
                <a:moveTo>
                  <a:pt x="15825" y="15329"/>
                </a:moveTo>
                <a:cubicBezTo>
                  <a:pt x="15874" y="15301"/>
                  <a:pt x="15925" y="15252"/>
                  <a:pt x="15974" y="15230"/>
                </a:cubicBezTo>
                <a:cubicBezTo>
                  <a:pt x="16033" y="15204"/>
                  <a:pt x="16114" y="15184"/>
                  <a:pt x="16173" y="15180"/>
                </a:cubicBezTo>
                <a:cubicBezTo>
                  <a:pt x="16244" y="15176"/>
                  <a:pt x="16280" y="15166"/>
                  <a:pt x="16346" y="15180"/>
                </a:cubicBezTo>
              </a:path>
              <a:path w="8286" h="2978">
                <a:moveTo>
                  <a:pt x="16024" y="15503"/>
                </a:moveTo>
                <a:cubicBezTo>
                  <a:pt x="16036" y="15422"/>
                  <a:pt x="16061" y="15409"/>
                  <a:pt x="16148" y="15404"/>
                </a:cubicBezTo>
                <a:cubicBezTo>
                  <a:pt x="16224" y="15400"/>
                  <a:pt x="16270" y="15396"/>
                  <a:pt x="16297" y="15478"/>
                </a:cubicBezTo>
                <a:cubicBezTo>
                  <a:pt x="16334" y="15591"/>
                  <a:pt x="16302" y="15642"/>
                  <a:pt x="16297" y="15751"/>
                </a:cubicBezTo>
                <a:cubicBezTo>
                  <a:pt x="16293" y="15827"/>
                  <a:pt x="16266" y="15935"/>
                  <a:pt x="16222" y="15999"/>
                </a:cubicBezTo>
                <a:cubicBezTo>
                  <a:pt x="16178" y="16063"/>
                  <a:pt x="16151" y="16139"/>
                  <a:pt x="16098" y="16197"/>
                </a:cubicBezTo>
                <a:cubicBezTo>
                  <a:pt x="16070" y="16225"/>
                  <a:pt x="16057" y="16234"/>
                  <a:pt x="16024" y="16222"/>
                </a:cubicBezTo>
                <a:cubicBezTo>
                  <a:pt x="16024" y="16141"/>
                  <a:pt x="16006" y="16045"/>
                  <a:pt x="16049" y="15974"/>
                </a:cubicBezTo>
                <a:cubicBezTo>
                  <a:pt x="16071" y="15938"/>
                  <a:pt x="16093" y="15842"/>
                  <a:pt x="16123" y="15825"/>
                </a:cubicBezTo>
                <a:cubicBezTo>
                  <a:pt x="16220" y="15772"/>
                  <a:pt x="16258" y="15836"/>
                  <a:pt x="16321" y="15900"/>
                </a:cubicBezTo>
                <a:cubicBezTo>
                  <a:pt x="16353" y="15932"/>
                  <a:pt x="16379" y="15941"/>
                  <a:pt x="16421" y="15949"/>
                </a:cubicBezTo>
              </a:path>
              <a:path w="8286" h="2978">
                <a:moveTo>
                  <a:pt x="16694" y="15205"/>
                </a:moveTo>
                <a:cubicBezTo>
                  <a:pt x="16785" y="15156"/>
                  <a:pt x="16832" y="15165"/>
                  <a:pt x="16917" y="15131"/>
                </a:cubicBezTo>
                <a:cubicBezTo>
                  <a:pt x="16939" y="15109"/>
                  <a:pt x="16944" y="15100"/>
                  <a:pt x="16966" y="15106"/>
                </a:cubicBezTo>
              </a:path>
              <a:path w="8286" h="2978">
                <a:moveTo>
                  <a:pt x="17066" y="14585"/>
                </a:moveTo>
                <a:cubicBezTo>
                  <a:pt x="17108" y="14501"/>
                  <a:pt x="17137" y="14387"/>
                  <a:pt x="17264" y="14436"/>
                </a:cubicBezTo>
                <a:cubicBezTo>
                  <a:pt x="17339" y="14465"/>
                  <a:pt x="17357" y="14533"/>
                  <a:pt x="17338" y="14610"/>
                </a:cubicBezTo>
                <a:cubicBezTo>
                  <a:pt x="17316" y="14699"/>
                  <a:pt x="17282" y="14803"/>
                  <a:pt x="17239" y="14883"/>
                </a:cubicBezTo>
                <a:cubicBezTo>
                  <a:pt x="17202" y="14953"/>
                  <a:pt x="17146" y="15002"/>
                  <a:pt x="17090" y="15056"/>
                </a:cubicBezTo>
                <a:cubicBezTo>
                  <a:pt x="17150" y="14946"/>
                  <a:pt x="17158" y="14956"/>
                  <a:pt x="17239" y="14883"/>
                </a:cubicBezTo>
                <a:cubicBezTo>
                  <a:pt x="17302" y="14826"/>
                  <a:pt x="17355" y="14871"/>
                  <a:pt x="17413" y="14883"/>
                </a:cubicBezTo>
                <a:cubicBezTo>
                  <a:pt x="17429" y="14883"/>
                  <a:pt x="17446" y="14883"/>
                  <a:pt x="17462" y="14883"/>
                </a:cubicBezTo>
              </a:path>
              <a:path w="8286" h="2978">
                <a:moveTo>
                  <a:pt x="17611" y="14312"/>
                </a:moveTo>
                <a:cubicBezTo>
                  <a:pt x="17665" y="14268"/>
                  <a:pt x="17726" y="14223"/>
                  <a:pt x="17785" y="14188"/>
                </a:cubicBezTo>
                <a:cubicBezTo>
                  <a:pt x="17835" y="14163"/>
                  <a:pt x="17851" y="14155"/>
                  <a:pt x="17859" y="14114"/>
                </a:cubicBezTo>
              </a:path>
              <a:path w="8286" h="2978">
                <a:moveTo>
                  <a:pt x="17661" y="14263"/>
                </a:moveTo>
                <a:cubicBezTo>
                  <a:pt x="17661" y="14362"/>
                  <a:pt x="17652" y="14444"/>
                  <a:pt x="17636" y="14536"/>
                </a:cubicBezTo>
                <a:cubicBezTo>
                  <a:pt x="17627" y="14590"/>
                  <a:pt x="17636" y="14619"/>
                  <a:pt x="17661" y="14660"/>
                </a:cubicBezTo>
              </a:path>
              <a:path w="8286" h="2978">
                <a:moveTo>
                  <a:pt x="17760" y="14263"/>
                </a:moveTo>
                <a:cubicBezTo>
                  <a:pt x="17760" y="14381"/>
                  <a:pt x="17767" y="14476"/>
                  <a:pt x="17785" y="14585"/>
                </a:cubicBezTo>
                <a:cubicBezTo>
                  <a:pt x="17785" y="14643"/>
                  <a:pt x="17785" y="14668"/>
                  <a:pt x="17785" y="14709"/>
                </a:cubicBezTo>
              </a:path>
              <a:path w="8286" h="2978">
                <a:moveTo>
                  <a:pt x="17190" y="15032"/>
                </a:moveTo>
                <a:cubicBezTo>
                  <a:pt x="17263" y="15002"/>
                  <a:pt x="17318" y="14988"/>
                  <a:pt x="17388" y="14957"/>
                </a:cubicBezTo>
                <a:cubicBezTo>
                  <a:pt x="17458" y="14926"/>
                  <a:pt x="17510" y="14895"/>
                  <a:pt x="17587" y="14883"/>
                </a:cubicBezTo>
                <a:cubicBezTo>
                  <a:pt x="17650" y="14873"/>
                  <a:pt x="17690" y="14858"/>
                  <a:pt x="17760" y="14858"/>
                </a:cubicBezTo>
              </a:path>
              <a:path w="8286" h="2978">
                <a:moveTo>
                  <a:pt x="17363" y="15081"/>
                </a:moveTo>
                <a:cubicBezTo>
                  <a:pt x="17440" y="15097"/>
                  <a:pt x="17466" y="15115"/>
                  <a:pt x="17487" y="15032"/>
                </a:cubicBezTo>
              </a:path>
              <a:path w="8286" h="2978">
                <a:moveTo>
                  <a:pt x="17314" y="15081"/>
                </a:moveTo>
                <a:cubicBezTo>
                  <a:pt x="17271" y="15203"/>
                  <a:pt x="17264" y="15254"/>
                  <a:pt x="17264" y="15379"/>
                </a:cubicBezTo>
                <a:cubicBezTo>
                  <a:pt x="17264" y="15437"/>
                  <a:pt x="17261" y="15457"/>
                  <a:pt x="17289" y="15503"/>
                </a:cubicBezTo>
                <a:cubicBezTo>
                  <a:pt x="17322" y="15470"/>
                  <a:pt x="17355" y="15437"/>
                  <a:pt x="17388" y="15404"/>
                </a:cubicBezTo>
                <a:cubicBezTo>
                  <a:pt x="17425" y="15367"/>
                  <a:pt x="17452" y="15315"/>
                  <a:pt x="17512" y="15329"/>
                </a:cubicBezTo>
                <a:cubicBezTo>
                  <a:pt x="17602" y="15350"/>
                  <a:pt x="17612" y="15405"/>
                  <a:pt x="17587" y="15478"/>
                </a:cubicBezTo>
                <a:cubicBezTo>
                  <a:pt x="17559" y="15558"/>
                  <a:pt x="17496" y="15624"/>
                  <a:pt x="17462" y="15701"/>
                </a:cubicBezTo>
                <a:cubicBezTo>
                  <a:pt x="17441" y="15745"/>
                  <a:pt x="17438" y="15757"/>
                  <a:pt x="17413" y="15776"/>
                </a:cubicBezTo>
              </a:path>
              <a:path w="8286" h="2978">
                <a:moveTo>
                  <a:pt x="17735" y="15106"/>
                </a:moveTo>
                <a:cubicBezTo>
                  <a:pt x="17697" y="15183"/>
                  <a:pt x="17663" y="15198"/>
                  <a:pt x="17711" y="15230"/>
                </a:cubicBezTo>
              </a:path>
              <a:path w="8286" h="2978">
                <a:moveTo>
                  <a:pt x="17934" y="14982"/>
                </a:moveTo>
                <a:cubicBezTo>
                  <a:pt x="17971" y="14945"/>
                  <a:pt x="17992" y="14887"/>
                  <a:pt x="18033" y="14858"/>
                </a:cubicBezTo>
                <a:cubicBezTo>
                  <a:pt x="18136" y="14785"/>
                  <a:pt x="18188" y="14856"/>
                  <a:pt x="18207" y="14957"/>
                </a:cubicBezTo>
                <a:cubicBezTo>
                  <a:pt x="18219" y="15021"/>
                  <a:pt x="18204" y="15147"/>
                  <a:pt x="18182" y="15205"/>
                </a:cubicBezTo>
                <a:cubicBezTo>
                  <a:pt x="18157" y="15270"/>
                  <a:pt x="18081" y="15342"/>
                  <a:pt x="18058" y="15404"/>
                </a:cubicBezTo>
                <a:cubicBezTo>
                  <a:pt x="18058" y="15455"/>
                  <a:pt x="18057" y="15474"/>
                  <a:pt x="18033" y="15503"/>
                </a:cubicBezTo>
                <a:cubicBezTo>
                  <a:pt x="18085" y="15477"/>
                  <a:pt x="18169" y="15410"/>
                  <a:pt x="18231" y="15429"/>
                </a:cubicBezTo>
                <a:cubicBezTo>
                  <a:pt x="18260" y="15457"/>
                  <a:pt x="18268" y="15470"/>
                  <a:pt x="18256" y="15503"/>
                </a:cubicBezTo>
              </a:path>
              <a:path w="8286" h="2978">
                <a:moveTo>
                  <a:pt x="18207" y="14461"/>
                </a:moveTo>
                <a:lnTo>
                  <a:pt x="18207" y="14461"/>
                </a:lnTo>
              </a:path>
              <a:path w="8286" h="2978">
                <a:moveTo>
                  <a:pt x="18256" y="14015"/>
                </a:moveTo>
                <a:cubicBezTo>
                  <a:pt x="18319" y="13920"/>
                  <a:pt x="18321" y="13897"/>
                  <a:pt x="18430" y="13891"/>
                </a:cubicBezTo>
                <a:cubicBezTo>
                  <a:pt x="18553" y="13884"/>
                  <a:pt x="18546" y="13946"/>
                  <a:pt x="18529" y="14039"/>
                </a:cubicBezTo>
              </a:path>
              <a:path w="8286" h="2978">
                <a:moveTo>
                  <a:pt x="18430" y="14238"/>
                </a:moveTo>
                <a:cubicBezTo>
                  <a:pt x="18397" y="14296"/>
                  <a:pt x="18389" y="14300"/>
                  <a:pt x="18380" y="14362"/>
                </a:cubicBezTo>
                <a:cubicBezTo>
                  <a:pt x="18431" y="14333"/>
                  <a:pt x="18479" y="14303"/>
                  <a:pt x="18529" y="14288"/>
                </a:cubicBezTo>
                <a:cubicBezTo>
                  <a:pt x="18537" y="14288"/>
                  <a:pt x="18546" y="14288"/>
                  <a:pt x="18554" y="14288"/>
                </a:cubicBezTo>
              </a:path>
              <a:path w="8286" h="2978">
                <a:moveTo>
                  <a:pt x="15776" y="16024"/>
                </a:moveTo>
                <a:cubicBezTo>
                  <a:pt x="15754" y="16046"/>
                  <a:pt x="15745" y="16051"/>
                  <a:pt x="15751" y="16073"/>
                </a:cubicBezTo>
              </a:path>
              <a:path w="8286" h="2978">
                <a:moveTo>
                  <a:pt x="15429" y="15850"/>
                </a:moveTo>
                <a:cubicBezTo>
                  <a:pt x="15479" y="15799"/>
                  <a:pt x="15499" y="15776"/>
                  <a:pt x="15528" y="15726"/>
                </a:cubicBezTo>
                <a:cubicBezTo>
                  <a:pt x="15552" y="15686"/>
                  <a:pt x="15566" y="15647"/>
                  <a:pt x="15577" y="15602"/>
                </a:cubicBezTo>
              </a:path>
              <a:path w="8286" h="2978">
                <a:moveTo>
                  <a:pt x="15329" y="15875"/>
                </a:moveTo>
                <a:cubicBezTo>
                  <a:pt x="15329" y="15958"/>
                  <a:pt x="15308" y="16019"/>
                  <a:pt x="15304" y="16098"/>
                </a:cubicBezTo>
                <a:cubicBezTo>
                  <a:pt x="15304" y="16143"/>
                  <a:pt x="15301" y="16156"/>
                  <a:pt x="15329" y="16173"/>
                </a:cubicBezTo>
                <a:cubicBezTo>
                  <a:pt x="15369" y="16133"/>
                  <a:pt x="15393" y="16090"/>
                  <a:pt x="15429" y="16049"/>
                </a:cubicBezTo>
                <a:cubicBezTo>
                  <a:pt x="15458" y="16016"/>
                  <a:pt x="15557" y="15964"/>
                  <a:pt x="15602" y="15999"/>
                </a:cubicBezTo>
                <a:cubicBezTo>
                  <a:pt x="15662" y="16046"/>
                  <a:pt x="15625" y="16176"/>
                  <a:pt x="15602" y="16222"/>
                </a:cubicBezTo>
                <a:cubicBezTo>
                  <a:pt x="15570" y="16287"/>
                  <a:pt x="15575" y="16337"/>
                  <a:pt x="15528" y="16396"/>
                </a:cubicBezTo>
              </a:path>
              <a:path w="8286" h="2978">
                <a:moveTo>
                  <a:pt x="15379" y="15081"/>
                </a:moveTo>
                <a:cubicBezTo>
                  <a:pt x="15349" y="15131"/>
                  <a:pt x="15337" y="15171"/>
                  <a:pt x="15329" y="15230"/>
                </a:cubicBezTo>
              </a:path>
              <a:path w="8286" h="2978">
                <a:moveTo>
                  <a:pt x="15156" y="15007"/>
                </a:moveTo>
                <a:cubicBezTo>
                  <a:pt x="15201" y="14960"/>
                  <a:pt x="15214" y="14957"/>
                  <a:pt x="15280" y="14957"/>
                </a:cubicBezTo>
              </a:path>
              <a:path w="8286" h="2978">
                <a:moveTo>
                  <a:pt x="15106" y="15056"/>
                </a:moveTo>
                <a:cubicBezTo>
                  <a:pt x="15060" y="15109"/>
                  <a:pt x="15020" y="15168"/>
                  <a:pt x="15007" y="15230"/>
                </a:cubicBezTo>
                <a:cubicBezTo>
                  <a:pt x="14992" y="15305"/>
                  <a:pt x="14982" y="15373"/>
                  <a:pt x="14982" y="15453"/>
                </a:cubicBezTo>
                <a:cubicBezTo>
                  <a:pt x="15042" y="15401"/>
                  <a:pt x="15079" y="15361"/>
                  <a:pt x="15131" y="15304"/>
                </a:cubicBezTo>
                <a:cubicBezTo>
                  <a:pt x="15180" y="15250"/>
                  <a:pt x="15212" y="15238"/>
                  <a:pt x="15280" y="15280"/>
                </a:cubicBezTo>
                <a:cubicBezTo>
                  <a:pt x="15359" y="15328"/>
                  <a:pt x="15268" y="15536"/>
                  <a:pt x="15255" y="15577"/>
                </a:cubicBezTo>
                <a:cubicBezTo>
                  <a:pt x="15226" y="15669"/>
                  <a:pt x="15213" y="15763"/>
                  <a:pt x="15180" y="15850"/>
                </a:cubicBezTo>
              </a:path>
              <a:path w="8286" h="2978">
                <a:moveTo>
                  <a:pt x="18653" y="14486"/>
                </a:moveTo>
                <a:cubicBezTo>
                  <a:pt x="18731" y="14486"/>
                  <a:pt x="18783" y="14465"/>
                  <a:pt x="18852" y="14461"/>
                </a:cubicBezTo>
                <a:cubicBezTo>
                  <a:pt x="18893" y="14459"/>
                  <a:pt x="18935" y="14461"/>
                  <a:pt x="18976" y="14461"/>
                </a:cubicBezTo>
              </a:path>
              <a:path w="8286" h="2978">
                <a:moveTo>
                  <a:pt x="18777" y="14684"/>
                </a:moveTo>
                <a:cubicBezTo>
                  <a:pt x="18865" y="14684"/>
                  <a:pt x="18977" y="14702"/>
                  <a:pt x="19050" y="14660"/>
                </a:cubicBezTo>
              </a:path>
              <a:path w="8286" h="2978">
                <a:moveTo>
                  <a:pt x="19372" y="13791"/>
                </a:moveTo>
                <a:cubicBezTo>
                  <a:pt x="19441" y="13746"/>
                  <a:pt x="19490" y="13742"/>
                  <a:pt x="19571" y="13742"/>
                </a:cubicBezTo>
                <a:cubicBezTo>
                  <a:pt x="19621" y="13742"/>
                  <a:pt x="19637" y="13742"/>
                  <a:pt x="19670" y="13742"/>
                </a:cubicBezTo>
              </a:path>
              <a:path w="8286" h="2978">
                <a:moveTo>
                  <a:pt x="19397" y="13791"/>
                </a:moveTo>
                <a:cubicBezTo>
                  <a:pt x="19366" y="13862"/>
                  <a:pt x="19335" y="13950"/>
                  <a:pt x="19323" y="14015"/>
                </a:cubicBezTo>
                <a:cubicBezTo>
                  <a:pt x="19312" y="14075"/>
                  <a:pt x="19302" y="14072"/>
                  <a:pt x="19323" y="14114"/>
                </a:cubicBezTo>
                <a:cubicBezTo>
                  <a:pt x="19383" y="14079"/>
                  <a:pt x="19439" y="14065"/>
                  <a:pt x="19496" y="14039"/>
                </a:cubicBezTo>
                <a:cubicBezTo>
                  <a:pt x="19561" y="14010"/>
                  <a:pt x="19620" y="14002"/>
                  <a:pt x="19695" y="14039"/>
                </a:cubicBezTo>
                <a:cubicBezTo>
                  <a:pt x="19778" y="14080"/>
                  <a:pt x="19729" y="14156"/>
                  <a:pt x="19720" y="14213"/>
                </a:cubicBezTo>
                <a:cubicBezTo>
                  <a:pt x="19707" y="14289"/>
                  <a:pt x="19661" y="14316"/>
                  <a:pt x="19621" y="14387"/>
                </a:cubicBezTo>
                <a:cubicBezTo>
                  <a:pt x="19594" y="14441"/>
                  <a:pt x="19582" y="14461"/>
                  <a:pt x="19546" y="14486"/>
                </a:cubicBezTo>
              </a:path>
              <a:path w="8286" h="2978">
                <a:moveTo>
                  <a:pt x="19943" y="13692"/>
                </a:moveTo>
                <a:cubicBezTo>
                  <a:pt x="19956" y="13780"/>
                  <a:pt x="19954" y="13848"/>
                  <a:pt x="19943" y="13940"/>
                </a:cubicBezTo>
                <a:cubicBezTo>
                  <a:pt x="19932" y="14032"/>
                  <a:pt x="19922" y="14123"/>
                  <a:pt x="19918" y="14213"/>
                </a:cubicBezTo>
                <a:cubicBezTo>
                  <a:pt x="19915" y="14273"/>
                  <a:pt x="19906" y="14337"/>
                  <a:pt x="19943" y="14362"/>
                </a:cubicBezTo>
              </a:path>
              <a:path w="8286" h="2978">
                <a:moveTo>
                  <a:pt x="20141" y="13692"/>
                </a:moveTo>
                <a:cubicBezTo>
                  <a:pt x="20141" y="13836"/>
                  <a:pt x="20085" y="14158"/>
                  <a:pt x="20166" y="14288"/>
                </a:cubicBezTo>
                <a:cubicBezTo>
                  <a:pt x="20188" y="14310"/>
                  <a:pt x="20197" y="14321"/>
                  <a:pt x="20191" y="14288"/>
                </a:cubicBezTo>
              </a:path>
              <a:path w="8286" h="2978">
                <a:moveTo>
                  <a:pt x="19869" y="13717"/>
                </a:moveTo>
                <a:cubicBezTo>
                  <a:pt x="19958" y="13681"/>
                  <a:pt x="20047" y="13619"/>
                  <a:pt x="20141" y="13593"/>
                </a:cubicBezTo>
                <a:cubicBezTo>
                  <a:pt x="20177" y="13583"/>
                  <a:pt x="20308" y="13558"/>
                  <a:pt x="20340" y="13568"/>
                </a:cubicBezTo>
                <a:cubicBezTo>
                  <a:pt x="20348" y="13576"/>
                  <a:pt x="20357" y="13585"/>
                  <a:pt x="20365" y="13593"/>
                </a:cubicBezTo>
              </a:path>
              <a:path w="8286" h="2978">
                <a:moveTo>
                  <a:pt x="19348" y="14536"/>
                </a:moveTo>
                <a:cubicBezTo>
                  <a:pt x="19420" y="14499"/>
                  <a:pt x="19494" y="14473"/>
                  <a:pt x="19571" y="14461"/>
                </a:cubicBezTo>
                <a:cubicBezTo>
                  <a:pt x="19640" y="14450"/>
                  <a:pt x="19704" y="14441"/>
                  <a:pt x="19769" y="14412"/>
                </a:cubicBezTo>
                <a:cubicBezTo>
                  <a:pt x="19836" y="14383"/>
                  <a:pt x="19945" y="14363"/>
                  <a:pt x="20017" y="14387"/>
                </a:cubicBezTo>
                <a:cubicBezTo>
                  <a:pt x="20045" y="14415"/>
                  <a:pt x="20059" y="14424"/>
                  <a:pt x="20092" y="14412"/>
                </a:cubicBezTo>
              </a:path>
              <a:path w="8286" h="2978">
                <a:moveTo>
                  <a:pt x="19720" y="14709"/>
                </a:moveTo>
                <a:cubicBezTo>
                  <a:pt x="19704" y="14817"/>
                  <a:pt x="19686" y="14929"/>
                  <a:pt x="19670" y="15032"/>
                </a:cubicBezTo>
                <a:cubicBezTo>
                  <a:pt x="19655" y="15128"/>
                  <a:pt x="19633" y="15236"/>
                  <a:pt x="19621" y="15329"/>
                </a:cubicBezTo>
                <a:cubicBezTo>
                  <a:pt x="19621" y="15391"/>
                  <a:pt x="19612" y="15406"/>
                  <a:pt x="19645" y="15429"/>
                </a:cubicBezTo>
              </a:path>
              <a:path w="8286" h="2978">
                <a:moveTo>
                  <a:pt x="19893" y="14833"/>
                </a:moveTo>
                <a:cubicBezTo>
                  <a:pt x="19938" y="14788"/>
                  <a:pt x="19893" y="14930"/>
                  <a:pt x="19893" y="15007"/>
                </a:cubicBezTo>
                <a:cubicBezTo>
                  <a:pt x="19893" y="15068"/>
                  <a:pt x="19893" y="15151"/>
                  <a:pt x="19918" y="15205"/>
                </a:cubicBezTo>
                <a:cubicBezTo>
                  <a:pt x="19945" y="15262"/>
                  <a:pt x="20010" y="15289"/>
                  <a:pt x="20067" y="15280"/>
                </a:cubicBezTo>
                <a:cubicBezTo>
                  <a:pt x="20162" y="15265"/>
                  <a:pt x="20163" y="15164"/>
                  <a:pt x="20141" y="15081"/>
                </a:cubicBezTo>
                <a:cubicBezTo>
                  <a:pt x="20124" y="15017"/>
                  <a:pt x="20113" y="14958"/>
                  <a:pt x="20067" y="14908"/>
                </a:cubicBezTo>
                <a:cubicBezTo>
                  <a:pt x="20012" y="14848"/>
                  <a:pt x="19975" y="14869"/>
                  <a:pt x="19918" y="14883"/>
                </a:cubicBezTo>
              </a:path>
              <a:path w="8286" h="2978">
                <a:moveTo>
                  <a:pt x="20588" y="14238"/>
                </a:moveTo>
                <a:cubicBezTo>
                  <a:pt x="20580" y="14246"/>
                  <a:pt x="20571" y="14255"/>
                  <a:pt x="20563" y="14263"/>
                </a:cubicBezTo>
                <a:cubicBezTo>
                  <a:pt x="20638" y="14300"/>
                  <a:pt x="20679" y="14312"/>
                  <a:pt x="20762" y="14312"/>
                </a:cubicBezTo>
                <a:cubicBezTo>
                  <a:pt x="20845" y="14312"/>
                  <a:pt x="20905" y="14309"/>
                  <a:pt x="20985" y="14288"/>
                </a:cubicBezTo>
              </a:path>
              <a:path w="8286" h="2978">
                <a:moveTo>
                  <a:pt x="21059" y="13692"/>
                </a:moveTo>
                <a:cubicBezTo>
                  <a:pt x="21059" y="13766"/>
                  <a:pt x="21038" y="13820"/>
                  <a:pt x="21034" y="13891"/>
                </a:cubicBezTo>
                <a:cubicBezTo>
                  <a:pt x="21029" y="13987"/>
                  <a:pt x="21076" y="13963"/>
                  <a:pt x="21134" y="13940"/>
                </a:cubicBezTo>
                <a:cubicBezTo>
                  <a:pt x="21208" y="13915"/>
                  <a:pt x="21232" y="13907"/>
                  <a:pt x="21282" y="13891"/>
                </a:cubicBezTo>
              </a:path>
              <a:path w="8286" h="2978">
                <a:moveTo>
                  <a:pt x="21282" y="13593"/>
                </a:moveTo>
                <a:cubicBezTo>
                  <a:pt x="21264" y="13699"/>
                  <a:pt x="21258" y="13784"/>
                  <a:pt x="21258" y="13891"/>
                </a:cubicBezTo>
                <a:cubicBezTo>
                  <a:pt x="21258" y="13978"/>
                  <a:pt x="21236" y="14052"/>
                  <a:pt x="21233" y="14139"/>
                </a:cubicBezTo>
                <a:cubicBezTo>
                  <a:pt x="21233" y="14215"/>
                  <a:pt x="21234" y="14241"/>
                  <a:pt x="21258" y="14288"/>
                </a:cubicBezTo>
              </a:path>
              <a:path w="8286" h="2978">
                <a:moveTo>
                  <a:pt x="21406" y="13717"/>
                </a:moveTo>
                <a:cubicBezTo>
                  <a:pt x="21488" y="13717"/>
                  <a:pt x="21554" y="13721"/>
                  <a:pt x="21630" y="13692"/>
                </a:cubicBezTo>
                <a:cubicBezTo>
                  <a:pt x="21730" y="13653"/>
                  <a:pt x="21748" y="13648"/>
                  <a:pt x="21803" y="13618"/>
                </a:cubicBezTo>
              </a:path>
              <a:path w="8286" h="2978">
                <a:moveTo>
                  <a:pt x="21506" y="13692"/>
                </a:moveTo>
                <a:cubicBezTo>
                  <a:pt x="21486" y="13786"/>
                  <a:pt x="21483" y="13900"/>
                  <a:pt x="21456" y="13990"/>
                </a:cubicBezTo>
                <a:cubicBezTo>
                  <a:pt x="21433" y="14067"/>
                  <a:pt x="21427" y="14061"/>
                  <a:pt x="21456" y="14139"/>
                </a:cubicBezTo>
              </a:path>
              <a:path w="8286" h="2978">
                <a:moveTo>
                  <a:pt x="21654" y="13643"/>
                </a:moveTo>
                <a:cubicBezTo>
                  <a:pt x="21646" y="13721"/>
                  <a:pt x="21617" y="13792"/>
                  <a:pt x="21605" y="13866"/>
                </a:cubicBezTo>
                <a:cubicBezTo>
                  <a:pt x="21584" y="13988"/>
                  <a:pt x="21601" y="14147"/>
                  <a:pt x="21630" y="14263"/>
                </a:cubicBezTo>
              </a:path>
              <a:path w="8286" h="2978">
                <a:moveTo>
                  <a:pt x="21134" y="14312"/>
                </a:moveTo>
                <a:cubicBezTo>
                  <a:pt x="21207" y="14312"/>
                  <a:pt x="21262" y="14292"/>
                  <a:pt x="21332" y="14288"/>
                </a:cubicBezTo>
                <a:cubicBezTo>
                  <a:pt x="21405" y="14284"/>
                  <a:pt x="21462" y="14274"/>
                  <a:pt x="21530" y="14263"/>
                </a:cubicBezTo>
                <a:cubicBezTo>
                  <a:pt x="21585" y="14254"/>
                  <a:pt x="21648" y="14263"/>
                  <a:pt x="21704" y="14263"/>
                </a:cubicBezTo>
              </a:path>
              <a:path w="8286" h="2978">
                <a:moveTo>
                  <a:pt x="21357" y="14461"/>
                </a:moveTo>
                <a:cubicBezTo>
                  <a:pt x="21299" y="14635"/>
                  <a:pt x="21299" y="14801"/>
                  <a:pt x="21258" y="14982"/>
                </a:cubicBezTo>
                <a:cubicBezTo>
                  <a:pt x="21239" y="15064"/>
                  <a:pt x="21208" y="15115"/>
                  <a:pt x="21208" y="15205"/>
                </a:cubicBezTo>
              </a:path>
              <a:path w="8286" h="2978">
                <a:moveTo>
                  <a:pt x="21406" y="14660"/>
                </a:moveTo>
                <a:cubicBezTo>
                  <a:pt x="21415" y="14724"/>
                  <a:pt x="21431" y="14762"/>
                  <a:pt x="21431" y="14833"/>
                </a:cubicBezTo>
                <a:cubicBezTo>
                  <a:pt x="21431" y="14890"/>
                  <a:pt x="21432" y="14960"/>
                  <a:pt x="21456" y="15007"/>
                </a:cubicBezTo>
                <a:cubicBezTo>
                  <a:pt x="21488" y="15071"/>
                  <a:pt x="21552" y="15064"/>
                  <a:pt x="21605" y="15032"/>
                </a:cubicBezTo>
                <a:cubicBezTo>
                  <a:pt x="21682" y="14985"/>
                  <a:pt x="21654" y="14884"/>
                  <a:pt x="21654" y="14808"/>
                </a:cubicBezTo>
                <a:cubicBezTo>
                  <a:pt x="21654" y="14753"/>
                  <a:pt x="21623" y="14650"/>
                  <a:pt x="21580" y="14610"/>
                </a:cubicBezTo>
                <a:cubicBezTo>
                  <a:pt x="21520" y="14554"/>
                  <a:pt x="21463" y="14606"/>
                  <a:pt x="21406" y="14635"/>
                </a:cubicBezTo>
              </a:path>
              <a:path w="8286" h="2978">
                <a:moveTo>
                  <a:pt x="22151" y="14188"/>
                </a:moveTo>
                <a:cubicBezTo>
                  <a:pt x="22200" y="14163"/>
                  <a:pt x="22250" y="14139"/>
                  <a:pt x="22299" y="14114"/>
                </a:cubicBezTo>
              </a:path>
              <a:path w="8286" h="2978">
                <a:moveTo>
                  <a:pt x="22126" y="14337"/>
                </a:moveTo>
                <a:cubicBezTo>
                  <a:pt x="22215" y="14337"/>
                  <a:pt x="22247" y="14341"/>
                  <a:pt x="22324" y="14312"/>
                </a:cubicBezTo>
              </a:path>
              <a:path w="8286" h="2978">
                <a:moveTo>
                  <a:pt x="22671" y="13494"/>
                </a:moveTo>
                <a:cubicBezTo>
                  <a:pt x="22761" y="13472"/>
                  <a:pt x="22833" y="13448"/>
                  <a:pt x="22920" y="13444"/>
                </a:cubicBezTo>
                <a:cubicBezTo>
                  <a:pt x="22987" y="13444"/>
                  <a:pt x="23020" y="13440"/>
                  <a:pt x="23068" y="13419"/>
                </a:cubicBezTo>
              </a:path>
              <a:path w="8286" h="2978">
                <a:moveTo>
                  <a:pt x="22845" y="13568"/>
                </a:moveTo>
                <a:cubicBezTo>
                  <a:pt x="22829" y="13628"/>
                  <a:pt x="22804" y="13714"/>
                  <a:pt x="22796" y="13767"/>
                </a:cubicBezTo>
                <a:cubicBezTo>
                  <a:pt x="22782" y="13862"/>
                  <a:pt x="22792" y="13977"/>
                  <a:pt x="22820" y="14064"/>
                </a:cubicBezTo>
              </a:path>
              <a:path w="8286" h="2978">
                <a:moveTo>
                  <a:pt x="22994" y="13469"/>
                </a:moveTo>
                <a:cubicBezTo>
                  <a:pt x="22976" y="13558"/>
                  <a:pt x="22955" y="13656"/>
                  <a:pt x="22944" y="13742"/>
                </a:cubicBezTo>
                <a:cubicBezTo>
                  <a:pt x="22931" y="13839"/>
                  <a:pt x="22957" y="13921"/>
                  <a:pt x="22969" y="14015"/>
                </a:cubicBezTo>
                <a:cubicBezTo>
                  <a:pt x="22969" y="14064"/>
                  <a:pt x="22969" y="14081"/>
                  <a:pt x="22969" y="14114"/>
                </a:cubicBezTo>
              </a:path>
              <a:path w="8286" h="2978">
                <a:moveTo>
                  <a:pt x="22696" y="14139"/>
                </a:moveTo>
                <a:cubicBezTo>
                  <a:pt x="22781" y="14139"/>
                  <a:pt x="22842" y="14127"/>
                  <a:pt x="22920" y="14114"/>
                </a:cubicBezTo>
                <a:cubicBezTo>
                  <a:pt x="22988" y="14103"/>
                  <a:pt x="23055" y="14093"/>
                  <a:pt x="23118" y="14089"/>
                </a:cubicBezTo>
                <a:cubicBezTo>
                  <a:pt x="23180" y="14085"/>
                  <a:pt x="23211" y="14067"/>
                  <a:pt x="23267" y="14039"/>
                </a:cubicBezTo>
              </a:path>
              <a:path w="8286" h="2978">
                <a:moveTo>
                  <a:pt x="22845" y="14461"/>
                </a:moveTo>
                <a:cubicBezTo>
                  <a:pt x="22845" y="14548"/>
                  <a:pt x="22826" y="14638"/>
                  <a:pt x="22820" y="14709"/>
                </a:cubicBezTo>
                <a:cubicBezTo>
                  <a:pt x="22812" y="14802"/>
                  <a:pt x="22804" y="14865"/>
                  <a:pt x="22845" y="14932"/>
                </a:cubicBezTo>
              </a:path>
              <a:path w="8286" h="2978">
                <a:moveTo>
                  <a:pt x="23019" y="14461"/>
                </a:moveTo>
                <a:cubicBezTo>
                  <a:pt x="22996" y="14566"/>
                  <a:pt x="22994" y="14651"/>
                  <a:pt x="22994" y="14759"/>
                </a:cubicBezTo>
                <a:cubicBezTo>
                  <a:pt x="22994" y="14813"/>
                  <a:pt x="22995" y="14936"/>
                  <a:pt x="23068" y="14957"/>
                </a:cubicBezTo>
                <a:cubicBezTo>
                  <a:pt x="23131" y="14975"/>
                  <a:pt x="23202" y="14914"/>
                  <a:pt x="23217" y="14858"/>
                </a:cubicBezTo>
                <a:cubicBezTo>
                  <a:pt x="23230" y="14807"/>
                  <a:pt x="23233" y="14728"/>
                  <a:pt x="23242" y="14684"/>
                </a:cubicBezTo>
                <a:cubicBezTo>
                  <a:pt x="23253" y="14631"/>
                  <a:pt x="23238" y="14531"/>
                  <a:pt x="23217" y="14486"/>
                </a:cubicBezTo>
                <a:cubicBezTo>
                  <a:pt x="23211" y="14474"/>
                  <a:pt x="23130" y="14386"/>
                  <a:pt x="23118" y="14387"/>
                </a:cubicBezTo>
                <a:cubicBezTo>
                  <a:pt x="23059" y="14390"/>
                  <a:pt x="22990" y="14431"/>
                  <a:pt x="22944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6"/>
          <p:cNvSpPr/>
          <p:nvPr/>
        </p:nvSpPr>
        <p:spPr>
          <a:xfrm>
            <a:off x="5813280" y="5554800"/>
            <a:ext cx="2044800" cy="1106280"/>
          </a:xfrm>
          <a:custGeom>
            <a:avLst/>
            <a:gdLst/>
            <a:ahLst/>
            <a:rect l="l" t="t" r="r" b="b"/>
            <a:pathLst>
              <a:path w="5681" h="3076">
                <a:moveTo>
                  <a:pt x="16421" y="16867"/>
                </a:moveTo>
                <a:cubicBezTo>
                  <a:pt x="16502" y="16827"/>
                  <a:pt x="16561" y="16801"/>
                  <a:pt x="16644" y="16768"/>
                </a:cubicBezTo>
                <a:cubicBezTo>
                  <a:pt x="16720" y="16738"/>
                  <a:pt x="16785" y="16726"/>
                  <a:pt x="16867" y="16718"/>
                </a:cubicBezTo>
              </a:path>
              <a:path w="5681" h="3076">
                <a:moveTo>
                  <a:pt x="16619" y="16793"/>
                </a:moveTo>
                <a:cubicBezTo>
                  <a:pt x="16599" y="16867"/>
                  <a:pt x="16575" y="16963"/>
                  <a:pt x="16594" y="17041"/>
                </a:cubicBezTo>
                <a:cubicBezTo>
                  <a:pt x="16621" y="17151"/>
                  <a:pt x="16635" y="17274"/>
                  <a:pt x="16644" y="17388"/>
                </a:cubicBezTo>
                <a:cubicBezTo>
                  <a:pt x="16644" y="17396"/>
                  <a:pt x="16644" y="17405"/>
                  <a:pt x="16644" y="17413"/>
                </a:cubicBezTo>
              </a:path>
              <a:path w="5681" h="3076">
                <a:moveTo>
                  <a:pt x="16694" y="16743"/>
                </a:moveTo>
                <a:cubicBezTo>
                  <a:pt x="16711" y="16842"/>
                  <a:pt x="16718" y="16918"/>
                  <a:pt x="16718" y="17016"/>
                </a:cubicBezTo>
                <a:cubicBezTo>
                  <a:pt x="16718" y="17098"/>
                  <a:pt x="16727" y="17218"/>
                  <a:pt x="16768" y="17289"/>
                </a:cubicBezTo>
                <a:cubicBezTo>
                  <a:pt x="16789" y="17325"/>
                  <a:pt x="16832" y="17354"/>
                  <a:pt x="16867" y="17363"/>
                </a:cubicBezTo>
              </a:path>
              <a:path w="5681" h="3076">
                <a:moveTo>
                  <a:pt x="17338" y="17016"/>
                </a:moveTo>
                <a:cubicBezTo>
                  <a:pt x="17388" y="16976"/>
                  <a:pt x="17449" y="16952"/>
                  <a:pt x="17512" y="16942"/>
                </a:cubicBezTo>
                <a:cubicBezTo>
                  <a:pt x="17567" y="16933"/>
                  <a:pt x="17630" y="16942"/>
                  <a:pt x="17686" y="16942"/>
                </a:cubicBezTo>
              </a:path>
              <a:path w="5681" h="3076">
                <a:moveTo>
                  <a:pt x="17785" y="16446"/>
                </a:moveTo>
                <a:cubicBezTo>
                  <a:pt x="17835" y="16380"/>
                  <a:pt x="17887" y="16289"/>
                  <a:pt x="17983" y="16297"/>
                </a:cubicBezTo>
                <a:cubicBezTo>
                  <a:pt x="18067" y="16304"/>
                  <a:pt x="18103" y="16349"/>
                  <a:pt x="18107" y="16421"/>
                </a:cubicBezTo>
                <a:cubicBezTo>
                  <a:pt x="18111" y="16491"/>
                  <a:pt x="18104" y="16559"/>
                  <a:pt x="18083" y="16619"/>
                </a:cubicBezTo>
                <a:cubicBezTo>
                  <a:pt x="18061" y="16682"/>
                  <a:pt x="18004" y="16722"/>
                  <a:pt x="17959" y="16768"/>
                </a:cubicBezTo>
                <a:cubicBezTo>
                  <a:pt x="17917" y="16810"/>
                  <a:pt x="17910" y="16818"/>
                  <a:pt x="17884" y="16842"/>
                </a:cubicBezTo>
                <a:cubicBezTo>
                  <a:pt x="17830" y="16776"/>
                  <a:pt x="17836" y="16748"/>
                  <a:pt x="17884" y="16669"/>
                </a:cubicBezTo>
                <a:cubicBezTo>
                  <a:pt x="17923" y="16603"/>
                  <a:pt x="18007" y="16607"/>
                  <a:pt x="18058" y="16644"/>
                </a:cubicBezTo>
                <a:cubicBezTo>
                  <a:pt x="18092" y="16669"/>
                  <a:pt x="18119" y="16726"/>
                  <a:pt x="18157" y="16743"/>
                </a:cubicBezTo>
                <a:cubicBezTo>
                  <a:pt x="18165" y="16743"/>
                  <a:pt x="18174" y="16743"/>
                  <a:pt x="18182" y="16743"/>
                </a:cubicBezTo>
              </a:path>
              <a:path w="5681" h="3076">
                <a:moveTo>
                  <a:pt x="18331" y="16148"/>
                </a:moveTo>
                <a:cubicBezTo>
                  <a:pt x="18399" y="16070"/>
                  <a:pt x="18432" y="16053"/>
                  <a:pt x="18529" y="16024"/>
                </a:cubicBezTo>
                <a:cubicBezTo>
                  <a:pt x="18587" y="16005"/>
                  <a:pt x="18593" y="15996"/>
                  <a:pt x="18628" y="15999"/>
                </a:cubicBezTo>
              </a:path>
              <a:path w="5681" h="3076">
                <a:moveTo>
                  <a:pt x="18455" y="16073"/>
                </a:moveTo>
                <a:cubicBezTo>
                  <a:pt x="18455" y="16230"/>
                  <a:pt x="18455" y="16388"/>
                  <a:pt x="18455" y="16545"/>
                </a:cubicBezTo>
              </a:path>
              <a:path w="5681" h="3076">
                <a:moveTo>
                  <a:pt x="18628" y="16073"/>
                </a:moveTo>
                <a:cubicBezTo>
                  <a:pt x="18628" y="16235"/>
                  <a:pt x="18608" y="16425"/>
                  <a:pt x="18653" y="16570"/>
                </a:cubicBezTo>
                <a:cubicBezTo>
                  <a:pt x="18653" y="16578"/>
                  <a:pt x="18653" y="16586"/>
                  <a:pt x="18653" y="16594"/>
                </a:cubicBezTo>
              </a:path>
              <a:path w="5681" h="3076">
                <a:moveTo>
                  <a:pt x="18083" y="16942"/>
                </a:moveTo>
                <a:cubicBezTo>
                  <a:pt x="18165" y="16919"/>
                  <a:pt x="18211" y="16909"/>
                  <a:pt x="18281" y="16867"/>
                </a:cubicBezTo>
                <a:cubicBezTo>
                  <a:pt x="18330" y="16838"/>
                  <a:pt x="18429" y="16782"/>
                  <a:pt x="18479" y="16768"/>
                </a:cubicBezTo>
                <a:cubicBezTo>
                  <a:pt x="18548" y="16749"/>
                  <a:pt x="18636" y="16764"/>
                  <a:pt x="18703" y="16743"/>
                </a:cubicBezTo>
                <a:cubicBezTo>
                  <a:pt x="18711" y="16735"/>
                  <a:pt x="18720" y="16726"/>
                  <a:pt x="18728" y="16718"/>
                </a:cubicBezTo>
              </a:path>
              <a:path w="5681" h="3076">
                <a:moveTo>
                  <a:pt x="18430" y="16793"/>
                </a:moveTo>
                <a:cubicBezTo>
                  <a:pt x="18497" y="16793"/>
                  <a:pt x="18542" y="16780"/>
                  <a:pt x="18604" y="16768"/>
                </a:cubicBezTo>
              </a:path>
              <a:path w="5681" h="3076">
                <a:moveTo>
                  <a:pt x="18430" y="16867"/>
                </a:moveTo>
                <a:cubicBezTo>
                  <a:pt x="18402" y="16952"/>
                  <a:pt x="18358" y="17047"/>
                  <a:pt x="18380" y="17140"/>
                </a:cubicBezTo>
                <a:cubicBezTo>
                  <a:pt x="18394" y="17199"/>
                  <a:pt x="18405" y="17225"/>
                  <a:pt x="18405" y="17289"/>
                </a:cubicBezTo>
                <a:cubicBezTo>
                  <a:pt x="18435" y="17239"/>
                  <a:pt x="18440" y="17192"/>
                  <a:pt x="18479" y="17140"/>
                </a:cubicBezTo>
                <a:cubicBezTo>
                  <a:pt x="18513" y="17095"/>
                  <a:pt x="18571" y="17068"/>
                  <a:pt x="18628" y="17090"/>
                </a:cubicBezTo>
                <a:cubicBezTo>
                  <a:pt x="18682" y="17111"/>
                  <a:pt x="18700" y="17217"/>
                  <a:pt x="18703" y="17264"/>
                </a:cubicBezTo>
                <a:cubicBezTo>
                  <a:pt x="18709" y="17367"/>
                  <a:pt x="18657" y="17486"/>
                  <a:pt x="18604" y="17562"/>
                </a:cubicBezTo>
                <a:cubicBezTo>
                  <a:pt x="18563" y="17621"/>
                  <a:pt x="18525" y="17680"/>
                  <a:pt x="18479" y="17735"/>
                </a:cubicBezTo>
              </a:path>
              <a:path w="5681" h="3076">
                <a:moveTo>
                  <a:pt x="16346" y="17562"/>
                </a:moveTo>
                <a:cubicBezTo>
                  <a:pt x="16430" y="17520"/>
                  <a:pt x="16489" y="17505"/>
                  <a:pt x="16570" y="17462"/>
                </a:cubicBezTo>
                <a:cubicBezTo>
                  <a:pt x="16618" y="17437"/>
                  <a:pt x="16698" y="17376"/>
                  <a:pt x="16743" y="17363"/>
                </a:cubicBezTo>
                <a:cubicBezTo>
                  <a:pt x="16802" y="17346"/>
                  <a:pt x="16886" y="17359"/>
                  <a:pt x="16942" y="17338"/>
                </a:cubicBezTo>
                <a:cubicBezTo>
                  <a:pt x="16964" y="17316"/>
                  <a:pt x="16969" y="17308"/>
                  <a:pt x="16991" y="17314"/>
                </a:cubicBezTo>
              </a:path>
              <a:path w="5681" h="3076">
                <a:moveTo>
                  <a:pt x="16148" y="17115"/>
                </a:moveTo>
                <a:cubicBezTo>
                  <a:pt x="16188" y="17059"/>
                  <a:pt x="16253" y="17008"/>
                  <a:pt x="16321" y="16991"/>
                </a:cubicBezTo>
                <a:cubicBezTo>
                  <a:pt x="16338" y="16991"/>
                  <a:pt x="16354" y="16991"/>
                  <a:pt x="16371" y="16991"/>
                </a:cubicBezTo>
              </a:path>
              <a:path w="5681" h="3076">
                <a:moveTo>
                  <a:pt x="16247" y="17165"/>
                </a:moveTo>
                <a:cubicBezTo>
                  <a:pt x="16218" y="17241"/>
                  <a:pt x="16222" y="17305"/>
                  <a:pt x="16222" y="17388"/>
                </a:cubicBezTo>
                <a:cubicBezTo>
                  <a:pt x="16222" y="17405"/>
                  <a:pt x="16222" y="17421"/>
                  <a:pt x="16222" y="17438"/>
                </a:cubicBezTo>
                <a:cubicBezTo>
                  <a:pt x="16251" y="17409"/>
                  <a:pt x="16305" y="17325"/>
                  <a:pt x="16346" y="17314"/>
                </a:cubicBezTo>
                <a:cubicBezTo>
                  <a:pt x="16393" y="17301"/>
                  <a:pt x="16421" y="17296"/>
                  <a:pt x="16470" y="17289"/>
                </a:cubicBezTo>
                <a:cubicBezTo>
                  <a:pt x="16470" y="17372"/>
                  <a:pt x="16459" y="17391"/>
                  <a:pt x="16421" y="17462"/>
                </a:cubicBezTo>
                <a:cubicBezTo>
                  <a:pt x="16384" y="17532"/>
                  <a:pt x="16343" y="17611"/>
                  <a:pt x="16321" y="17686"/>
                </a:cubicBezTo>
                <a:cubicBezTo>
                  <a:pt x="16321" y="17694"/>
                  <a:pt x="16321" y="17703"/>
                  <a:pt x="16321" y="17711"/>
                </a:cubicBezTo>
              </a:path>
              <a:path w="5681" h="3076">
                <a:moveTo>
                  <a:pt x="16644" y="17835"/>
                </a:moveTo>
                <a:cubicBezTo>
                  <a:pt x="16681" y="17798"/>
                  <a:pt x="16702" y="17740"/>
                  <a:pt x="16743" y="17711"/>
                </a:cubicBezTo>
                <a:cubicBezTo>
                  <a:pt x="16791" y="17677"/>
                  <a:pt x="16825" y="17653"/>
                  <a:pt x="16867" y="17611"/>
                </a:cubicBezTo>
              </a:path>
              <a:path w="5681" h="3076">
                <a:moveTo>
                  <a:pt x="16619" y="17810"/>
                </a:moveTo>
                <a:cubicBezTo>
                  <a:pt x="16629" y="17876"/>
                  <a:pt x="16643" y="17940"/>
                  <a:pt x="16669" y="18008"/>
                </a:cubicBezTo>
                <a:cubicBezTo>
                  <a:pt x="16677" y="18025"/>
                  <a:pt x="16686" y="18041"/>
                  <a:pt x="16694" y="18058"/>
                </a:cubicBezTo>
                <a:cubicBezTo>
                  <a:pt x="16735" y="18016"/>
                  <a:pt x="16772" y="17993"/>
                  <a:pt x="16818" y="17959"/>
                </a:cubicBezTo>
                <a:cubicBezTo>
                  <a:pt x="16875" y="17916"/>
                  <a:pt x="16893" y="17943"/>
                  <a:pt x="16942" y="17884"/>
                </a:cubicBezTo>
                <a:cubicBezTo>
                  <a:pt x="16996" y="17917"/>
                  <a:pt x="17080" y="17932"/>
                  <a:pt x="17066" y="18008"/>
                </a:cubicBezTo>
                <a:cubicBezTo>
                  <a:pt x="17050" y="18098"/>
                  <a:pt x="16987" y="18179"/>
                  <a:pt x="16942" y="18256"/>
                </a:cubicBezTo>
                <a:cubicBezTo>
                  <a:pt x="16882" y="18358"/>
                  <a:pt x="16841" y="18420"/>
                  <a:pt x="16743" y="18479"/>
                </a:cubicBezTo>
                <a:cubicBezTo>
                  <a:pt x="16671" y="18522"/>
                  <a:pt x="16657" y="18470"/>
                  <a:pt x="16594" y="18455"/>
                </a:cubicBezTo>
              </a:path>
              <a:path w="5681" h="3076">
                <a:moveTo>
                  <a:pt x="19348" y="16594"/>
                </a:moveTo>
                <a:cubicBezTo>
                  <a:pt x="19432" y="16584"/>
                  <a:pt x="19511" y="16560"/>
                  <a:pt x="19596" y="16545"/>
                </a:cubicBezTo>
                <a:cubicBezTo>
                  <a:pt x="19604" y="16545"/>
                  <a:pt x="19613" y="16545"/>
                  <a:pt x="19621" y="16545"/>
                </a:cubicBezTo>
              </a:path>
              <a:path w="5681" h="3076">
                <a:moveTo>
                  <a:pt x="19521" y="16892"/>
                </a:moveTo>
                <a:cubicBezTo>
                  <a:pt x="19595" y="16892"/>
                  <a:pt x="19649" y="16871"/>
                  <a:pt x="19720" y="16867"/>
                </a:cubicBezTo>
                <a:cubicBezTo>
                  <a:pt x="19736" y="16867"/>
                  <a:pt x="19753" y="16867"/>
                  <a:pt x="19769" y="16867"/>
                </a:cubicBezTo>
              </a:path>
              <a:path w="5681" h="3076">
                <a:moveTo>
                  <a:pt x="20141" y="16024"/>
                </a:moveTo>
                <a:cubicBezTo>
                  <a:pt x="20173" y="15960"/>
                  <a:pt x="20203" y="15892"/>
                  <a:pt x="20265" y="15850"/>
                </a:cubicBezTo>
                <a:cubicBezTo>
                  <a:pt x="20331" y="15805"/>
                  <a:pt x="20404" y="15760"/>
                  <a:pt x="20489" y="15776"/>
                </a:cubicBezTo>
                <a:cubicBezTo>
                  <a:pt x="20505" y="15784"/>
                  <a:pt x="20522" y="15793"/>
                  <a:pt x="20538" y="15801"/>
                </a:cubicBezTo>
                <a:cubicBezTo>
                  <a:pt x="20515" y="15907"/>
                  <a:pt x="20467" y="15945"/>
                  <a:pt x="20389" y="16024"/>
                </a:cubicBezTo>
                <a:cubicBezTo>
                  <a:pt x="20344" y="16069"/>
                  <a:pt x="20312" y="16105"/>
                  <a:pt x="20265" y="16148"/>
                </a:cubicBezTo>
                <a:cubicBezTo>
                  <a:pt x="20257" y="16156"/>
                  <a:pt x="20249" y="16165"/>
                  <a:pt x="20241" y="16173"/>
                </a:cubicBezTo>
                <a:cubicBezTo>
                  <a:pt x="20310" y="16142"/>
                  <a:pt x="20376" y="16120"/>
                  <a:pt x="20439" y="16098"/>
                </a:cubicBezTo>
                <a:cubicBezTo>
                  <a:pt x="20505" y="16075"/>
                  <a:pt x="20572" y="16067"/>
                  <a:pt x="20638" y="16098"/>
                </a:cubicBezTo>
                <a:cubicBezTo>
                  <a:pt x="20676" y="16116"/>
                  <a:pt x="20726" y="16180"/>
                  <a:pt x="20712" y="16222"/>
                </a:cubicBezTo>
                <a:cubicBezTo>
                  <a:pt x="20685" y="16301"/>
                  <a:pt x="20609" y="16398"/>
                  <a:pt x="20563" y="16470"/>
                </a:cubicBezTo>
                <a:cubicBezTo>
                  <a:pt x="20502" y="16565"/>
                  <a:pt x="20403" y="16634"/>
                  <a:pt x="20365" y="16743"/>
                </a:cubicBezTo>
                <a:cubicBezTo>
                  <a:pt x="20365" y="16751"/>
                  <a:pt x="20365" y="16760"/>
                  <a:pt x="20365" y="16768"/>
                </a:cubicBezTo>
              </a:path>
              <a:path w="5681" h="3076">
                <a:moveTo>
                  <a:pt x="20836" y="15850"/>
                </a:moveTo>
                <a:cubicBezTo>
                  <a:pt x="20836" y="15962"/>
                  <a:pt x="20856" y="16062"/>
                  <a:pt x="20861" y="16173"/>
                </a:cubicBezTo>
                <a:cubicBezTo>
                  <a:pt x="20864" y="16251"/>
                  <a:pt x="20844" y="16327"/>
                  <a:pt x="20886" y="16396"/>
                </a:cubicBezTo>
                <a:cubicBezTo>
                  <a:pt x="20915" y="16426"/>
                  <a:pt x="20929" y="16438"/>
                  <a:pt x="20960" y="16446"/>
                </a:cubicBezTo>
              </a:path>
              <a:path w="5681" h="3076">
                <a:moveTo>
                  <a:pt x="21084" y="15776"/>
                </a:moveTo>
                <a:cubicBezTo>
                  <a:pt x="21059" y="15826"/>
                  <a:pt x="21039" y="15936"/>
                  <a:pt x="21059" y="15999"/>
                </a:cubicBezTo>
                <a:cubicBezTo>
                  <a:pt x="21074" y="16046"/>
                  <a:pt x="21127" y="16135"/>
                  <a:pt x="21158" y="16173"/>
                </a:cubicBezTo>
                <a:cubicBezTo>
                  <a:pt x="21183" y="16203"/>
                  <a:pt x="21199" y="16214"/>
                  <a:pt x="21233" y="16222"/>
                </a:cubicBezTo>
              </a:path>
              <a:path w="5681" h="3076">
                <a:moveTo>
                  <a:pt x="20737" y="15677"/>
                </a:moveTo>
                <a:cubicBezTo>
                  <a:pt x="20811" y="15624"/>
                  <a:pt x="20878" y="15605"/>
                  <a:pt x="20960" y="15577"/>
                </a:cubicBezTo>
                <a:cubicBezTo>
                  <a:pt x="21057" y="15544"/>
                  <a:pt x="21135" y="15486"/>
                  <a:pt x="21233" y="15453"/>
                </a:cubicBezTo>
                <a:cubicBezTo>
                  <a:pt x="21299" y="15430"/>
                  <a:pt x="21338" y="15429"/>
                  <a:pt x="21406" y="15429"/>
                </a:cubicBezTo>
              </a:path>
              <a:path w="5681" h="3076">
                <a:moveTo>
                  <a:pt x="21555" y="16073"/>
                </a:moveTo>
                <a:cubicBezTo>
                  <a:pt x="21572" y="16090"/>
                  <a:pt x="21588" y="16106"/>
                  <a:pt x="21605" y="16123"/>
                </a:cubicBezTo>
                <a:cubicBezTo>
                  <a:pt x="21566" y="16162"/>
                  <a:pt x="21542" y="16206"/>
                  <a:pt x="21506" y="16247"/>
                </a:cubicBezTo>
                <a:cubicBezTo>
                  <a:pt x="21456" y="16303"/>
                  <a:pt x="21347" y="16347"/>
                  <a:pt x="21282" y="16396"/>
                </a:cubicBezTo>
                <a:cubicBezTo>
                  <a:pt x="21083" y="16545"/>
                  <a:pt x="20933" y="16666"/>
                  <a:pt x="20762" y="16842"/>
                </a:cubicBezTo>
                <a:cubicBezTo>
                  <a:pt x="20704" y="16901"/>
                  <a:pt x="20590" y="17079"/>
                  <a:pt x="20513" y="17115"/>
                </a:cubicBezTo>
                <a:cubicBezTo>
                  <a:pt x="20497" y="17115"/>
                  <a:pt x="20480" y="17115"/>
                  <a:pt x="20464" y="17115"/>
                </a:cubicBezTo>
              </a:path>
              <a:path w="5681" h="3076">
                <a:moveTo>
                  <a:pt x="21382" y="16818"/>
                </a:moveTo>
                <a:cubicBezTo>
                  <a:pt x="21438" y="16772"/>
                  <a:pt x="21502" y="16747"/>
                  <a:pt x="21555" y="16694"/>
                </a:cubicBezTo>
                <a:cubicBezTo>
                  <a:pt x="21604" y="16646"/>
                  <a:pt x="21645" y="16634"/>
                  <a:pt x="21704" y="16619"/>
                </a:cubicBezTo>
              </a:path>
              <a:path w="5681" h="3076">
                <a:moveTo>
                  <a:pt x="21382" y="16892"/>
                </a:moveTo>
                <a:cubicBezTo>
                  <a:pt x="21382" y="17013"/>
                  <a:pt x="21370" y="17100"/>
                  <a:pt x="21357" y="17214"/>
                </a:cubicBezTo>
                <a:cubicBezTo>
                  <a:pt x="21404" y="17168"/>
                  <a:pt x="21437" y="17114"/>
                  <a:pt x="21481" y="17066"/>
                </a:cubicBezTo>
                <a:cubicBezTo>
                  <a:pt x="21515" y="17029"/>
                  <a:pt x="21554" y="16978"/>
                  <a:pt x="21605" y="16966"/>
                </a:cubicBezTo>
                <a:cubicBezTo>
                  <a:pt x="21661" y="16953"/>
                  <a:pt x="21740" y="16972"/>
                  <a:pt x="21779" y="17016"/>
                </a:cubicBezTo>
                <a:cubicBezTo>
                  <a:pt x="21864" y="17111"/>
                  <a:pt x="21816" y="17143"/>
                  <a:pt x="21779" y="17239"/>
                </a:cubicBezTo>
                <a:cubicBezTo>
                  <a:pt x="21737" y="17347"/>
                  <a:pt x="21711" y="17402"/>
                  <a:pt x="21630" y="17487"/>
                </a:cubicBezTo>
                <a:cubicBezTo>
                  <a:pt x="21575" y="17545"/>
                  <a:pt x="21538" y="17604"/>
                  <a:pt x="21481" y="17661"/>
                </a:cubicBezTo>
                <a:cubicBezTo>
                  <a:pt x="21450" y="17692"/>
                  <a:pt x="21397" y="17701"/>
                  <a:pt x="21357" y="177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7"/>
          <p:cNvSpPr/>
          <p:nvPr/>
        </p:nvSpPr>
        <p:spPr>
          <a:xfrm>
            <a:off x="1320840" y="3527280"/>
            <a:ext cx="73080" cy="9720"/>
          </a:xfrm>
          <a:custGeom>
            <a:avLst/>
            <a:gdLst/>
            <a:ahLst/>
            <a:rect l="l" t="t" r="r" b="b"/>
            <a:pathLst>
              <a:path w="200" h="26">
                <a:moveTo>
                  <a:pt x="3671" y="9823"/>
                </a:moveTo>
                <a:cubicBezTo>
                  <a:pt x="3750" y="9806"/>
                  <a:pt x="3793" y="9798"/>
                  <a:pt x="3870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8"/>
          <p:cNvSpPr/>
          <p:nvPr/>
        </p:nvSpPr>
        <p:spPr>
          <a:xfrm>
            <a:off x="1320840" y="358920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3671" y="9971"/>
                </a:moveTo>
                <a:cubicBezTo>
                  <a:pt x="3757" y="9979"/>
                  <a:pt x="3808" y="9996"/>
                  <a:pt x="3894" y="100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9"/>
          <p:cNvSpPr/>
          <p:nvPr/>
        </p:nvSpPr>
        <p:spPr>
          <a:xfrm>
            <a:off x="357120" y="345600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992" y="9599"/>
                </a:moveTo>
                <a:cubicBezTo>
                  <a:pt x="992" y="9607"/>
                  <a:pt x="992" y="9616"/>
                  <a:pt x="992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20"/>
          <p:cNvSpPr/>
          <p:nvPr/>
        </p:nvSpPr>
        <p:spPr>
          <a:xfrm>
            <a:off x="169920" y="3394080"/>
            <a:ext cx="125280" cy="106200"/>
          </a:xfrm>
          <a:custGeom>
            <a:avLst/>
            <a:gdLst/>
            <a:ahLst/>
            <a:rect l="l" t="t" r="r" b="b"/>
            <a:pathLst>
              <a:path w="349" h="298">
                <a:moveTo>
                  <a:pt x="471" y="9500"/>
                </a:moveTo>
                <a:cubicBezTo>
                  <a:pt x="509" y="9488"/>
                  <a:pt x="628" y="9416"/>
                  <a:pt x="670" y="9426"/>
                </a:cubicBezTo>
                <a:cubicBezTo>
                  <a:pt x="713" y="9448"/>
                  <a:pt x="724" y="9452"/>
                  <a:pt x="744" y="9475"/>
                </a:cubicBezTo>
                <a:cubicBezTo>
                  <a:pt x="701" y="9530"/>
                  <a:pt x="655" y="9566"/>
                  <a:pt x="620" y="9624"/>
                </a:cubicBezTo>
                <a:cubicBezTo>
                  <a:pt x="553" y="9738"/>
                  <a:pt x="664" y="9723"/>
                  <a:pt x="744" y="9723"/>
                </a:cubicBezTo>
                <a:cubicBezTo>
                  <a:pt x="786" y="9723"/>
                  <a:pt x="794" y="9723"/>
                  <a:pt x="819" y="97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21"/>
          <p:cNvSpPr/>
          <p:nvPr/>
        </p:nvSpPr>
        <p:spPr>
          <a:xfrm>
            <a:off x="374760" y="3732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42" y="10368"/>
                </a:moveTo>
                <a:lnTo>
                  <a:pt x="1042" y="1036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22"/>
          <p:cNvSpPr/>
          <p:nvPr/>
        </p:nvSpPr>
        <p:spPr>
          <a:xfrm>
            <a:off x="214200" y="3660840"/>
            <a:ext cx="142920" cy="117360"/>
          </a:xfrm>
          <a:custGeom>
            <a:avLst/>
            <a:gdLst/>
            <a:ahLst/>
            <a:rect l="l" t="t" r="r" b="b"/>
            <a:pathLst>
              <a:path w="398" h="323">
                <a:moveTo>
                  <a:pt x="595" y="10170"/>
                </a:moveTo>
                <a:cubicBezTo>
                  <a:pt x="683" y="10175"/>
                  <a:pt x="790" y="10159"/>
                  <a:pt x="819" y="10269"/>
                </a:cubicBezTo>
                <a:cubicBezTo>
                  <a:pt x="833" y="10321"/>
                  <a:pt x="775" y="10406"/>
                  <a:pt x="744" y="10443"/>
                </a:cubicBezTo>
                <a:cubicBezTo>
                  <a:pt x="736" y="10451"/>
                  <a:pt x="727" y="10460"/>
                  <a:pt x="719" y="10468"/>
                </a:cubicBezTo>
                <a:cubicBezTo>
                  <a:pt x="774" y="10500"/>
                  <a:pt x="826" y="10492"/>
                  <a:pt x="893" y="10492"/>
                </a:cubicBezTo>
                <a:cubicBezTo>
                  <a:pt x="943" y="10492"/>
                  <a:pt x="959" y="10492"/>
                  <a:pt x="992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23"/>
          <p:cNvSpPr/>
          <p:nvPr/>
        </p:nvSpPr>
        <p:spPr>
          <a:xfrm>
            <a:off x="169920" y="4152960"/>
            <a:ext cx="206280" cy="7920"/>
          </a:xfrm>
          <a:custGeom>
            <a:avLst/>
            <a:gdLst/>
            <a:ahLst/>
            <a:rect l="l" t="t" r="r" b="b"/>
            <a:pathLst>
              <a:path w="572" h="26">
                <a:moveTo>
                  <a:pt x="471" y="11534"/>
                </a:moveTo>
                <a:cubicBezTo>
                  <a:pt x="545" y="11534"/>
                  <a:pt x="603" y="11550"/>
                  <a:pt x="670" y="11559"/>
                </a:cubicBezTo>
                <a:cubicBezTo>
                  <a:pt x="789" y="11575"/>
                  <a:pt x="921" y="11559"/>
                  <a:pt x="1042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24"/>
          <p:cNvSpPr/>
          <p:nvPr/>
        </p:nvSpPr>
        <p:spPr>
          <a:xfrm>
            <a:off x="223920" y="4259160"/>
            <a:ext cx="98280" cy="9864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769" y="11832"/>
                </a:moveTo>
                <a:cubicBezTo>
                  <a:pt x="750" y="11860"/>
                  <a:pt x="632" y="11957"/>
                  <a:pt x="620" y="11981"/>
                </a:cubicBezTo>
                <a:cubicBezTo>
                  <a:pt x="577" y="12065"/>
                  <a:pt x="706" y="12070"/>
                  <a:pt x="744" y="12080"/>
                </a:cubicBezTo>
                <a:cubicBezTo>
                  <a:pt x="806" y="12096"/>
                  <a:pt x="832" y="12105"/>
                  <a:pt x="893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25"/>
          <p:cNvSpPr/>
          <p:nvPr/>
        </p:nvSpPr>
        <p:spPr>
          <a:xfrm>
            <a:off x="303120" y="4232160"/>
            <a:ext cx="36720" cy="260640"/>
          </a:xfrm>
          <a:custGeom>
            <a:avLst/>
            <a:gdLst/>
            <a:ahLst/>
            <a:rect l="l" t="t" r="r" b="b"/>
            <a:pathLst>
              <a:path w="101" h="721">
                <a:moveTo>
                  <a:pt x="943" y="11757"/>
                </a:moveTo>
                <a:cubicBezTo>
                  <a:pt x="943" y="11833"/>
                  <a:pt x="936" y="11909"/>
                  <a:pt x="918" y="11981"/>
                </a:cubicBezTo>
                <a:cubicBezTo>
                  <a:pt x="896" y="12067"/>
                  <a:pt x="847" y="12142"/>
                  <a:pt x="843" y="12229"/>
                </a:cubicBezTo>
                <a:cubicBezTo>
                  <a:pt x="841" y="12283"/>
                  <a:pt x="843" y="12495"/>
                  <a:pt x="843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26"/>
          <p:cNvSpPr/>
          <p:nvPr/>
        </p:nvSpPr>
        <p:spPr>
          <a:xfrm>
            <a:off x="71280" y="3902040"/>
            <a:ext cx="81000" cy="125280"/>
          </a:xfrm>
          <a:custGeom>
            <a:avLst/>
            <a:gdLst/>
            <a:ahLst/>
            <a:rect l="l" t="t" r="r" b="b"/>
            <a:pathLst>
              <a:path w="225" h="348">
                <a:moveTo>
                  <a:pt x="223" y="10840"/>
                </a:moveTo>
                <a:cubicBezTo>
                  <a:pt x="196" y="10910"/>
                  <a:pt x="198" y="10962"/>
                  <a:pt x="198" y="11038"/>
                </a:cubicBezTo>
                <a:cubicBezTo>
                  <a:pt x="198" y="11132"/>
                  <a:pt x="194" y="11157"/>
                  <a:pt x="298" y="11162"/>
                </a:cubicBezTo>
                <a:cubicBezTo>
                  <a:pt x="379" y="11166"/>
                  <a:pt x="373" y="11186"/>
                  <a:pt x="422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27"/>
          <p:cNvSpPr/>
          <p:nvPr/>
        </p:nvSpPr>
        <p:spPr>
          <a:xfrm>
            <a:off x="142920" y="3875040"/>
            <a:ext cx="9360" cy="285840"/>
          </a:xfrm>
          <a:custGeom>
            <a:avLst/>
            <a:gdLst/>
            <a:ahLst/>
            <a:rect l="l" t="t" r="r" b="b"/>
            <a:pathLst>
              <a:path w="26" h="795">
                <a:moveTo>
                  <a:pt x="422" y="10765"/>
                </a:moveTo>
                <a:cubicBezTo>
                  <a:pt x="422" y="10870"/>
                  <a:pt x="407" y="10966"/>
                  <a:pt x="397" y="11063"/>
                </a:cubicBezTo>
                <a:cubicBezTo>
                  <a:pt x="381" y="11213"/>
                  <a:pt x="401" y="11365"/>
                  <a:pt x="422" y="11509"/>
                </a:cubicBezTo>
                <a:cubicBezTo>
                  <a:pt x="422" y="11526"/>
                  <a:pt x="422" y="11542"/>
                  <a:pt x="422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28"/>
          <p:cNvSpPr/>
          <p:nvPr/>
        </p:nvSpPr>
        <p:spPr>
          <a:xfrm>
            <a:off x="1357200" y="3990960"/>
            <a:ext cx="98640" cy="17928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3770" y="11088"/>
                </a:moveTo>
                <a:cubicBezTo>
                  <a:pt x="3844" y="11088"/>
                  <a:pt x="3936" y="11065"/>
                  <a:pt x="3994" y="11112"/>
                </a:cubicBezTo>
                <a:cubicBezTo>
                  <a:pt x="4018" y="11137"/>
                  <a:pt x="4026" y="11146"/>
                  <a:pt x="4043" y="11162"/>
                </a:cubicBezTo>
                <a:cubicBezTo>
                  <a:pt x="3989" y="11216"/>
                  <a:pt x="3961" y="11215"/>
                  <a:pt x="3894" y="11237"/>
                </a:cubicBezTo>
                <a:cubicBezTo>
                  <a:pt x="3878" y="11245"/>
                  <a:pt x="3861" y="11253"/>
                  <a:pt x="3845" y="11261"/>
                </a:cubicBezTo>
                <a:cubicBezTo>
                  <a:pt x="3775" y="11227"/>
                  <a:pt x="3933" y="11256"/>
                  <a:pt x="3944" y="11261"/>
                </a:cubicBezTo>
                <a:cubicBezTo>
                  <a:pt x="3962" y="11268"/>
                  <a:pt x="4038" y="11343"/>
                  <a:pt x="4043" y="11361"/>
                </a:cubicBezTo>
                <a:cubicBezTo>
                  <a:pt x="4064" y="11435"/>
                  <a:pt x="4041" y="11523"/>
                  <a:pt x="3969" y="11559"/>
                </a:cubicBezTo>
                <a:cubicBezTo>
                  <a:pt x="3909" y="11589"/>
                  <a:pt x="3844" y="11602"/>
                  <a:pt x="3795" y="11559"/>
                </a:cubicBezTo>
                <a:cubicBezTo>
                  <a:pt x="3761" y="11525"/>
                  <a:pt x="3753" y="11504"/>
                  <a:pt x="3770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29"/>
          <p:cNvSpPr/>
          <p:nvPr/>
        </p:nvSpPr>
        <p:spPr>
          <a:xfrm>
            <a:off x="1517760" y="4017960"/>
            <a:ext cx="117360" cy="9360"/>
          </a:xfrm>
          <a:custGeom>
            <a:avLst/>
            <a:gdLst/>
            <a:ahLst/>
            <a:rect l="l" t="t" r="r" b="b"/>
            <a:pathLst>
              <a:path w="323" h="26">
                <a:moveTo>
                  <a:pt x="4217" y="11162"/>
                </a:moveTo>
                <a:cubicBezTo>
                  <a:pt x="4321" y="11162"/>
                  <a:pt x="4411" y="11182"/>
                  <a:pt x="4514" y="11187"/>
                </a:cubicBezTo>
                <a:cubicBezTo>
                  <a:pt x="4522" y="11187"/>
                  <a:pt x="4531" y="11187"/>
                  <a:pt x="4539" y="111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30"/>
          <p:cNvSpPr/>
          <p:nvPr/>
        </p:nvSpPr>
        <p:spPr>
          <a:xfrm>
            <a:off x="1554120" y="4027320"/>
            <a:ext cx="17640" cy="160560"/>
          </a:xfrm>
          <a:custGeom>
            <a:avLst/>
            <a:gdLst/>
            <a:ahLst/>
            <a:rect l="l" t="t" r="r" b="b"/>
            <a:pathLst>
              <a:path w="51" h="447">
                <a:moveTo>
                  <a:pt x="4366" y="11187"/>
                </a:moveTo>
                <a:cubicBezTo>
                  <a:pt x="4341" y="11279"/>
                  <a:pt x="4320" y="11364"/>
                  <a:pt x="4316" y="11460"/>
                </a:cubicBezTo>
                <a:cubicBezTo>
                  <a:pt x="4313" y="11526"/>
                  <a:pt x="4309" y="11581"/>
                  <a:pt x="4341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31"/>
          <p:cNvSpPr/>
          <p:nvPr/>
        </p:nvSpPr>
        <p:spPr>
          <a:xfrm>
            <a:off x="1625760" y="4027320"/>
            <a:ext cx="27000" cy="187560"/>
          </a:xfrm>
          <a:custGeom>
            <a:avLst/>
            <a:gdLst/>
            <a:ahLst/>
            <a:rect l="l" t="t" r="r" b="b"/>
            <a:pathLst>
              <a:path w="76" h="522">
                <a:moveTo>
                  <a:pt x="4514" y="11187"/>
                </a:moveTo>
                <a:cubicBezTo>
                  <a:pt x="4514" y="11267"/>
                  <a:pt x="4527" y="11344"/>
                  <a:pt x="4539" y="11410"/>
                </a:cubicBezTo>
                <a:cubicBezTo>
                  <a:pt x="4556" y="11501"/>
                  <a:pt x="4567" y="11603"/>
                  <a:pt x="4589" y="11683"/>
                </a:cubicBezTo>
                <a:cubicBezTo>
                  <a:pt x="4589" y="11691"/>
                  <a:pt x="4589" y="11700"/>
                  <a:pt x="4589" y="117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32"/>
          <p:cNvSpPr/>
          <p:nvPr/>
        </p:nvSpPr>
        <p:spPr>
          <a:xfrm>
            <a:off x="1411200" y="4187880"/>
            <a:ext cx="241560" cy="9360"/>
          </a:xfrm>
          <a:custGeom>
            <a:avLst/>
            <a:gdLst/>
            <a:ahLst/>
            <a:rect l="l" t="t" r="r" b="b"/>
            <a:pathLst>
              <a:path w="671" h="26">
                <a:moveTo>
                  <a:pt x="3919" y="11658"/>
                </a:moveTo>
                <a:cubicBezTo>
                  <a:pt x="4004" y="11649"/>
                  <a:pt x="4079" y="11633"/>
                  <a:pt x="4167" y="11633"/>
                </a:cubicBezTo>
                <a:cubicBezTo>
                  <a:pt x="4308" y="11633"/>
                  <a:pt x="4448" y="11633"/>
                  <a:pt x="4589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33"/>
          <p:cNvSpPr/>
          <p:nvPr/>
        </p:nvSpPr>
        <p:spPr>
          <a:xfrm>
            <a:off x="1509840" y="4241880"/>
            <a:ext cx="1062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4316" y="11782"/>
                </a:moveTo>
                <a:cubicBezTo>
                  <a:pt x="4305" y="11798"/>
                  <a:pt x="4199" y="11905"/>
                  <a:pt x="4192" y="11931"/>
                </a:cubicBezTo>
                <a:cubicBezTo>
                  <a:pt x="4166" y="12023"/>
                  <a:pt x="4265" y="11999"/>
                  <a:pt x="4316" y="12030"/>
                </a:cubicBezTo>
                <a:cubicBezTo>
                  <a:pt x="4381" y="12070"/>
                  <a:pt x="4412" y="12073"/>
                  <a:pt x="4490" y="120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34"/>
          <p:cNvSpPr/>
          <p:nvPr/>
        </p:nvSpPr>
        <p:spPr>
          <a:xfrm>
            <a:off x="1633680" y="4241880"/>
            <a:ext cx="9360" cy="285840"/>
          </a:xfrm>
          <a:custGeom>
            <a:avLst/>
            <a:gdLst/>
            <a:ahLst/>
            <a:rect l="l" t="t" r="r" b="b"/>
            <a:pathLst>
              <a:path w="26" h="795">
                <a:moveTo>
                  <a:pt x="4564" y="11782"/>
                </a:moveTo>
                <a:cubicBezTo>
                  <a:pt x="4545" y="11890"/>
                  <a:pt x="4539" y="11972"/>
                  <a:pt x="4539" y="12080"/>
                </a:cubicBezTo>
                <a:cubicBezTo>
                  <a:pt x="4539" y="12118"/>
                  <a:pt x="4519" y="12577"/>
                  <a:pt x="4564" y="12576"/>
                </a:cubicBezTo>
                <a:cubicBezTo>
                  <a:pt x="4564" y="12568"/>
                  <a:pt x="4564" y="12559"/>
                  <a:pt x="4564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35"/>
          <p:cNvSpPr/>
          <p:nvPr/>
        </p:nvSpPr>
        <p:spPr>
          <a:xfrm>
            <a:off x="527040" y="4786200"/>
            <a:ext cx="135000" cy="1800"/>
          </a:xfrm>
          <a:custGeom>
            <a:avLst/>
            <a:gdLst/>
            <a:ahLst/>
            <a:rect l="l" t="t" r="r" b="b"/>
            <a:pathLst>
              <a:path w="374" h="1">
                <a:moveTo>
                  <a:pt x="1463" y="13295"/>
                </a:moveTo>
                <a:cubicBezTo>
                  <a:pt x="1587" y="13295"/>
                  <a:pt x="1712" y="13295"/>
                  <a:pt x="1836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36"/>
          <p:cNvSpPr/>
          <p:nvPr/>
        </p:nvSpPr>
        <p:spPr>
          <a:xfrm>
            <a:off x="588960" y="4813200"/>
            <a:ext cx="936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1662" y="13370"/>
                </a:moveTo>
                <a:cubicBezTo>
                  <a:pt x="1655" y="13464"/>
                  <a:pt x="1617" y="13571"/>
                  <a:pt x="1637" y="13667"/>
                </a:cubicBezTo>
                <a:cubicBezTo>
                  <a:pt x="1650" y="13730"/>
                  <a:pt x="1662" y="13773"/>
                  <a:pt x="1662" y="138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37"/>
          <p:cNvSpPr/>
          <p:nvPr/>
        </p:nvSpPr>
        <p:spPr>
          <a:xfrm>
            <a:off x="669960" y="4795920"/>
            <a:ext cx="17280" cy="231840"/>
          </a:xfrm>
          <a:custGeom>
            <a:avLst/>
            <a:gdLst/>
            <a:ahLst/>
            <a:rect l="l" t="t" r="r" b="b"/>
            <a:pathLst>
              <a:path w="51" h="646">
                <a:moveTo>
                  <a:pt x="1885" y="13320"/>
                </a:moveTo>
                <a:cubicBezTo>
                  <a:pt x="1885" y="13395"/>
                  <a:pt x="1853" y="13525"/>
                  <a:pt x="1860" y="13593"/>
                </a:cubicBezTo>
                <a:cubicBezTo>
                  <a:pt x="1866" y="13651"/>
                  <a:pt x="1870" y="13758"/>
                  <a:pt x="1885" y="13816"/>
                </a:cubicBezTo>
                <a:cubicBezTo>
                  <a:pt x="1916" y="13879"/>
                  <a:pt x="1925" y="13910"/>
                  <a:pt x="1910" y="139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38"/>
          <p:cNvSpPr/>
          <p:nvPr/>
        </p:nvSpPr>
        <p:spPr>
          <a:xfrm>
            <a:off x="554040" y="4973760"/>
            <a:ext cx="268200" cy="190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1538" y="13816"/>
                </a:moveTo>
                <a:cubicBezTo>
                  <a:pt x="1619" y="13838"/>
                  <a:pt x="1678" y="13841"/>
                  <a:pt x="1761" y="13841"/>
                </a:cubicBezTo>
                <a:cubicBezTo>
                  <a:pt x="1860" y="13841"/>
                  <a:pt x="1939" y="13861"/>
                  <a:pt x="2034" y="13866"/>
                </a:cubicBezTo>
                <a:cubicBezTo>
                  <a:pt x="2116" y="13870"/>
                  <a:pt x="2200" y="13866"/>
                  <a:pt x="2282" y="138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39"/>
          <p:cNvSpPr/>
          <p:nvPr/>
        </p:nvSpPr>
        <p:spPr>
          <a:xfrm>
            <a:off x="642960" y="5062680"/>
            <a:ext cx="125280" cy="18864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786" y="14064"/>
                </a:moveTo>
                <a:cubicBezTo>
                  <a:pt x="1842" y="14086"/>
                  <a:pt x="1913" y="14038"/>
                  <a:pt x="1984" y="14064"/>
                </a:cubicBezTo>
                <a:cubicBezTo>
                  <a:pt x="2038" y="14084"/>
                  <a:pt x="2068" y="14144"/>
                  <a:pt x="2034" y="14188"/>
                </a:cubicBezTo>
                <a:cubicBezTo>
                  <a:pt x="1982" y="14256"/>
                  <a:pt x="1915" y="14299"/>
                  <a:pt x="1860" y="14362"/>
                </a:cubicBezTo>
                <a:cubicBezTo>
                  <a:pt x="1811" y="14417"/>
                  <a:pt x="1792" y="14437"/>
                  <a:pt x="1836" y="14511"/>
                </a:cubicBezTo>
                <a:cubicBezTo>
                  <a:pt x="1869" y="14566"/>
                  <a:pt x="1925" y="14582"/>
                  <a:pt x="1984" y="14585"/>
                </a:cubicBezTo>
                <a:cubicBezTo>
                  <a:pt x="2051" y="14585"/>
                  <a:pt x="2085" y="14581"/>
                  <a:pt x="2133" y="145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40"/>
          <p:cNvSpPr/>
          <p:nvPr/>
        </p:nvSpPr>
        <p:spPr>
          <a:xfrm>
            <a:off x="911160" y="5027760"/>
            <a:ext cx="115920" cy="17280"/>
          </a:xfrm>
          <a:custGeom>
            <a:avLst/>
            <a:gdLst/>
            <a:ahLst/>
            <a:rect l="l" t="t" r="r" b="b"/>
            <a:pathLst>
              <a:path w="324" h="51">
                <a:moveTo>
                  <a:pt x="2530" y="13965"/>
                </a:moveTo>
                <a:cubicBezTo>
                  <a:pt x="2644" y="13972"/>
                  <a:pt x="2719" y="13993"/>
                  <a:pt x="2828" y="14015"/>
                </a:cubicBezTo>
                <a:cubicBezTo>
                  <a:pt x="2836" y="14015"/>
                  <a:pt x="2845" y="14015"/>
                  <a:pt x="2853" y="140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41"/>
          <p:cNvSpPr/>
          <p:nvPr/>
        </p:nvSpPr>
        <p:spPr>
          <a:xfrm>
            <a:off x="1125360" y="4830840"/>
            <a:ext cx="152640" cy="19080"/>
          </a:xfrm>
          <a:custGeom>
            <a:avLst/>
            <a:gdLst/>
            <a:ahLst/>
            <a:rect l="l" t="t" r="r" b="b"/>
            <a:pathLst>
              <a:path w="423" h="51">
                <a:moveTo>
                  <a:pt x="3125" y="13469"/>
                </a:moveTo>
                <a:cubicBezTo>
                  <a:pt x="3206" y="13447"/>
                  <a:pt x="3289" y="13423"/>
                  <a:pt x="3373" y="13419"/>
                </a:cubicBezTo>
                <a:cubicBezTo>
                  <a:pt x="3431" y="13417"/>
                  <a:pt x="3489" y="13419"/>
                  <a:pt x="3547" y="134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42"/>
          <p:cNvSpPr/>
          <p:nvPr/>
        </p:nvSpPr>
        <p:spPr>
          <a:xfrm>
            <a:off x="1197000" y="4884840"/>
            <a:ext cx="936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3349" y="13568"/>
                </a:moveTo>
                <a:cubicBezTo>
                  <a:pt x="3344" y="13681"/>
                  <a:pt x="3324" y="13780"/>
                  <a:pt x="3324" y="13891"/>
                </a:cubicBezTo>
                <a:cubicBezTo>
                  <a:pt x="3324" y="13958"/>
                  <a:pt x="3328" y="13991"/>
                  <a:pt x="3349" y="140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43"/>
          <p:cNvSpPr/>
          <p:nvPr/>
        </p:nvSpPr>
        <p:spPr>
          <a:xfrm>
            <a:off x="1276200" y="4830840"/>
            <a:ext cx="972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3547" y="13444"/>
                </a:moveTo>
                <a:cubicBezTo>
                  <a:pt x="3605" y="13425"/>
                  <a:pt x="3572" y="13540"/>
                  <a:pt x="3572" y="13618"/>
                </a:cubicBezTo>
                <a:cubicBezTo>
                  <a:pt x="3572" y="13725"/>
                  <a:pt x="3572" y="13833"/>
                  <a:pt x="3572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44"/>
          <p:cNvSpPr/>
          <p:nvPr/>
        </p:nvSpPr>
        <p:spPr>
          <a:xfrm>
            <a:off x="1177920" y="5072040"/>
            <a:ext cx="206280" cy="9720"/>
          </a:xfrm>
          <a:custGeom>
            <a:avLst/>
            <a:gdLst/>
            <a:ahLst/>
            <a:rect l="l" t="t" r="r" b="b"/>
            <a:pathLst>
              <a:path w="572" h="26">
                <a:moveTo>
                  <a:pt x="3274" y="14114"/>
                </a:moveTo>
                <a:cubicBezTo>
                  <a:pt x="3412" y="14094"/>
                  <a:pt x="3532" y="14089"/>
                  <a:pt x="3671" y="14089"/>
                </a:cubicBezTo>
                <a:cubicBezTo>
                  <a:pt x="3729" y="14089"/>
                  <a:pt x="3787" y="14089"/>
                  <a:pt x="3845" y="140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45"/>
          <p:cNvSpPr/>
          <p:nvPr/>
        </p:nvSpPr>
        <p:spPr>
          <a:xfrm>
            <a:off x="1231920" y="5153040"/>
            <a:ext cx="142920" cy="20484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3423" y="14312"/>
                </a:moveTo>
                <a:cubicBezTo>
                  <a:pt x="3478" y="14340"/>
                  <a:pt x="3577" y="14352"/>
                  <a:pt x="3646" y="14362"/>
                </a:cubicBezTo>
                <a:cubicBezTo>
                  <a:pt x="3709" y="14371"/>
                  <a:pt x="3815" y="14391"/>
                  <a:pt x="3746" y="14486"/>
                </a:cubicBezTo>
                <a:cubicBezTo>
                  <a:pt x="3704" y="14543"/>
                  <a:pt x="3477" y="14536"/>
                  <a:pt x="3547" y="14536"/>
                </a:cubicBezTo>
                <a:cubicBezTo>
                  <a:pt x="3658" y="14536"/>
                  <a:pt x="3728" y="14562"/>
                  <a:pt x="3795" y="14635"/>
                </a:cubicBezTo>
                <a:cubicBezTo>
                  <a:pt x="3839" y="14683"/>
                  <a:pt x="3833" y="14761"/>
                  <a:pt x="3795" y="14808"/>
                </a:cubicBezTo>
                <a:cubicBezTo>
                  <a:pt x="3759" y="14852"/>
                  <a:pt x="3682" y="14912"/>
                  <a:pt x="3621" y="14883"/>
                </a:cubicBezTo>
                <a:cubicBezTo>
                  <a:pt x="3548" y="14848"/>
                  <a:pt x="3536" y="14832"/>
                  <a:pt x="3448" y="148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46"/>
          <p:cNvSpPr/>
          <p:nvPr/>
        </p:nvSpPr>
        <p:spPr>
          <a:xfrm>
            <a:off x="588960" y="5099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37" y="14163"/>
                </a:moveTo>
                <a:lnTo>
                  <a:pt x="1637" y="14163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47"/>
          <p:cNvSpPr/>
          <p:nvPr/>
        </p:nvSpPr>
        <p:spPr>
          <a:xfrm>
            <a:off x="401760" y="4973760"/>
            <a:ext cx="108000" cy="223560"/>
          </a:xfrm>
          <a:custGeom>
            <a:avLst/>
            <a:gdLst/>
            <a:ahLst/>
            <a:rect l="l" t="t" r="r" b="b"/>
            <a:pathLst>
              <a:path w="299" h="621">
                <a:moveTo>
                  <a:pt x="1191" y="13841"/>
                </a:moveTo>
                <a:cubicBezTo>
                  <a:pt x="1272" y="13821"/>
                  <a:pt x="1279" y="13832"/>
                  <a:pt x="1339" y="13891"/>
                </a:cubicBezTo>
                <a:cubicBezTo>
                  <a:pt x="1373" y="13925"/>
                  <a:pt x="1434" y="13957"/>
                  <a:pt x="1414" y="14015"/>
                </a:cubicBezTo>
                <a:cubicBezTo>
                  <a:pt x="1401" y="14054"/>
                  <a:pt x="1321" y="14097"/>
                  <a:pt x="1290" y="14114"/>
                </a:cubicBezTo>
                <a:cubicBezTo>
                  <a:pt x="1273" y="14122"/>
                  <a:pt x="1257" y="14131"/>
                  <a:pt x="1240" y="14139"/>
                </a:cubicBezTo>
                <a:cubicBezTo>
                  <a:pt x="1283" y="14180"/>
                  <a:pt x="1311" y="14210"/>
                  <a:pt x="1339" y="14263"/>
                </a:cubicBezTo>
                <a:cubicBezTo>
                  <a:pt x="1377" y="14335"/>
                  <a:pt x="1369" y="14358"/>
                  <a:pt x="1315" y="14412"/>
                </a:cubicBezTo>
                <a:cubicBezTo>
                  <a:pt x="1272" y="14455"/>
                  <a:pt x="1184" y="14397"/>
                  <a:pt x="1141" y="14362"/>
                </a:cubicBezTo>
                <a:cubicBezTo>
                  <a:pt x="1107" y="14328"/>
                  <a:pt x="1099" y="14307"/>
                  <a:pt x="1116" y="142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48"/>
          <p:cNvSpPr/>
          <p:nvPr/>
        </p:nvSpPr>
        <p:spPr>
          <a:xfrm>
            <a:off x="419040" y="4776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66" y="13271"/>
                </a:moveTo>
                <a:lnTo>
                  <a:pt x="1166" y="13271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49"/>
          <p:cNvSpPr/>
          <p:nvPr/>
        </p:nvSpPr>
        <p:spPr>
          <a:xfrm>
            <a:off x="276120" y="4616280"/>
            <a:ext cx="10008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843" y="12849"/>
                </a:moveTo>
                <a:cubicBezTo>
                  <a:pt x="907" y="12823"/>
                  <a:pt x="1009" y="12863"/>
                  <a:pt x="1042" y="12948"/>
                </a:cubicBezTo>
                <a:cubicBezTo>
                  <a:pt x="1071" y="13022"/>
                  <a:pt x="991" y="13062"/>
                  <a:pt x="943" y="13072"/>
                </a:cubicBezTo>
                <a:cubicBezTo>
                  <a:pt x="926" y="13072"/>
                  <a:pt x="910" y="13072"/>
                  <a:pt x="893" y="13072"/>
                </a:cubicBezTo>
                <a:cubicBezTo>
                  <a:pt x="928" y="13125"/>
                  <a:pt x="946" y="13174"/>
                  <a:pt x="992" y="13221"/>
                </a:cubicBezTo>
                <a:cubicBezTo>
                  <a:pt x="1044" y="13274"/>
                  <a:pt x="1014" y="13349"/>
                  <a:pt x="943" y="13370"/>
                </a:cubicBezTo>
                <a:cubicBezTo>
                  <a:pt x="920" y="13377"/>
                  <a:pt x="783" y="13331"/>
                  <a:pt x="769" y="13320"/>
                </a:cubicBezTo>
                <a:cubicBezTo>
                  <a:pt x="769" y="13312"/>
                  <a:pt x="769" y="13303"/>
                  <a:pt x="769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Find the six trig functions of        t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</a:rPr>
              <a:t>5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3" name="Ink 5"/>
          <p:cNvSpPr/>
          <p:nvPr/>
        </p:nvSpPr>
        <p:spPr>
          <a:xfrm>
            <a:off x="3554280" y="1820880"/>
            <a:ext cx="1446480" cy="635040"/>
          </a:xfrm>
          <a:custGeom>
            <a:avLst/>
            <a:gdLst/>
            <a:ahLst/>
            <a:rect l="l" t="t" r="r" b="b"/>
            <a:pathLst>
              <a:path w="4020" h="1762">
                <a:moveTo>
                  <a:pt x="10344" y="5110"/>
                </a:moveTo>
                <a:cubicBezTo>
                  <a:pt x="10260" y="5202"/>
                  <a:pt x="10251" y="5254"/>
                  <a:pt x="10195" y="5358"/>
                </a:cubicBezTo>
                <a:cubicBezTo>
                  <a:pt x="10118" y="5500"/>
                  <a:pt x="10041" y="5633"/>
                  <a:pt x="9971" y="5779"/>
                </a:cubicBezTo>
                <a:cubicBezTo>
                  <a:pt x="9911" y="5904"/>
                  <a:pt x="9877" y="6015"/>
                  <a:pt x="9872" y="6152"/>
                </a:cubicBezTo>
                <a:cubicBezTo>
                  <a:pt x="9868" y="6257"/>
                  <a:pt x="9848" y="6402"/>
                  <a:pt x="9897" y="6499"/>
                </a:cubicBezTo>
                <a:cubicBezTo>
                  <a:pt x="9930" y="6564"/>
                  <a:pt x="9967" y="6640"/>
                  <a:pt x="9996" y="6697"/>
                </a:cubicBezTo>
                <a:cubicBezTo>
                  <a:pt x="10034" y="6735"/>
                  <a:pt x="10052" y="6728"/>
                  <a:pt x="10071" y="6648"/>
                </a:cubicBezTo>
              </a:path>
              <a:path w="4020" h="1762">
                <a:moveTo>
                  <a:pt x="10319" y="5904"/>
                </a:moveTo>
                <a:cubicBezTo>
                  <a:pt x="10415" y="5904"/>
                  <a:pt x="10480" y="5894"/>
                  <a:pt x="10567" y="5879"/>
                </a:cubicBezTo>
                <a:cubicBezTo>
                  <a:pt x="10652" y="5865"/>
                  <a:pt x="10732" y="5873"/>
                  <a:pt x="10815" y="5854"/>
                </a:cubicBezTo>
                <a:cubicBezTo>
                  <a:pt x="10823" y="5854"/>
                  <a:pt x="10832" y="5854"/>
                  <a:pt x="10840" y="5854"/>
                </a:cubicBezTo>
              </a:path>
              <a:path w="4020" h="1762">
                <a:moveTo>
                  <a:pt x="11237" y="5383"/>
                </a:moveTo>
                <a:cubicBezTo>
                  <a:pt x="11237" y="5496"/>
                  <a:pt x="11242" y="5605"/>
                  <a:pt x="11261" y="5705"/>
                </a:cubicBezTo>
                <a:cubicBezTo>
                  <a:pt x="11282" y="5816"/>
                  <a:pt x="11254" y="5809"/>
                  <a:pt x="11237" y="5705"/>
                </a:cubicBezTo>
                <a:cubicBezTo>
                  <a:pt x="11223" y="5616"/>
                  <a:pt x="11233" y="5514"/>
                  <a:pt x="11261" y="5432"/>
                </a:cubicBezTo>
                <a:cubicBezTo>
                  <a:pt x="11291" y="5346"/>
                  <a:pt x="11307" y="5305"/>
                  <a:pt x="11385" y="5259"/>
                </a:cubicBezTo>
                <a:cubicBezTo>
                  <a:pt x="11487" y="5198"/>
                  <a:pt x="11602" y="5189"/>
                  <a:pt x="11708" y="5159"/>
                </a:cubicBezTo>
                <a:cubicBezTo>
                  <a:pt x="11770" y="5142"/>
                  <a:pt x="11814" y="5135"/>
                  <a:pt x="11881" y="5135"/>
                </a:cubicBezTo>
              </a:path>
              <a:path w="4020" h="1762">
                <a:moveTo>
                  <a:pt x="11534" y="5407"/>
                </a:moveTo>
                <a:cubicBezTo>
                  <a:pt x="11574" y="5427"/>
                  <a:pt x="11640" y="5407"/>
                  <a:pt x="11708" y="5407"/>
                </a:cubicBezTo>
                <a:cubicBezTo>
                  <a:pt x="11767" y="5407"/>
                  <a:pt x="11768" y="5418"/>
                  <a:pt x="11807" y="5457"/>
                </a:cubicBezTo>
                <a:cubicBezTo>
                  <a:pt x="11776" y="5496"/>
                  <a:pt x="11736" y="5570"/>
                  <a:pt x="11683" y="5581"/>
                </a:cubicBezTo>
                <a:cubicBezTo>
                  <a:pt x="11622" y="5581"/>
                  <a:pt x="11606" y="5572"/>
                  <a:pt x="11584" y="5606"/>
                </a:cubicBezTo>
                <a:cubicBezTo>
                  <a:pt x="11643" y="5642"/>
                  <a:pt x="11695" y="5608"/>
                  <a:pt x="11757" y="5631"/>
                </a:cubicBezTo>
                <a:cubicBezTo>
                  <a:pt x="11825" y="5656"/>
                  <a:pt x="11865" y="5680"/>
                  <a:pt x="11881" y="5730"/>
                </a:cubicBezTo>
                <a:cubicBezTo>
                  <a:pt x="11794" y="5817"/>
                  <a:pt x="11712" y="5804"/>
                  <a:pt x="11584" y="5804"/>
                </a:cubicBezTo>
                <a:cubicBezTo>
                  <a:pt x="11559" y="5804"/>
                  <a:pt x="11534" y="5804"/>
                  <a:pt x="11509" y="5804"/>
                </a:cubicBezTo>
              </a:path>
              <a:path w="4020" h="1762">
                <a:moveTo>
                  <a:pt x="11162" y="5928"/>
                </a:moveTo>
                <a:cubicBezTo>
                  <a:pt x="11309" y="5922"/>
                  <a:pt x="11436" y="5904"/>
                  <a:pt x="11584" y="5904"/>
                </a:cubicBezTo>
                <a:cubicBezTo>
                  <a:pt x="11682" y="5904"/>
                  <a:pt x="11767" y="5897"/>
                  <a:pt x="11857" y="5928"/>
                </a:cubicBezTo>
                <a:cubicBezTo>
                  <a:pt x="11882" y="5936"/>
                  <a:pt x="11906" y="5945"/>
                  <a:pt x="11931" y="5953"/>
                </a:cubicBezTo>
              </a:path>
              <a:path w="4020" h="1762">
                <a:moveTo>
                  <a:pt x="11336" y="6201"/>
                </a:moveTo>
                <a:cubicBezTo>
                  <a:pt x="11408" y="6250"/>
                  <a:pt x="11464" y="6224"/>
                  <a:pt x="11534" y="6251"/>
                </a:cubicBezTo>
                <a:cubicBezTo>
                  <a:pt x="11602" y="6277"/>
                  <a:pt x="11590" y="6351"/>
                  <a:pt x="11559" y="6400"/>
                </a:cubicBezTo>
                <a:cubicBezTo>
                  <a:pt x="11529" y="6448"/>
                  <a:pt x="11432" y="6477"/>
                  <a:pt x="11385" y="6524"/>
                </a:cubicBezTo>
                <a:cubicBezTo>
                  <a:pt x="11290" y="6619"/>
                  <a:pt x="11457" y="6577"/>
                  <a:pt x="11485" y="6573"/>
                </a:cubicBezTo>
                <a:cubicBezTo>
                  <a:pt x="11595" y="6559"/>
                  <a:pt x="11666" y="6539"/>
                  <a:pt x="11757" y="6474"/>
                </a:cubicBezTo>
              </a:path>
              <a:path w="4020" h="1762">
                <a:moveTo>
                  <a:pt x="12303" y="5854"/>
                </a:moveTo>
                <a:cubicBezTo>
                  <a:pt x="12303" y="5938"/>
                  <a:pt x="12284" y="5998"/>
                  <a:pt x="12278" y="6077"/>
                </a:cubicBezTo>
                <a:cubicBezTo>
                  <a:pt x="12278" y="6085"/>
                  <a:pt x="12278" y="6094"/>
                  <a:pt x="12278" y="6102"/>
                </a:cubicBezTo>
              </a:path>
              <a:path w="4020" h="1762">
                <a:moveTo>
                  <a:pt x="12898" y="5209"/>
                </a:moveTo>
                <a:cubicBezTo>
                  <a:pt x="12884" y="5350"/>
                  <a:pt x="12874" y="5468"/>
                  <a:pt x="12874" y="5606"/>
                </a:cubicBezTo>
                <a:cubicBezTo>
                  <a:pt x="12874" y="5655"/>
                  <a:pt x="12874" y="5672"/>
                  <a:pt x="12874" y="5705"/>
                </a:cubicBezTo>
              </a:path>
              <a:path w="4020" h="1762">
                <a:moveTo>
                  <a:pt x="12551" y="5829"/>
                </a:moveTo>
                <a:cubicBezTo>
                  <a:pt x="12764" y="5829"/>
                  <a:pt x="13015" y="5797"/>
                  <a:pt x="13221" y="5854"/>
                </a:cubicBezTo>
              </a:path>
              <a:path w="4020" h="1762">
                <a:moveTo>
                  <a:pt x="12799" y="6052"/>
                </a:moveTo>
                <a:cubicBezTo>
                  <a:pt x="12883" y="6052"/>
                  <a:pt x="13001" y="6028"/>
                  <a:pt x="13072" y="6077"/>
                </a:cubicBezTo>
                <a:cubicBezTo>
                  <a:pt x="13177" y="6149"/>
                  <a:pt x="13088" y="6209"/>
                  <a:pt x="13022" y="6251"/>
                </a:cubicBezTo>
                <a:cubicBezTo>
                  <a:pt x="12942" y="6301"/>
                  <a:pt x="12884" y="6358"/>
                  <a:pt x="12799" y="6400"/>
                </a:cubicBezTo>
                <a:cubicBezTo>
                  <a:pt x="12730" y="6434"/>
                  <a:pt x="12735" y="6428"/>
                  <a:pt x="12725" y="6499"/>
                </a:cubicBezTo>
                <a:cubicBezTo>
                  <a:pt x="12807" y="6569"/>
                  <a:pt x="12867" y="6573"/>
                  <a:pt x="12973" y="6548"/>
                </a:cubicBezTo>
                <a:cubicBezTo>
                  <a:pt x="13083" y="6522"/>
                  <a:pt x="13185" y="6443"/>
                  <a:pt x="13271" y="6375"/>
                </a:cubicBezTo>
              </a:path>
              <a:path w="4020" h="1762">
                <a:moveTo>
                  <a:pt x="13568" y="5060"/>
                </a:moveTo>
                <a:cubicBezTo>
                  <a:pt x="13659" y="5184"/>
                  <a:pt x="13773" y="5330"/>
                  <a:pt x="13816" y="5482"/>
                </a:cubicBezTo>
                <a:cubicBezTo>
                  <a:pt x="13862" y="5647"/>
                  <a:pt x="13887" y="5833"/>
                  <a:pt x="13891" y="6003"/>
                </a:cubicBezTo>
                <a:cubicBezTo>
                  <a:pt x="13894" y="6131"/>
                  <a:pt x="13872" y="6306"/>
                  <a:pt x="13816" y="6424"/>
                </a:cubicBezTo>
                <a:cubicBezTo>
                  <a:pt x="13744" y="6578"/>
                  <a:pt x="13674" y="6667"/>
                  <a:pt x="13543" y="6747"/>
                </a:cubicBezTo>
                <a:cubicBezTo>
                  <a:pt x="13484" y="6786"/>
                  <a:pt x="13472" y="6790"/>
                  <a:pt x="13444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Ink 6"/>
          <p:cNvSpPr/>
          <p:nvPr/>
        </p:nvSpPr>
        <p:spPr>
          <a:xfrm>
            <a:off x="571680" y="2660760"/>
            <a:ext cx="1090440" cy="54612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2183" y="7838"/>
                </a:moveTo>
                <a:cubicBezTo>
                  <a:pt x="2183" y="7746"/>
                  <a:pt x="2174" y="7717"/>
                  <a:pt x="2133" y="7640"/>
                </a:cubicBezTo>
                <a:cubicBezTo>
                  <a:pt x="2084" y="7548"/>
                  <a:pt x="2004" y="7544"/>
                  <a:pt x="1910" y="7590"/>
                </a:cubicBezTo>
                <a:cubicBezTo>
                  <a:pt x="1833" y="7628"/>
                  <a:pt x="1772" y="7679"/>
                  <a:pt x="1712" y="7739"/>
                </a:cubicBezTo>
                <a:cubicBezTo>
                  <a:pt x="1670" y="7781"/>
                  <a:pt x="1602" y="7825"/>
                  <a:pt x="1588" y="7888"/>
                </a:cubicBezTo>
                <a:cubicBezTo>
                  <a:pt x="1565" y="7989"/>
                  <a:pt x="1620" y="8019"/>
                  <a:pt x="1687" y="8086"/>
                </a:cubicBezTo>
                <a:cubicBezTo>
                  <a:pt x="1784" y="8183"/>
                  <a:pt x="1921" y="8254"/>
                  <a:pt x="2034" y="8334"/>
                </a:cubicBezTo>
                <a:cubicBezTo>
                  <a:pt x="2098" y="8379"/>
                  <a:pt x="2224" y="8483"/>
                  <a:pt x="2257" y="8558"/>
                </a:cubicBezTo>
                <a:cubicBezTo>
                  <a:pt x="2300" y="8654"/>
                  <a:pt x="2196" y="8699"/>
                  <a:pt x="2133" y="8731"/>
                </a:cubicBezTo>
                <a:cubicBezTo>
                  <a:pt x="2066" y="8765"/>
                  <a:pt x="1960" y="8772"/>
                  <a:pt x="1885" y="8756"/>
                </a:cubicBezTo>
                <a:cubicBezTo>
                  <a:pt x="1804" y="8739"/>
                  <a:pt x="1754" y="8722"/>
                  <a:pt x="1687" y="8682"/>
                </a:cubicBezTo>
                <a:cubicBezTo>
                  <a:pt x="1621" y="8643"/>
                  <a:pt x="1626" y="8642"/>
                  <a:pt x="1662" y="8582"/>
                </a:cubicBezTo>
              </a:path>
              <a:path w="3027" h="1514">
                <a:moveTo>
                  <a:pt x="2406" y="8409"/>
                </a:moveTo>
                <a:cubicBezTo>
                  <a:pt x="2438" y="8546"/>
                  <a:pt x="2443" y="8649"/>
                  <a:pt x="2456" y="8756"/>
                </a:cubicBezTo>
                <a:cubicBezTo>
                  <a:pt x="2456" y="8806"/>
                  <a:pt x="2456" y="8823"/>
                  <a:pt x="2456" y="8756"/>
                </a:cubicBezTo>
              </a:path>
              <a:path w="3027" h="1514">
                <a:moveTo>
                  <a:pt x="2505" y="8012"/>
                </a:moveTo>
                <a:cubicBezTo>
                  <a:pt x="2528" y="7989"/>
                  <a:pt x="2536" y="7985"/>
                  <a:pt x="2530" y="7962"/>
                </a:cubicBezTo>
              </a:path>
              <a:path w="3027" h="1514">
                <a:moveTo>
                  <a:pt x="2679" y="8582"/>
                </a:moveTo>
                <a:cubicBezTo>
                  <a:pt x="2687" y="8640"/>
                  <a:pt x="2696" y="8698"/>
                  <a:pt x="2704" y="8756"/>
                </a:cubicBezTo>
                <a:cubicBezTo>
                  <a:pt x="2704" y="8654"/>
                  <a:pt x="2693" y="8555"/>
                  <a:pt x="2729" y="8458"/>
                </a:cubicBezTo>
                <a:cubicBezTo>
                  <a:pt x="2742" y="8424"/>
                  <a:pt x="2835" y="8300"/>
                  <a:pt x="2877" y="8310"/>
                </a:cubicBezTo>
                <a:cubicBezTo>
                  <a:pt x="3010" y="8342"/>
                  <a:pt x="3030" y="8427"/>
                  <a:pt x="3076" y="8533"/>
                </a:cubicBezTo>
                <a:cubicBezTo>
                  <a:pt x="3108" y="8606"/>
                  <a:pt x="3099" y="8686"/>
                  <a:pt x="3125" y="8756"/>
                </a:cubicBezTo>
                <a:cubicBezTo>
                  <a:pt x="3148" y="8779"/>
                  <a:pt x="3156" y="8790"/>
                  <a:pt x="3150" y="8756"/>
                </a:cubicBezTo>
              </a:path>
              <a:path w="3027" h="1514">
                <a:moveTo>
                  <a:pt x="3746" y="7392"/>
                </a:moveTo>
                <a:cubicBezTo>
                  <a:pt x="3856" y="7404"/>
                  <a:pt x="3911" y="7403"/>
                  <a:pt x="4018" y="7392"/>
                </a:cubicBezTo>
              </a:path>
              <a:path w="3027" h="1514">
                <a:moveTo>
                  <a:pt x="3770" y="7466"/>
                </a:moveTo>
                <a:cubicBezTo>
                  <a:pt x="3706" y="7566"/>
                  <a:pt x="3637" y="7606"/>
                  <a:pt x="3671" y="7689"/>
                </a:cubicBezTo>
                <a:cubicBezTo>
                  <a:pt x="3730" y="7718"/>
                  <a:pt x="3742" y="7642"/>
                  <a:pt x="3820" y="7665"/>
                </a:cubicBezTo>
                <a:cubicBezTo>
                  <a:pt x="3893" y="7687"/>
                  <a:pt x="3896" y="7768"/>
                  <a:pt x="3919" y="7813"/>
                </a:cubicBezTo>
                <a:cubicBezTo>
                  <a:pt x="3949" y="7872"/>
                  <a:pt x="3962" y="7938"/>
                  <a:pt x="3894" y="7987"/>
                </a:cubicBezTo>
                <a:cubicBezTo>
                  <a:pt x="3831" y="8032"/>
                  <a:pt x="3798" y="8037"/>
                  <a:pt x="3721" y="8037"/>
                </a:cubicBezTo>
                <a:cubicBezTo>
                  <a:pt x="3605" y="8037"/>
                  <a:pt x="3653" y="7963"/>
                  <a:pt x="3696" y="7888"/>
                </a:cubicBezTo>
              </a:path>
              <a:path w="3027" h="1514">
                <a:moveTo>
                  <a:pt x="4217" y="7491"/>
                </a:moveTo>
                <a:cubicBezTo>
                  <a:pt x="4346" y="7491"/>
                  <a:pt x="4494" y="7511"/>
                  <a:pt x="4614" y="7466"/>
                </a:cubicBezTo>
              </a:path>
              <a:path w="3027" h="1514">
                <a:moveTo>
                  <a:pt x="4415" y="7466"/>
                </a:moveTo>
                <a:cubicBezTo>
                  <a:pt x="4396" y="7553"/>
                  <a:pt x="4331" y="7722"/>
                  <a:pt x="4341" y="7813"/>
                </a:cubicBezTo>
                <a:cubicBezTo>
                  <a:pt x="4347" y="7865"/>
                  <a:pt x="4359" y="7874"/>
                  <a:pt x="4390" y="7863"/>
                </a:cubicBezTo>
              </a:path>
              <a:path w="3027" h="1514">
                <a:moveTo>
                  <a:pt x="4564" y="7491"/>
                </a:moveTo>
                <a:cubicBezTo>
                  <a:pt x="4564" y="7665"/>
                  <a:pt x="4564" y="7838"/>
                  <a:pt x="4564" y="8012"/>
                </a:cubicBezTo>
              </a:path>
              <a:path w="3027" h="1514">
                <a:moveTo>
                  <a:pt x="3770" y="8111"/>
                </a:moveTo>
                <a:cubicBezTo>
                  <a:pt x="3892" y="8131"/>
                  <a:pt x="4042" y="8158"/>
                  <a:pt x="4167" y="8136"/>
                </a:cubicBezTo>
                <a:cubicBezTo>
                  <a:pt x="4264" y="8118"/>
                  <a:pt x="4361" y="8111"/>
                  <a:pt x="4465" y="8111"/>
                </a:cubicBezTo>
                <a:cubicBezTo>
                  <a:pt x="4514" y="8111"/>
                  <a:pt x="4531" y="8111"/>
                  <a:pt x="4564" y="8111"/>
                </a:cubicBezTo>
              </a:path>
              <a:path w="3027" h="1514">
                <a:moveTo>
                  <a:pt x="4167" y="8334"/>
                </a:moveTo>
                <a:cubicBezTo>
                  <a:pt x="4071" y="8473"/>
                  <a:pt x="3973" y="8540"/>
                  <a:pt x="4043" y="8706"/>
                </a:cubicBezTo>
                <a:cubicBezTo>
                  <a:pt x="4068" y="8764"/>
                  <a:pt x="4191" y="8789"/>
                  <a:pt x="4242" y="8781"/>
                </a:cubicBezTo>
                <a:cubicBezTo>
                  <a:pt x="4344" y="8765"/>
                  <a:pt x="4394" y="8745"/>
                  <a:pt x="4465" y="8682"/>
                </a:cubicBezTo>
                <a:cubicBezTo>
                  <a:pt x="4524" y="8629"/>
                  <a:pt x="4529" y="8627"/>
                  <a:pt x="4539" y="8558"/>
                </a:cubicBezTo>
                <a:cubicBezTo>
                  <a:pt x="4462" y="8511"/>
                  <a:pt x="4431" y="8547"/>
                  <a:pt x="4366" y="8607"/>
                </a:cubicBezTo>
                <a:cubicBezTo>
                  <a:pt x="4321" y="8649"/>
                  <a:pt x="4294" y="8699"/>
                  <a:pt x="4291" y="8756"/>
                </a:cubicBezTo>
                <a:cubicBezTo>
                  <a:pt x="4289" y="8795"/>
                  <a:pt x="4322" y="8889"/>
                  <a:pt x="4366" y="8905"/>
                </a:cubicBezTo>
                <a:cubicBezTo>
                  <a:pt x="4382" y="8905"/>
                  <a:pt x="4399" y="8905"/>
                  <a:pt x="4415" y="89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Ink 7"/>
          <p:cNvSpPr/>
          <p:nvPr/>
        </p:nvSpPr>
        <p:spPr>
          <a:xfrm>
            <a:off x="2062080" y="2946240"/>
            <a:ext cx="125640" cy="81000"/>
          </a:xfrm>
          <a:custGeom>
            <a:avLst/>
            <a:gdLst/>
            <a:ahLst/>
            <a:rect l="l" t="t" r="r" b="b"/>
            <a:pathLst>
              <a:path w="348" h="224">
                <a:moveTo>
                  <a:pt x="5755" y="8186"/>
                </a:moveTo>
                <a:cubicBezTo>
                  <a:pt x="5852" y="8206"/>
                  <a:pt x="5929" y="8210"/>
                  <a:pt x="6028" y="8210"/>
                </a:cubicBezTo>
                <a:cubicBezTo>
                  <a:pt x="6044" y="8210"/>
                  <a:pt x="6061" y="8210"/>
                  <a:pt x="6077" y="8210"/>
                </a:cubicBezTo>
              </a:path>
              <a:path w="348" h="224">
                <a:moveTo>
                  <a:pt x="5730" y="8334"/>
                </a:moveTo>
                <a:cubicBezTo>
                  <a:pt x="5802" y="8392"/>
                  <a:pt x="5844" y="8366"/>
                  <a:pt x="5928" y="8384"/>
                </a:cubicBezTo>
                <a:cubicBezTo>
                  <a:pt x="6001" y="8408"/>
                  <a:pt x="6025" y="8417"/>
                  <a:pt x="6077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Ink 8"/>
          <p:cNvSpPr/>
          <p:nvPr/>
        </p:nvSpPr>
        <p:spPr>
          <a:xfrm>
            <a:off x="2419200" y="2714760"/>
            <a:ext cx="349560" cy="563400"/>
          </a:xfrm>
          <a:custGeom>
            <a:avLst/>
            <a:gdLst/>
            <a:ahLst/>
            <a:rect l="l" t="t" r="r" b="b"/>
            <a:pathLst>
              <a:path w="968" h="1563">
                <a:moveTo>
                  <a:pt x="7119" y="7541"/>
                </a:moveTo>
                <a:cubicBezTo>
                  <a:pt x="7119" y="7739"/>
                  <a:pt x="7119" y="7938"/>
                  <a:pt x="7119" y="8136"/>
                </a:cubicBezTo>
              </a:path>
              <a:path w="968" h="1563">
                <a:moveTo>
                  <a:pt x="6722" y="8210"/>
                </a:moveTo>
                <a:cubicBezTo>
                  <a:pt x="6838" y="8242"/>
                  <a:pt x="6924" y="8214"/>
                  <a:pt x="7045" y="8210"/>
                </a:cubicBezTo>
                <a:cubicBezTo>
                  <a:pt x="7185" y="8205"/>
                  <a:pt x="7326" y="8210"/>
                  <a:pt x="7466" y="8210"/>
                </a:cubicBezTo>
              </a:path>
              <a:path w="968" h="1563">
                <a:moveTo>
                  <a:pt x="6995" y="8458"/>
                </a:moveTo>
                <a:cubicBezTo>
                  <a:pt x="7079" y="8448"/>
                  <a:pt x="7158" y="8421"/>
                  <a:pt x="7243" y="8409"/>
                </a:cubicBezTo>
                <a:cubicBezTo>
                  <a:pt x="7328" y="8397"/>
                  <a:pt x="7424" y="8469"/>
                  <a:pt x="7417" y="8558"/>
                </a:cubicBezTo>
                <a:cubicBezTo>
                  <a:pt x="7411" y="8632"/>
                  <a:pt x="7348" y="8761"/>
                  <a:pt x="7293" y="8806"/>
                </a:cubicBezTo>
                <a:cubicBezTo>
                  <a:pt x="7236" y="8852"/>
                  <a:pt x="7219" y="8898"/>
                  <a:pt x="7169" y="8954"/>
                </a:cubicBezTo>
                <a:cubicBezTo>
                  <a:pt x="7122" y="9006"/>
                  <a:pt x="7104" y="9009"/>
                  <a:pt x="7094" y="9079"/>
                </a:cubicBezTo>
                <a:cubicBezTo>
                  <a:pt x="7165" y="9120"/>
                  <a:pt x="7256" y="9103"/>
                  <a:pt x="7342" y="9103"/>
                </a:cubicBezTo>
                <a:cubicBezTo>
                  <a:pt x="7471" y="9103"/>
                  <a:pt x="7533" y="9094"/>
                  <a:pt x="7640" y="9029"/>
                </a:cubicBezTo>
                <a:cubicBezTo>
                  <a:pt x="7656" y="9021"/>
                  <a:pt x="7673" y="9012"/>
                  <a:pt x="7689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nk 9"/>
          <p:cNvSpPr/>
          <p:nvPr/>
        </p:nvSpPr>
        <p:spPr>
          <a:xfrm>
            <a:off x="4249800" y="3160800"/>
            <a:ext cx="1501560" cy="500040"/>
          </a:xfrm>
          <a:custGeom>
            <a:avLst/>
            <a:gdLst/>
            <a:ahLst/>
            <a:rect l="l" t="t" r="r" b="b"/>
            <a:pathLst>
              <a:path w="4168" h="1390">
                <a:moveTo>
                  <a:pt x="12526" y="8954"/>
                </a:moveTo>
                <a:cubicBezTo>
                  <a:pt x="12551" y="8979"/>
                  <a:pt x="12576" y="9004"/>
                  <a:pt x="12601" y="9029"/>
                </a:cubicBezTo>
                <a:cubicBezTo>
                  <a:pt x="12558" y="8944"/>
                  <a:pt x="12529" y="8868"/>
                  <a:pt x="12452" y="8806"/>
                </a:cubicBezTo>
                <a:cubicBezTo>
                  <a:pt x="12356" y="8730"/>
                  <a:pt x="12194" y="8858"/>
                  <a:pt x="12129" y="8905"/>
                </a:cubicBezTo>
                <a:cubicBezTo>
                  <a:pt x="11962" y="9027"/>
                  <a:pt x="11947" y="9204"/>
                  <a:pt x="11881" y="9376"/>
                </a:cubicBezTo>
                <a:cubicBezTo>
                  <a:pt x="11825" y="9522"/>
                  <a:pt x="11790" y="9592"/>
                  <a:pt x="11832" y="9748"/>
                </a:cubicBezTo>
                <a:cubicBezTo>
                  <a:pt x="11849" y="9811"/>
                  <a:pt x="11890" y="9916"/>
                  <a:pt x="11956" y="9947"/>
                </a:cubicBezTo>
                <a:cubicBezTo>
                  <a:pt x="12019" y="9976"/>
                  <a:pt x="12169" y="9982"/>
                  <a:pt x="12229" y="9947"/>
                </a:cubicBezTo>
                <a:cubicBezTo>
                  <a:pt x="12270" y="9914"/>
                  <a:pt x="12312" y="9880"/>
                  <a:pt x="12353" y="9847"/>
                </a:cubicBezTo>
              </a:path>
              <a:path w="4168" h="1390">
                <a:moveTo>
                  <a:pt x="12799" y="9426"/>
                </a:moveTo>
                <a:cubicBezTo>
                  <a:pt x="12749" y="9468"/>
                  <a:pt x="12617" y="9547"/>
                  <a:pt x="12626" y="9599"/>
                </a:cubicBezTo>
                <a:cubicBezTo>
                  <a:pt x="12647" y="9714"/>
                  <a:pt x="12735" y="9711"/>
                  <a:pt x="12799" y="9773"/>
                </a:cubicBezTo>
                <a:cubicBezTo>
                  <a:pt x="12870" y="9842"/>
                  <a:pt x="12963" y="9960"/>
                  <a:pt x="12923" y="10071"/>
                </a:cubicBezTo>
                <a:cubicBezTo>
                  <a:pt x="12881" y="10188"/>
                  <a:pt x="12701" y="10085"/>
                  <a:pt x="12650" y="10046"/>
                </a:cubicBezTo>
                <a:cubicBezTo>
                  <a:pt x="12602" y="10008"/>
                  <a:pt x="12587" y="9977"/>
                  <a:pt x="12576" y="9922"/>
                </a:cubicBezTo>
              </a:path>
              <a:path w="4168" h="1390">
                <a:moveTo>
                  <a:pt x="13469" y="9599"/>
                </a:moveTo>
                <a:cubicBezTo>
                  <a:pt x="13469" y="9616"/>
                  <a:pt x="13469" y="9632"/>
                  <a:pt x="13469" y="9649"/>
                </a:cubicBezTo>
                <a:cubicBezTo>
                  <a:pt x="13431" y="9611"/>
                  <a:pt x="13390" y="9577"/>
                  <a:pt x="13345" y="9550"/>
                </a:cubicBezTo>
                <a:cubicBezTo>
                  <a:pt x="13275" y="9508"/>
                  <a:pt x="13164" y="9552"/>
                  <a:pt x="13122" y="9624"/>
                </a:cubicBezTo>
                <a:cubicBezTo>
                  <a:pt x="13087" y="9684"/>
                  <a:pt x="13060" y="9854"/>
                  <a:pt x="13072" y="9922"/>
                </a:cubicBezTo>
                <a:cubicBezTo>
                  <a:pt x="13095" y="10047"/>
                  <a:pt x="13168" y="10073"/>
                  <a:pt x="13271" y="10120"/>
                </a:cubicBezTo>
                <a:cubicBezTo>
                  <a:pt x="13397" y="10177"/>
                  <a:pt x="13528" y="10100"/>
                  <a:pt x="13643" y="10046"/>
                </a:cubicBezTo>
              </a:path>
              <a:path w="4168" h="1390">
                <a:moveTo>
                  <a:pt x="14114" y="8830"/>
                </a:moveTo>
                <a:cubicBezTo>
                  <a:pt x="14261" y="8830"/>
                  <a:pt x="14393" y="8815"/>
                  <a:pt x="14536" y="8806"/>
                </a:cubicBezTo>
              </a:path>
              <a:path w="4168" h="1390">
                <a:moveTo>
                  <a:pt x="14089" y="8905"/>
                </a:moveTo>
                <a:cubicBezTo>
                  <a:pt x="14078" y="9030"/>
                  <a:pt x="14122" y="9037"/>
                  <a:pt x="14238" y="9103"/>
                </a:cubicBezTo>
                <a:cubicBezTo>
                  <a:pt x="14280" y="9127"/>
                  <a:pt x="14451" y="9193"/>
                  <a:pt x="14387" y="9277"/>
                </a:cubicBezTo>
                <a:cubicBezTo>
                  <a:pt x="14294" y="9399"/>
                  <a:pt x="14207" y="9369"/>
                  <a:pt x="14089" y="9351"/>
                </a:cubicBezTo>
                <a:cubicBezTo>
                  <a:pt x="13998" y="9337"/>
                  <a:pt x="14038" y="9256"/>
                  <a:pt x="14064" y="9178"/>
                </a:cubicBezTo>
              </a:path>
              <a:path w="4168" h="1390">
                <a:moveTo>
                  <a:pt x="14610" y="8830"/>
                </a:moveTo>
                <a:cubicBezTo>
                  <a:pt x="14771" y="8837"/>
                  <a:pt x="14919" y="8855"/>
                  <a:pt x="15081" y="8855"/>
                </a:cubicBezTo>
              </a:path>
              <a:path w="4168" h="1390">
                <a:moveTo>
                  <a:pt x="14784" y="8954"/>
                </a:moveTo>
                <a:cubicBezTo>
                  <a:pt x="14738" y="9046"/>
                  <a:pt x="14656" y="9226"/>
                  <a:pt x="14759" y="9227"/>
                </a:cubicBezTo>
                <a:cubicBezTo>
                  <a:pt x="14767" y="9219"/>
                  <a:pt x="14776" y="9211"/>
                  <a:pt x="14784" y="9203"/>
                </a:cubicBezTo>
              </a:path>
              <a:path w="4168" h="1390">
                <a:moveTo>
                  <a:pt x="14957" y="8806"/>
                </a:moveTo>
                <a:cubicBezTo>
                  <a:pt x="14977" y="8947"/>
                  <a:pt x="14979" y="9095"/>
                  <a:pt x="15032" y="9227"/>
                </a:cubicBezTo>
                <a:cubicBezTo>
                  <a:pt x="15052" y="9268"/>
                  <a:pt x="15060" y="9274"/>
                  <a:pt x="15056" y="9302"/>
                </a:cubicBezTo>
              </a:path>
              <a:path w="4168" h="1390">
                <a:moveTo>
                  <a:pt x="14188" y="9401"/>
                </a:moveTo>
                <a:cubicBezTo>
                  <a:pt x="14318" y="9488"/>
                  <a:pt x="14497" y="9451"/>
                  <a:pt x="14660" y="9451"/>
                </a:cubicBezTo>
                <a:cubicBezTo>
                  <a:pt x="14801" y="9451"/>
                  <a:pt x="14919" y="9415"/>
                  <a:pt x="15056" y="9401"/>
                </a:cubicBezTo>
              </a:path>
              <a:path w="4168" h="1390">
                <a:moveTo>
                  <a:pt x="14610" y="9798"/>
                </a:moveTo>
                <a:cubicBezTo>
                  <a:pt x="14592" y="9875"/>
                  <a:pt x="14494" y="10088"/>
                  <a:pt x="14635" y="10145"/>
                </a:cubicBezTo>
                <a:cubicBezTo>
                  <a:pt x="14740" y="10188"/>
                  <a:pt x="14928" y="10192"/>
                  <a:pt x="15032" y="10145"/>
                </a:cubicBezTo>
                <a:cubicBezTo>
                  <a:pt x="15118" y="10106"/>
                  <a:pt x="15152" y="10038"/>
                  <a:pt x="15205" y="9971"/>
                </a:cubicBezTo>
                <a:cubicBezTo>
                  <a:pt x="15151" y="9918"/>
                  <a:pt x="15111" y="9925"/>
                  <a:pt x="15032" y="9947"/>
                </a:cubicBezTo>
                <a:cubicBezTo>
                  <a:pt x="14939" y="9973"/>
                  <a:pt x="14871" y="10034"/>
                  <a:pt x="14858" y="10120"/>
                </a:cubicBezTo>
                <a:cubicBezTo>
                  <a:pt x="14904" y="10148"/>
                  <a:pt x="14972" y="10158"/>
                  <a:pt x="15032" y="10145"/>
                </a:cubicBezTo>
                <a:cubicBezTo>
                  <a:pt x="15057" y="10137"/>
                  <a:pt x="15081" y="10128"/>
                  <a:pt x="15106" y="10120"/>
                </a:cubicBezTo>
              </a:path>
              <a:path w="4168" h="1390">
                <a:moveTo>
                  <a:pt x="15528" y="9426"/>
                </a:moveTo>
                <a:cubicBezTo>
                  <a:pt x="15653" y="9426"/>
                  <a:pt x="15732" y="9427"/>
                  <a:pt x="15850" y="9451"/>
                </a:cubicBezTo>
              </a:path>
              <a:path w="4168" h="1390">
                <a:moveTo>
                  <a:pt x="15776" y="9823"/>
                </a:moveTo>
                <a:cubicBezTo>
                  <a:pt x="15842" y="9831"/>
                  <a:pt x="15908" y="9839"/>
                  <a:pt x="15974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Ink 10"/>
          <p:cNvSpPr/>
          <p:nvPr/>
        </p:nvSpPr>
        <p:spPr>
          <a:xfrm>
            <a:off x="4456080" y="4027320"/>
            <a:ext cx="1295280" cy="615960"/>
          </a:xfrm>
          <a:custGeom>
            <a:avLst/>
            <a:gdLst/>
            <a:ahLst/>
            <a:rect l="l" t="t" r="r" b="b"/>
            <a:pathLst>
              <a:path w="3597" h="1712">
                <a:moveTo>
                  <a:pt x="12849" y="11435"/>
                </a:moveTo>
                <a:cubicBezTo>
                  <a:pt x="12756" y="11435"/>
                  <a:pt x="12636" y="11404"/>
                  <a:pt x="12551" y="11410"/>
                </a:cubicBezTo>
                <a:cubicBezTo>
                  <a:pt x="12492" y="11414"/>
                  <a:pt x="12423" y="11432"/>
                  <a:pt x="12378" y="11460"/>
                </a:cubicBezTo>
                <a:cubicBezTo>
                  <a:pt x="12391" y="11568"/>
                  <a:pt x="12449" y="11584"/>
                  <a:pt x="12526" y="11658"/>
                </a:cubicBezTo>
                <a:cubicBezTo>
                  <a:pt x="12638" y="11765"/>
                  <a:pt x="12752" y="11859"/>
                  <a:pt x="12849" y="11981"/>
                </a:cubicBezTo>
                <a:cubicBezTo>
                  <a:pt x="12916" y="12065"/>
                  <a:pt x="12932" y="12234"/>
                  <a:pt x="12874" y="12328"/>
                </a:cubicBezTo>
                <a:cubicBezTo>
                  <a:pt x="12831" y="12398"/>
                  <a:pt x="12700" y="12392"/>
                  <a:pt x="12626" y="12378"/>
                </a:cubicBezTo>
                <a:cubicBezTo>
                  <a:pt x="12518" y="12357"/>
                  <a:pt x="12458" y="12295"/>
                  <a:pt x="12402" y="12204"/>
                </a:cubicBezTo>
                <a:cubicBezTo>
                  <a:pt x="12379" y="12156"/>
                  <a:pt x="12371" y="12141"/>
                  <a:pt x="12378" y="12105"/>
                </a:cubicBezTo>
              </a:path>
              <a:path w="3597" h="1712">
                <a:moveTo>
                  <a:pt x="12923" y="12005"/>
                </a:moveTo>
                <a:cubicBezTo>
                  <a:pt x="13062" y="11994"/>
                  <a:pt x="13282" y="12065"/>
                  <a:pt x="13320" y="11931"/>
                </a:cubicBezTo>
                <a:cubicBezTo>
                  <a:pt x="13320" y="11914"/>
                  <a:pt x="13320" y="11898"/>
                  <a:pt x="13320" y="11881"/>
                </a:cubicBezTo>
                <a:cubicBezTo>
                  <a:pt x="13272" y="11822"/>
                  <a:pt x="13221" y="11843"/>
                  <a:pt x="13146" y="11906"/>
                </a:cubicBezTo>
                <a:cubicBezTo>
                  <a:pt x="13066" y="11974"/>
                  <a:pt x="12931" y="12101"/>
                  <a:pt x="12923" y="12204"/>
                </a:cubicBezTo>
                <a:cubicBezTo>
                  <a:pt x="12916" y="12302"/>
                  <a:pt x="12997" y="12385"/>
                  <a:pt x="13072" y="12427"/>
                </a:cubicBezTo>
                <a:cubicBezTo>
                  <a:pt x="13163" y="12477"/>
                  <a:pt x="13219" y="12453"/>
                  <a:pt x="13295" y="12402"/>
                </a:cubicBezTo>
              </a:path>
              <a:path w="3597" h="1712">
                <a:moveTo>
                  <a:pt x="13667" y="11931"/>
                </a:moveTo>
                <a:cubicBezTo>
                  <a:pt x="13711" y="11975"/>
                  <a:pt x="13717" y="12005"/>
                  <a:pt x="13767" y="11981"/>
                </a:cubicBezTo>
                <a:cubicBezTo>
                  <a:pt x="13684" y="11915"/>
                  <a:pt x="13641" y="11916"/>
                  <a:pt x="13543" y="11981"/>
                </a:cubicBezTo>
                <a:cubicBezTo>
                  <a:pt x="13470" y="12030"/>
                  <a:pt x="13447" y="12123"/>
                  <a:pt x="13444" y="12204"/>
                </a:cubicBezTo>
                <a:cubicBezTo>
                  <a:pt x="13439" y="12316"/>
                  <a:pt x="13481" y="12345"/>
                  <a:pt x="13568" y="12402"/>
                </a:cubicBezTo>
                <a:cubicBezTo>
                  <a:pt x="13653" y="12458"/>
                  <a:pt x="13767" y="12487"/>
                  <a:pt x="13866" y="12427"/>
                </a:cubicBezTo>
                <a:cubicBezTo>
                  <a:pt x="13907" y="12394"/>
                  <a:pt x="13949" y="12361"/>
                  <a:pt x="13990" y="12328"/>
                </a:cubicBezTo>
              </a:path>
              <a:path w="3597" h="1712">
                <a:moveTo>
                  <a:pt x="14039" y="11261"/>
                </a:moveTo>
                <a:cubicBezTo>
                  <a:pt x="14111" y="11251"/>
                  <a:pt x="14287" y="11261"/>
                  <a:pt x="14362" y="11237"/>
                </a:cubicBezTo>
                <a:cubicBezTo>
                  <a:pt x="14387" y="11212"/>
                  <a:pt x="14395" y="11204"/>
                  <a:pt x="14412" y="11187"/>
                </a:cubicBezTo>
              </a:path>
              <a:path w="3597" h="1712">
                <a:moveTo>
                  <a:pt x="14015" y="11286"/>
                </a:moveTo>
                <a:cubicBezTo>
                  <a:pt x="14058" y="11406"/>
                  <a:pt x="14155" y="11474"/>
                  <a:pt x="14213" y="11584"/>
                </a:cubicBezTo>
                <a:cubicBezTo>
                  <a:pt x="14290" y="11730"/>
                  <a:pt x="14197" y="11762"/>
                  <a:pt x="14039" y="11757"/>
                </a:cubicBezTo>
                <a:cubicBezTo>
                  <a:pt x="13985" y="11755"/>
                  <a:pt x="13990" y="11641"/>
                  <a:pt x="13990" y="11609"/>
                </a:cubicBezTo>
              </a:path>
              <a:path w="3597" h="1712">
                <a:moveTo>
                  <a:pt x="14610" y="11385"/>
                </a:moveTo>
                <a:cubicBezTo>
                  <a:pt x="14610" y="11511"/>
                  <a:pt x="14616" y="11616"/>
                  <a:pt x="14635" y="11733"/>
                </a:cubicBezTo>
                <a:cubicBezTo>
                  <a:pt x="14645" y="11796"/>
                  <a:pt x="14629" y="11810"/>
                  <a:pt x="14684" y="11782"/>
                </a:cubicBezTo>
              </a:path>
              <a:path w="3597" h="1712">
                <a:moveTo>
                  <a:pt x="14808" y="11286"/>
                </a:moveTo>
                <a:cubicBezTo>
                  <a:pt x="14808" y="11422"/>
                  <a:pt x="14787" y="11578"/>
                  <a:pt x="14833" y="11708"/>
                </a:cubicBezTo>
                <a:cubicBezTo>
                  <a:pt x="14860" y="11762"/>
                  <a:pt x="14872" y="11782"/>
                  <a:pt x="14908" y="11807"/>
                </a:cubicBezTo>
              </a:path>
              <a:path w="3597" h="1712">
                <a:moveTo>
                  <a:pt x="14387" y="11261"/>
                </a:moveTo>
                <a:cubicBezTo>
                  <a:pt x="14525" y="11261"/>
                  <a:pt x="14648" y="11284"/>
                  <a:pt x="14784" y="11286"/>
                </a:cubicBezTo>
                <a:cubicBezTo>
                  <a:pt x="14946" y="11289"/>
                  <a:pt x="15011" y="11274"/>
                  <a:pt x="15156" y="11237"/>
                </a:cubicBezTo>
              </a:path>
              <a:path w="3597" h="1712">
                <a:moveTo>
                  <a:pt x="14039" y="11906"/>
                </a:moveTo>
                <a:cubicBezTo>
                  <a:pt x="14152" y="11940"/>
                  <a:pt x="14319" y="11950"/>
                  <a:pt x="14436" y="11956"/>
                </a:cubicBezTo>
                <a:cubicBezTo>
                  <a:pt x="14590" y="11964"/>
                  <a:pt x="14735" y="11944"/>
                  <a:pt x="14883" y="11931"/>
                </a:cubicBezTo>
                <a:cubicBezTo>
                  <a:pt x="14961" y="11931"/>
                  <a:pt x="14979" y="11946"/>
                  <a:pt x="15007" y="11906"/>
                </a:cubicBezTo>
              </a:path>
              <a:path w="3597" h="1712">
                <a:moveTo>
                  <a:pt x="14709" y="12154"/>
                </a:moveTo>
                <a:cubicBezTo>
                  <a:pt x="14637" y="12315"/>
                  <a:pt x="14540" y="12437"/>
                  <a:pt x="14610" y="12601"/>
                </a:cubicBezTo>
                <a:cubicBezTo>
                  <a:pt x="14645" y="12683"/>
                  <a:pt x="14722" y="12732"/>
                  <a:pt x="14808" y="12750"/>
                </a:cubicBezTo>
                <a:cubicBezTo>
                  <a:pt x="14959" y="12782"/>
                  <a:pt x="15037" y="12701"/>
                  <a:pt x="15131" y="12601"/>
                </a:cubicBezTo>
                <a:cubicBezTo>
                  <a:pt x="15247" y="12477"/>
                  <a:pt x="15053" y="12402"/>
                  <a:pt x="14957" y="12402"/>
                </a:cubicBezTo>
                <a:cubicBezTo>
                  <a:pt x="14836" y="12524"/>
                  <a:pt x="14472" y="12786"/>
                  <a:pt x="14759" y="12898"/>
                </a:cubicBezTo>
              </a:path>
              <a:path w="3597" h="1712">
                <a:moveTo>
                  <a:pt x="15677" y="11956"/>
                </a:moveTo>
                <a:cubicBezTo>
                  <a:pt x="15768" y="11974"/>
                  <a:pt x="15833" y="11981"/>
                  <a:pt x="15925" y="11981"/>
                </a:cubicBezTo>
              </a:path>
              <a:path w="3597" h="1712">
                <a:moveTo>
                  <a:pt x="15726" y="12229"/>
                </a:moveTo>
                <a:cubicBezTo>
                  <a:pt x="15876" y="12285"/>
                  <a:pt x="15895" y="12286"/>
                  <a:pt x="15974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nk 11"/>
          <p:cNvSpPr/>
          <p:nvPr/>
        </p:nvSpPr>
        <p:spPr>
          <a:xfrm>
            <a:off x="5938920" y="3125880"/>
            <a:ext cx="446040" cy="455400"/>
          </a:xfrm>
          <a:custGeom>
            <a:avLst/>
            <a:gdLst/>
            <a:ahLst/>
            <a:rect l="l" t="t" r="r" b="b"/>
            <a:pathLst>
              <a:path w="1241" h="1266">
                <a:moveTo>
                  <a:pt x="16570" y="8905"/>
                </a:moveTo>
                <a:cubicBezTo>
                  <a:pt x="16562" y="8824"/>
                  <a:pt x="16561" y="8791"/>
                  <a:pt x="16644" y="8731"/>
                </a:cubicBezTo>
                <a:cubicBezTo>
                  <a:pt x="16724" y="8673"/>
                  <a:pt x="16748" y="8691"/>
                  <a:pt x="16842" y="8731"/>
                </a:cubicBezTo>
                <a:cubicBezTo>
                  <a:pt x="16923" y="8766"/>
                  <a:pt x="17002" y="8852"/>
                  <a:pt x="17041" y="8930"/>
                </a:cubicBezTo>
                <a:cubicBezTo>
                  <a:pt x="17124" y="9096"/>
                  <a:pt x="17119" y="9333"/>
                  <a:pt x="17041" y="9500"/>
                </a:cubicBezTo>
                <a:cubicBezTo>
                  <a:pt x="16973" y="9644"/>
                  <a:pt x="16841" y="9786"/>
                  <a:pt x="16718" y="9872"/>
                </a:cubicBezTo>
                <a:cubicBezTo>
                  <a:pt x="16666" y="9908"/>
                  <a:pt x="16596" y="9950"/>
                  <a:pt x="16545" y="9897"/>
                </a:cubicBezTo>
                <a:cubicBezTo>
                  <a:pt x="16488" y="9838"/>
                  <a:pt x="16488" y="9740"/>
                  <a:pt x="16545" y="9674"/>
                </a:cubicBezTo>
                <a:cubicBezTo>
                  <a:pt x="16589" y="9623"/>
                  <a:pt x="16685" y="9603"/>
                  <a:pt x="16743" y="9599"/>
                </a:cubicBezTo>
                <a:cubicBezTo>
                  <a:pt x="16843" y="9592"/>
                  <a:pt x="16976" y="9610"/>
                  <a:pt x="17066" y="9649"/>
                </a:cubicBezTo>
                <a:cubicBezTo>
                  <a:pt x="17184" y="9699"/>
                  <a:pt x="17323" y="9741"/>
                  <a:pt x="17438" y="9798"/>
                </a:cubicBezTo>
                <a:cubicBezTo>
                  <a:pt x="17542" y="9849"/>
                  <a:pt x="17631" y="9900"/>
                  <a:pt x="17735" y="99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Ink 12"/>
          <p:cNvSpPr/>
          <p:nvPr/>
        </p:nvSpPr>
        <p:spPr>
          <a:xfrm>
            <a:off x="608040" y="4776840"/>
            <a:ext cx="2741760" cy="768240"/>
          </a:xfrm>
          <a:custGeom>
            <a:avLst/>
            <a:gdLst/>
            <a:ahLst/>
            <a:rect l="l" t="t" r="r" b="b"/>
            <a:pathLst>
              <a:path w="7616" h="2134">
                <a:moveTo>
                  <a:pt x="1836" y="13519"/>
                </a:moveTo>
                <a:cubicBezTo>
                  <a:pt x="1880" y="13609"/>
                  <a:pt x="1902" y="13688"/>
                  <a:pt x="1910" y="13791"/>
                </a:cubicBezTo>
                <a:cubicBezTo>
                  <a:pt x="1922" y="13936"/>
                  <a:pt x="1902" y="14071"/>
                  <a:pt x="1885" y="14213"/>
                </a:cubicBezTo>
                <a:cubicBezTo>
                  <a:pt x="1864" y="14387"/>
                  <a:pt x="1872" y="14449"/>
                  <a:pt x="1811" y="14585"/>
                </a:cubicBezTo>
              </a:path>
              <a:path w="7616" h="2134">
                <a:moveTo>
                  <a:pt x="1687" y="13419"/>
                </a:moveTo>
                <a:cubicBezTo>
                  <a:pt x="1812" y="13447"/>
                  <a:pt x="1935" y="13478"/>
                  <a:pt x="2059" y="13494"/>
                </a:cubicBezTo>
                <a:cubicBezTo>
                  <a:pt x="2174" y="13509"/>
                  <a:pt x="2260" y="13497"/>
                  <a:pt x="2356" y="13444"/>
                </a:cubicBezTo>
              </a:path>
              <a:path w="7616" h="2134">
                <a:moveTo>
                  <a:pt x="2381" y="14089"/>
                </a:moveTo>
                <a:cubicBezTo>
                  <a:pt x="2373" y="14114"/>
                  <a:pt x="2364" y="14138"/>
                  <a:pt x="2356" y="14163"/>
                </a:cubicBezTo>
                <a:cubicBezTo>
                  <a:pt x="2295" y="14119"/>
                  <a:pt x="2273" y="14080"/>
                  <a:pt x="2232" y="14015"/>
                </a:cubicBezTo>
                <a:cubicBezTo>
                  <a:pt x="2190" y="13951"/>
                  <a:pt x="2187" y="13926"/>
                  <a:pt x="2133" y="13940"/>
                </a:cubicBezTo>
                <a:cubicBezTo>
                  <a:pt x="2065" y="13998"/>
                  <a:pt x="2084" y="14041"/>
                  <a:pt x="2084" y="14139"/>
                </a:cubicBezTo>
                <a:cubicBezTo>
                  <a:pt x="2084" y="14251"/>
                  <a:pt x="2112" y="14306"/>
                  <a:pt x="2183" y="14387"/>
                </a:cubicBezTo>
                <a:cubicBezTo>
                  <a:pt x="2261" y="14330"/>
                  <a:pt x="2254" y="14298"/>
                  <a:pt x="2282" y="14213"/>
                </a:cubicBezTo>
                <a:cubicBezTo>
                  <a:pt x="2302" y="14154"/>
                  <a:pt x="2307" y="14128"/>
                  <a:pt x="2307" y="14064"/>
                </a:cubicBezTo>
                <a:cubicBezTo>
                  <a:pt x="2307" y="14139"/>
                  <a:pt x="2320" y="14194"/>
                  <a:pt x="2332" y="14263"/>
                </a:cubicBezTo>
                <a:cubicBezTo>
                  <a:pt x="2341" y="14316"/>
                  <a:pt x="2370" y="14499"/>
                  <a:pt x="2456" y="14412"/>
                </a:cubicBezTo>
                <a:cubicBezTo>
                  <a:pt x="2483" y="14355"/>
                  <a:pt x="2494" y="14331"/>
                  <a:pt x="2505" y="14288"/>
                </a:cubicBezTo>
              </a:path>
              <a:path w="7616" h="2134">
                <a:moveTo>
                  <a:pt x="2629" y="14064"/>
                </a:moveTo>
                <a:cubicBezTo>
                  <a:pt x="2647" y="14230"/>
                  <a:pt x="2637" y="14294"/>
                  <a:pt x="2629" y="14436"/>
                </a:cubicBezTo>
                <a:cubicBezTo>
                  <a:pt x="2629" y="14453"/>
                  <a:pt x="2629" y="14469"/>
                  <a:pt x="2629" y="14486"/>
                </a:cubicBezTo>
                <a:cubicBezTo>
                  <a:pt x="2629" y="14403"/>
                  <a:pt x="2627" y="14289"/>
                  <a:pt x="2654" y="14213"/>
                </a:cubicBezTo>
                <a:cubicBezTo>
                  <a:pt x="2678" y="14144"/>
                  <a:pt x="2723" y="14109"/>
                  <a:pt x="2778" y="14064"/>
                </a:cubicBezTo>
                <a:cubicBezTo>
                  <a:pt x="2863" y="14103"/>
                  <a:pt x="2949" y="14161"/>
                  <a:pt x="2977" y="14263"/>
                </a:cubicBezTo>
                <a:cubicBezTo>
                  <a:pt x="3002" y="14355"/>
                  <a:pt x="3001" y="14464"/>
                  <a:pt x="3001" y="14560"/>
                </a:cubicBezTo>
                <a:cubicBezTo>
                  <a:pt x="3001" y="14618"/>
                  <a:pt x="3001" y="14627"/>
                  <a:pt x="3001" y="14536"/>
                </a:cubicBezTo>
              </a:path>
              <a:path w="7616" h="2134">
                <a:moveTo>
                  <a:pt x="3423" y="13295"/>
                </a:moveTo>
                <a:cubicBezTo>
                  <a:pt x="3531" y="13295"/>
                  <a:pt x="3617" y="13289"/>
                  <a:pt x="3721" y="13271"/>
                </a:cubicBezTo>
                <a:cubicBezTo>
                  <a:pt x="3729" y="13271"/>
                  <a:pt x="3738" y="13271"/>
                  <a:pt x="3746" y="13271"/>
                </a:cubicBezTo>
              </a:path>
              <a:path w="7616" h="2134">
                <a:moveTo>
                  <a:pt x="3448" y="13444"/>
                </a:moveTo>
                <a:cubicBezTo>
                  <a:pt x="3475" y="13517"/>
                  <a:pt x="3502" y="13602"/>
                  <a:pt x="3547" y="13667"/>
                </a:cubicBezTo>
                <a:cubicBezTo>
                  <a:pt x="3580" y="13714"/>
                  <a:pt x="3640" y="13776"/>
                  <a:pt x="3621" y="13841"/>
                </a:cubicBezTo>
                <a:cubicBezTo>
                  <a:pt x="3605" y="13896"/>
                  <a:pt x="3495" y="13932"/>
                  <a:pt x="3448" y="13915"/>
                </a:cubicBezTo>
                <a:cubicBezTo>
                  <a:pt x="3337" y="13874"/>
                  <a:pt x="3367" y="13800"/>
                  <a:pt x="3398" y="13717"/>
                </a:cubicBezTo>
              </a:path>
              <a:path w="7616" h="2134">
                <a:moveTo>
                  <a:pt x="3919" y="13395"/>
                </a:moveTo>
                <a:cubicBezTo>
                  <a:pt x="3990" y="13395"/>
                  <a:pt x="4109" y="13417"/>
                  <a:pt x="4167" y="13370"/>
                </a:cubicBezTo>
                <a:cubicBezTo>
                  <a:pt x="4192" y="13345"/>
                  <a:pt x="4200" y="13337"/>
                  <a:pt x="4217" y="13320"/>
                </a:cubicBezTo>
              </a:path>
              <a:path w="7616" h="2134">
                <a:moveTo>
                  <a:pt x="4118" y="13444"/>
                </a:moveTo>
                <a:cubicBezTo>
                  <a:pt x="4096" y="13560"/>
                  <a:pt x="4049" y="13676"/>
                  <a:pt x="4043" y="13791"/>
                </a:cubicBezTo>
                <a:cubicBezTo>
                  <a:pt x="4043" y="13836"/>
                  <a:pt x="4040" y="13856"/>
                  <a:pt x="4068" y="13816"/>
                </a:cubicBezTo>
              </a:path>
              <a:path w="7616" h="2134">
                <a:moveTo>
                  <a:pt x="4192" y="13444"/>
                </a:moveTo>
                <a:cubicBezTo>
                  <a:pt x="4211" y="13574"/>
                  <a:pt x="4217" y="13685"/>
                  <a:pt x="4217" y="13816"/>
                </a:cubicBezTo>
                <a:cubicBezTo>
                  <a:pt x="4217" y="13874"/>
                  <a:pt x="4217" y="13899"/>
                  <a:pt x="4217" y="13940"/>
                </a:cubicBezTo>
              </a:path>
              <a:path w="7616" h="2134">
                <a:moveTo>
                  <a:pt x="3497" y="14089"/>
                </a:moveTo>
                <a:cubicBezTo>
                  <a:pt x="3650" y="14104"/>
                  <a:pt x="3837" y="14136"/>
                  <a:pt x="3994" y="14114"/>
                </a:cubicBezTo>
                <a:cubicBezTo>
                  <a:pt x="4102" y="14099"/>
                  <a:pt x="4210" y="14079"/>
                  <a:pt x="4316" y="14064"/>
                </a:cubicBezTo>
                <a:cubicBezTo>
                  <a:pt x="4333" y="14064"/>
                  <a:pt x="4349" y="14064"/>
                  <a:pt x="4366" y="14064"/>
                </a:cubicBezTo>
              </a:path>
              <a:path w="7616" h="2134">
                <a:moveTo>
                  <a:pt x="3944" y="14387"/>
                </a:moveTo>
                <a:cubicBezTo>
                  <a:pt x="3887" y="14533"/>
                  <a:pt x="3784" y="14676"/>
                  <a:pt x="3795" y="14833"/>
                </a:cubicBezTo>
                <a:cubicBezTo>
                  <a:pt x="3799" y="14900"/>
                  <a:pt x="3883" y="14990"/>
                  <a:pt x="3944" y="15007"/>
                </a:cubicBezTo>
                <a:cubicBezTo>
                  <a:pt x="4011" y="15026"/>
                  <a:pt x="4181" y="15020"/>
                  <a:pt x="4242" y="14982"/>
                </a:cubicBezTo>
                <a:cubicBezTo>
                  <a:pt x="4308" y="14941"/>
                  <a:pt x="4336" y="14854"/>
                  <a:pt x="4341" y="14784"/>
                </a:cubicBezTo>
                <a:cubicBezTo>
                  <a:pt x="4349" y="14685"/>
                  <a:pt x="4254" y="14692"/>
                  <a:pt x="4192" y="14734"/>
                </a:cubicBezTo>
                <a:cubicBezTo>
                  <a:pt x="4102" y="14796"/>
                  <a:pt x="4119" y="14842"/>
                  <a:pt x="4093" y="14932"/>
                </a:cubicBezTo>
                <a:cubicBezTo>
                  <a:pt x="4069" y="14980"/>
                  <a:pt x="4061" y="14995"/>
                  <a:pt x="4068" y="15032"/>
                </a:cubicBezTo>
              </a:path>
              <a:path w="7616" h="2134">
                <a:moveTo>
                  <a:pt x="4911" y="14312"/>
                </a:moveTo>
                <a:cubicBezTo>
                  <a:pt x="4977" y="14312"/>
                  <a:pt x="4994" y="14312"/>
                  <a:pt x="5035" y="14312"/>
                </a:cubicBezTo>
              </a:path>
              <a:path w="7616" h="2134">
                <a:moveTo>
                  <a:pt x="4887" y="14585"/>
                </a:moveTo>
                <a:cubicBezTo>
                  <a:pt x="5056" y="14609"/>
                  <a:pt x="5167" y="14634"/>
                  <a:pt x="5308" y="14536"/>
                </a:cubicBezTo>
              </a:path>
              <a:path w="7616" h="2134">
                <a:moveTo>
                  <a:pt x="5928" y="13395"/>
                </a:moveTo>
                <a:cubicBezTo>
                  <a:pt x="5928" y="13540"/>
                  <a:pt x="5906" y="13706"/>
                  <a:pt x="5953" y="13841"/>
                </a:cubicBezTo>
                <a:cubicBezTo>
                  <a:pt x="5983" y="13926"/>
                  <a:pt x="5997" y="14003"/>
                  <a:pt x="6028" y="14089"/>
                </a:cubicBezTo>
              </a:path>
              <a:path w="7616" h="2134">
                <a:moveTo>
                  <a:pt x="5655" y="14188"/>
                </a:moveTo>
                <a:cubicBezTo>
                  <a:pt x="5782" y="14197"/>
                  <a:pt x="5897" y="14213"/>
                  <a:pt x="6028" y="14213"/>
                </a:cubicBezTo>
                <a:cubicBezTo>
                  <a:pt x="6112" y="14213"/>
                  <a:pt x="6189" y="14238"/>
                  <a:pt x="6276" y="14238"/>
                </a:cubicBezTo>
                <a:cubicBezTo>
                  <a:pt x="6317" y="14238"/>
                  <a:pt x="6359" y="14238"/>
                  <a:pt x="6400" y="14238"/>
                </a:cubicBezTo>
              </a:path>
              <a:path w="7616" h="2134">
                <a:moveTo>
                  <a:pt x="6052" y="14461"/>
                </a:moveTo>
                <a:cubicBezTo>
                  <a:pt x="6117" y="14461"/>
                  <a:pt x="6169" y="14455"/>
                  <a:pt x="6226" y="14436"/>
                </a:cubicBezTo>
                <a:cubicBezTo>
                  <a:pt x="6291" y="14414"/>
                  <a:pt x="6389" y="14391"/>
                  <a:pt x="6424" y="14486"/>
                </a:cubicBezTo>
                <a:cubicBezTo>
                  <a:pt x="6442" y="14536"/>
                  <a:pt x="6458" y="14710"/>
                  <a:pt x="6449" y="14759"/>
                </a:cubicBezTo>
                <a:cubicBezTo>
                  <a:pt x="6436" y="14827"/>
                  <a:pt x="6432" y="14974"/>
                  <a:pt x="6400" y="15032"/>
                </a:cubicBezTo>
                <a:cubicBezTo>
                  <a:pt x="6369" y="15089"/>
                  <a:pt x="6307" y="15145"/>
                  <a:pt x="6251" y="15156"/>
                </a:cubicBezTo>
                <a:cubicBezTo>
                  <a:pt x="6189" y="15168"/>
                  <a:pt x="6165" y="15119"/>
                  <a:pt x="6127" y="15081"/>
                </a:cubicBezTo>
                <a:cubicBezTo>
                  <a:pt x="6090" y="15044"/>
                  <a:pt x="6091" y="14954"/>
                  <a:pt x="6152" y="14932"/>
                </a:cubicBezTo>
                <a:cubicBezTo>
                  <a:pt x="6205" y="14913"/>
                  <a:pt x="6312" y="14941"/>
                  <a:pt x="6350" y="14982"/>
                </a:cubicBezTo>
                <a:cubicBezTo>
                  <a:pt x="6399" y="15035"/>
                  <a:pt x="6397" y="15100"/>
                  <a:pt x="6424" y="15156"/>
                </a:cubicBezTo>
                <a:cubicBezTo>
                  <a:pt x="6444" y="15198"/>
                  <a:pt x="6478" y="15328"/>
                  <a:pt x="6524" y="15354"/>
                </a:cubicBezTo>
                <a:cubicBezTo>
                  <a:pt x="6532" y="15354"/>
                  <a:pt x="6540" y="15354"/>
                  <a:pt x="6548" y="15354"/>
                </a:cubicBezTo>
              </a:path>
              <a:path w="7616" h="2134">
                <a:moveTo>
                  <a:pt x="6995" y="13891"/>
                </a:moveTo>
                <a:cubicBezTo>
                  <a:pt x="6995" y="13932"/>
                  <a:pt x="6995" y="13974"/>
                  <a:pt x="6995" y="14015"/>
                </a:cubicBezTo>
              </a:path>
              <a:path w="7616" h="2134">
                <a:moveTo>
                  <a:pt x="7069" y="14660"/>
                </a:moveTo>
                <a:cubicBezTo>
                  <a:pt x="7087" y="14760"/>
                  <a:pt x="7119" y="14839"/>
                  <a:pt x="7119" y="14932"/>
                </a:cubicBezTo>
              </a:path>
              <a:path w="7616" h="2134">
                <a:moveTo>
                  <a:pt x="6796" y="14337"/>
                </a:moveTo>
                <a:cubicBezTo>
                  <a:pt x="6863" y="14258"/>
                  <a:pt x="6896" y="14297"/>
                  <a:pt x="6995" y="14312"/>
                </a:cubicBezTo>
                <a:cubicBezTo>
                  <a:pt x="7072" y="14324"/>
                  <a:pt x="7142" y="14352"/>
                  <a:pt x="7218" y="14362"/>
                </a:cubicBezTo>
              </a:path>
              <a:path w="7616" h="2134">
                <a:moveTo>
                  <a:pt x="7516" y="14188"/>
                </a:moveTo>
                <a:cubicBezTo>
                  <a:pt x="7595" y="14195"/>
                  <a:pt x="7658" y="14213"/>
                  <a:pt x="7739" y="14213"/>
                </a:cubicBezTo>
                <a:cubicBezTo>
                  <a:pt x="7756" y="14213"/>
                  <a:pt x="7772" y="14213"/>
                  <a:pt x="7789" y="14213"/>
                </a:cubicBezTo>
              </a:path>
              <a:path w="7616" h="2134">
                <a:moveTo>
                  <a:pt x="8062" y="13816"/>
                </a:moveTo>
                <a:cubicBezTo>
                  <a:pt x="8087" y="13902"/>
                  <a:pt x="8107" y="13998"/>
                  <a:pt x="8111" y="14089"/>
                </a:cubicBezTo>
                <a:cubicBezTo>
                  <a:pt x="8115" y="14183"/>
                  <a:pt x="8245" y="14406"/>
                  <a:pt x="8161" y="14362"/>
                </a:cubicBezTo>
                <a:cubicBezTo>
                  <a:pt x="8106" y="14334"/>
                  <a:pt x="8144" y="14183"/>
                  <a:pt x="8136" y="14139"/>
                </a:cubicBezTo>
                <a:cubicBezTo>
                  <a:pt x="8118" y="14047"/>
                  <a:pt x="8126" y="13959"/>
                  <a:pt x="8111" y="13866"/>
                </a:cubicBezTo>
                <a:cubicBezTo>
                  <a:pt x="8096" y="13770"/>
                  <a:pt x="8086" y="13690"/>
                  <a:pt x="8086" y="13593"/>
                </a:cubicBezTo>
                <a:cubicBezTo>
                  <a:pt x="8086" y="13525"/>
                  <a:pt x="8113" y="13441"/>
                  <a:pt x="8186" y="13419"/>
                </a:cubicBezTo>
                <a:cubicBezTo>
                  <a:pt x="8273" y="13393"/>
                  <a:pt x="8375" y="13433"/>
                  <a:pt x="8458" y="13444"/>
                </a:cubicBezTo>
                <a:cubicBezTo>
                  <a:pt x="8515" y="13444"/>
                  <a:pt x="8536" y="13449"/>
                  <a:pt x="8558" y="13494"/>
                </a:cubicBezTo>
              </a:path>
              <a:path w="7616" h="2134">
                <a:moveTo>
                  <a:pt x="8310" y="13717"/>
                </a:moveTo>
                <a:cubicBezTo>
                  <a:pt x="8373" y="13708"/>
                  <a:pt x="8437" y="13673"/>
                  <a:pt x="8508" y="13692"/>
                </a:cubicBezTo>
                <a:cubicBezTo>
                  <a:pt x="8617" y="13721"/>
                  <a:pt x="8666" y="13790"/>
                  <a:pt x="8607" y="13891"/>
                </a:cubicBezTo>
                <a:cubicBezTo>
                  <a:pt x="8577" y="13943"/>
                  <a:pt x="8535" y="13958"/>
                  <a:pt x="8483" y="13965"/>
                </a:cubicBezTo>
                <a:cubicBezTo>
                  <a:pt x="8551" y="14011"/>
                  <a:pt x="8636" y="14019"/>
                  <a:pt x="8706" y="14064"/>
                </a:cubicBezTo>
                <a:cubicBezTo>
                  <a:pt x="8775" y="14108"/>
                  <a:pt x="8785" y="14197"/>
                  <a:pt x="8756" y="14263"/>
                </a:cubicBezTo>
                <a:cubicBezTo>
                  <a:pt x="8721" y="14344"/>
                  <a:pt x="8620" y="14335"/>
                  <a:pt x="8558" y="14362"/>
                </a:cubicBezTo>
                <a:cubicBezTo>
                  <a:pt x="8520" y="14378"/>
                  <a:pt x="8506" y="14387"/>
                  <a:pt x="8458" y="14387"/>
                </a:cubicBezTo>
              </a:path>
              <a:path w="7616" h="2134">
                <a:moveTo>
                  <a:pt x="8161" y="14412"/>
                </a:moveTo>
                <a:cubicBezTo>
                  <a:pt x="8240" y="14412"/>
                  <a:pt x="8312" y="14429"/>
                  <a:pt x="8384" y="14436"/>
                </a:cubicBezTo>
                <a:cubicBezTo>
                  <a:pt x="8491" y="14447"/>
                  <a:pt x="8600" y="14456"/>
                  <a:pt x="8706" y="14461"/>
                </a:cubicBezTo>
                <a:cubicBezTo>
                  <a:pt x="8813" y="14466"/>
                  <a:pt x="8922" y="14461"/>
                  <a:pt x="9029" y="14461"/>
                </a:cubicBezTo>
              </a:path>
              <a:path w="7616" h="2134">
                <a:moveTo>
                  <a:pt x="8607" y="14709"/>
                </a:moveTo>
                <a:cubicBezTo>
                  <a:pt x="8681" y="14681"/>
                  <a:pt x="8728" y="14664"/>
                  <a:pt x="8806" y="14660"/>
                </a:cubicBezTo>
                <a:cubicBezTo>
                  <a:pt x="8899" y="14656"/>
                  <a:pt x="8936" y="14713"/>
                  <a:pt x="8979" y="14784"/>
                </a:cubicBezTo>
                <a:cubicBezTo>
                  <a:pt x="9038" y="14881"/>
                  <a:pt x="8968" y="14973"/>
                  <a:pt x="8905" y="15032"/>
                </a:cubicBezTo>
                <a:cubicBezTo>
                  <a:pt x="8861" y="15073"/>
                  <a:pt x="8787" y="15136"/>
                  <a:pt x="8731" y="15156"/>
                </a:cubicBezTo>
                <a:cubicBezTo>
                  <a:pt x="8676" y="15175"/>
                  <a:pt x="8557" y="15192"/>
                  <a:pt x="8533" y="15106"/>
                </a:cubicBezTo>
                <a:cubicBezTo>
                  <a:pt x="8510" y="15023"/>
                  <a:pt x="8600" y="15010"/>
                  <a:pt x="8657" y="15007"/>
                </a:cubicBezTo>
                <a:cubicBezTo>
                  <a:pt x="8795" y="14999"/>
                  <a:pt x="8862" y="15139"/>
                  <a:pt x="8954" y="15205"/>
                </a:cubicBezTo>
                <a:cubicBezTo>
                  <a:pt x="9047" y="15272"/>
                  <a:pt x="9134" y="15377"/>
                  <a:pt x="9252" y="15404"/>
                </a:cubicBezTo>
                <a:cubicBezTo>
                  <a:pt x="9269" y="15404"/>
                  <a:pt x="9285" y="15404"/>
                  <a:pt x="9302" y="154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nk 13"/>
          <p:cNvSpPr/>
          <p:nvPr/>
        </p:nvSpPr>
        <p:spPr>
          <a:xfrm>
            <a:off x="4394160" y="4044960"/>
            <a:ext cx="3436920" cy="1492200"/>
          </a:xfrm>
          <a:custGeom>
            <a:avLst/>
            <a:gdLst/>
            <a:ahLst/>
            <a:rect l="l" t="t" r="r" b="b"/>
            <a:pathLst>
              <a:path w="9551" h="4143">
                <a:moveTo>
                  <a:pt x="12799" y="14238"/>
                </a:moveTo>
                <a:cubicBezTo>
                  <a:pt x="12858" y="14356"/>
                  <a:pt x="12810" y="14132"/>
                  <a:pt x="12799" y="14089"/>
                </a:cubicBezTo>
                <a:cubicBezTo>
                  <a:pt x="12788" y="14048"/>
                  <a:pt x="12750" y="13908"/>
                  <a:pt x="12700" y="13891"/>
                </a:cubicBezTo>
                <a:cubicBezTo>
                  <a:pt x="12598" y="13856"/>
                  <a:pt x="12479" y="13911"/>
                  <a:pt x="12402" y="13965"/>
                </a:cubicBezTo>
                <a:cubicBezTo>
                  <a:pt x="12316" y="14026"/>
                  <a:pt x="12261" y="14168"/>
                  <a:pt x="12229" y="14263"/>
                </a:cubicBezTo>
                <a:cubicBezTo>
                  <a:pt x="12179" y="14411"/>
                  <a:pt x="12214" y="14502"/>
                  <a:pt x="12278" y="14635"/>
                </a:cubicBezTo>
                <a:cubicBezTo>
                  <a:pt x="12340" y="14765"/>
                  <a:pt x="12392" y="14833"/>
                  <a:pt x="12551" y="14833"/>
                </a:cubicBezTo>
                <a:cubicBezTo>
                  <a:pt x="12642" y="14810"/>
                  <a:pt x="12668" y="14804"/>
                  <a:pt x="12725" y="14784"/>
                </a:cubicBezTo>
              </a:path>
              <a:path w="9551" h="4143">
                <a:moveTo>
                  <a:pt x="13047" y="14436"/>
                </a:moveTo>
                <a:cubicBezTo>
                  <a:pt x="13005" y="14489"/>
                  <a:pt x="12979" y="14549"/>
                  <a:pt x="12948" y="14610"/>
                </a:cubicBezTo>
                <a:cubicBezTo>
                  <a:pt x="12894" y="14717"/>
                  <a:pt x="12928" y="14815"/>
                  <a:pt x="13022" y="14883"/>
                </a:cubicBezTo>
                <a:cubicBezTo>
                  <a:pt x="13080" y="14925"/>
                  <a:pt x="13137" y="14946"/>
                  <a:pt x="13196" y="14883"/>
                </a:cubicBezTo>
                <a:cubicBezTo>
                  <a:pt x="13255" y="14819"/>
                  <a:pt x="13259" y="14689"/>
                  <a:pt x="13246" y="14610"/>
                </a:cubicBezTo>
                <a:cubicBezTo>
                  <a:pt x="13230" y="14514"/>
                  <a:pt x="13145" y="14356"/>
                  <a:pt x="13047" y="14312"/>
                </a:cubicBezTo>
                <a:cubicBezTo>
                  <a:pt x="12992" y="14287"/>
                  <a:pt x="12946" y="14300"/>
                  <a:pt x="12898" y="14312"/>
                </a:cubicBezTo>
              </a:path>
              <a:path w="9551" h="4143">
                <a:moveTo>
                  <a:pt x="13643" y="14188"/>
                </a:moveTo>
                <a:cubicBezTo>
                  <a:pt x="13604" y="14371"/>
                  <a:pt x="13548" y="14510"/>
                  <a:pt x="13593" y="14684"/>
                </a:cubicBezTo>
                <a:cubicBezTo>
                  <a:pt x="13598" y="14703"/>
                  <a:pt x="13643" y="14913"/>
                  <a:pt x="13643" y="14858"/>
                </a:cubicBezTo>
              </a:path>
              <a:path w="9551" h="4143">
                <a:moveTo>
                  <a:pt x="13345" y="14412"/>
                </a:moveTo>
                <a:cubicBezTo>
                  <a:pt x="13508" y="14434"/>
                  <a:pt x="13587" y="14434"/>
                  <a:pt x="13742" y="14387"/>
                </a:cubicBezTo>
              </a:path>
              <a:path w="9551" h="4143">
                <a:moveTo>
                  <a:pt x="14163" y="13742"/>
                </a:moveTo>
                <a:cubicBezTo>
                  <a:pt x="14268" y="13707"/>
                  <a:pt x="14388" y="13686"/>
                  <a:pt x="14486" y="13643"/>
                </a:cubicBezTo>
                <a:cubicBezTo>
                  <a:pt x="14536" y="13618"/>
                  <a:pt x="14553" y="13610"/>
                  <a:pt x="14511" y="13568"/>
                </a:cubicBezTo>
              </a:path>
              <a:path w="9551" h="4143">
                <a:moveTo>
                  <a:pt x="14188" y="13692"/>
                </a:moveTo>
                <a:cubicBezTo>
                  <a:pt x="14168" y="13820"/>
                  <a:pt x="14168" y="13814"/>
                  <a:pt x="14263" y="13891"/>
                </a:cubicBezTo>
                <a:cubicBezTo>
                  <a:pt x="14331" y="13946"/>
                  <a:pt x="14393" y="13966"/>
                  <a:pt x="14412" y="14064"/>
                </a:cubicBezTo>
                <a:cubicBezTo>
                  <a:pt x="14432" y="14167"/>
                  <a:pt x="14394" y="14254"/>
                  <a:pt x="14288" y="14288"/>
                </a:cubicBezTo>
                <a:cubicBezTo>
                  <a:pt x="14231" y="14306"/>
                  <a:pt x="14132" y="14298"/>
                  <a:pt x="14089" y="14263"/>
                </a:cubicBezTo>
                <a:cubicBezTo>
                  <a:pt x="14027" y="14213"/>
                  <a:pt x="14087" y="14142"/>
                  <a:pt x="14114" y="14089"/>
                </a:cubicBezTo>
              </a:path>
              <a:path w="9551" h="4143">
                <a:moveTo>
                  <a:pt x="14536" y="13742"/>
                </a:moveTo>
                <a:cubicBezTo>
                  <a:pt x="14524" y="13887"/>
                  <a:pt x="14507" y="14024"/>
                  <a:pt x="14560" y="14163"/>
                </a:cubicBezTo>
                <a:cubicBezTo>
                  <a:pt x="14579" y="14213"/>
                  <a:pt x="14596" y="14244"/>
                  <a:pt x="14635" y="14263"/>
                </a:cubicBezTo>
              </a:path>
              <a:path w="9551" h="4143">
                <a:moveTo>
                  <a:pt x="14833" y="13692"/>
                </a:moveTo>
                <a:cubicBezTo>
                  <a:pt x="14839" y="13829"/>
                  <a:pt x="14844" y="13958"/>
                  <a:pt x="14883" y="14089"/>
                </a:cubicBezTo>
                <a:cubicBezTo>
                  <a:pt x="14903" y="14155"/>
                  <a:pt x="14924" y="14197"/>
                  <a:pt x="14932" y="14263"/>
                </a:cubicBezTo>
              </a:path>
              <a:path w="9551" h="4143">
                <a:moveTo>
                  <a:pt x="14536" y="13717"/>
                </a:moveTo>
                <a:cubicBezTo>
                  <a:pt x="14621" y="13664"/>
                  <a:pt x="14730" y="13714"/>
                  <a:pt x="14833" y="13717"/>
                </a:cubicBezTo>
                <a:cubicBezTo>
                  <a:pt x="14924" y="13719"/>
                  <a:pt x="15015" y="13717"/>
                  <a:pt x="15106" y="13717"/>
                </a:cubicBezTo>
              </a:path>
              <a:path w="9551" h="4143">
                <a:moveTo>
                  <a:pt x="15205" y="14213"/>
                </a:moveTo>
                <a:cubicBezTo>
                  <a:pt x="15064" y="14278"/>
                  <a:pt x="14904" y="14388"/>
                  <a:pt x="14759" y="14436"/>
                </a:cubicBezTo>
                <a:cubicBezTo>
                  <a:pt x="14623" y="14481"/>
                  <a:pt x="14466" y="14549"/>
                  <a:pt x="14337" y="14585"/>
                </a:cubicBezTo>
                <a:cubicBezTo>
                  <a:pt x="14293" y="14585"/>
                  <a:pt x="14273" y="14588"/>
                  <a:pt x="14312" y="14560"/>
                </a:cubicBezTo>
              </a:path>
              <a:path w="9551" h="4143">
                <a:moveTo>
                  <a:pt x="14808" y="14610"/>
                </a:moveTo>
                <a:cubicBezTo>
                  <a:pt x="14731" y="14757"/>
                  <a:pt x="14666" y="14844"/>
                  <a:pt x="14660" y="15007"/>
                </a:cubicBezTo>
                <a:cubicBezTo>
                  <a:pt x="14655" y="15125"/>
                  <a:pt x="14678" y="15169"/>
                  <a:pt x="14759" y="15255"/>
                </a:cubicBezTo>
                <a:cubicBezTo>
                  <a:pt x="14844" y="15345"/>
                  <a:pt x="14918" y="15400"/>
                  <a:pt x="15056" y="15379"/>
                </a:cubicBezTo>
                <a:cubicBezTo>
                  <a:pt x="15130" y="15368"/>
                  <a:pt x="15238" y="15283"/>
                  <a:pt x="15255" y="15205"/>
                </a:cubicBezTo>
                <a:cubicBezTo>
                  <a:pt x="15274" y="15117"/>
                  <a:pt x="15218" y="15047"/>
                  <a:pt x="15131" y="15032"/>
                </a:cubicBezTo>
                <a:cubicBezTo>
                  <a:pt x="15049" y="15018"/>
                  <a:pt x="14871" y="15041"/>
                  <a:pt x="14808" y="15106"/>
                </a:cubicBezTo>
                <a:cubicBezTo>
                  <a:pt x="14770" y="15144"/>
                  <a:pt x="14784" y="15208"/>
                  <a:pt x="14784" y="15255"/>
                </a:cubicBezTo>
              </a:path>
              <a:path w="9551" h="4143">
                <a:moveTo>
                  <a:pt x="15850" y="14635"/>
                </a:moveTo>
                <a:cubicBezTo>
                  <a:pt x="15940" y="14635"/>
                  <a:pt x="16011" y="14657"/>
                  <a:pt x="16098" y="14660"/>
                </a:cubicBezTo>
                <a:cubicBezTo>
                  <a:pt x="16123" y="14660"/>
                  <a:pt x="16148" y="14660"/>
                  <a:pt x="16173" y="14660"/>
                </a:cubicBezTo>
              </a:path>
              <a:path w="9551" h="4143">
                <a:moveTo>
                  <a:pt x="15776" y="14908"/>
                </a:moveTo>
                <a:cubicBezTo>
                  <a:pt x="15932" y="14986"/>
                  <a:pt x="15953" y="15004"/>
                  <a:pt x="16049" y="15032"/>
                </a:cubicBezTo>
              </a:path>
              <a:path w="9551" h="4143">
                <a:moveTo>
                  <a:pt x="16396" y="12105"/>
                </a:moveTo>
                <a:cubicBezTo>
                  <a:pt x="16470" y="12105"/>
                  <a:pt x="16495" y="12105"/>
                  <a:pt x="16545" y="12105"/>
                </a:cubicBezTo>
              </a:path>
              <a:path w="9551" h="4143">
                <a:moveTo>
                  <a:pt x="16892" y="11410"/>
                </a:moveTo>
                <a:cubicBezTo>
                  <a:pt x="17025" y="11285"/>
                  <a:pt x="17056" y="11214"/>
                  <a:pt x="17239" y="11261"/>
                </a:cubicBezTo>
                <a:cubicBezTo>
                  <a:pt x="17338" y="11286"/>
                  <a:pt x="17444" y="11386"/>
                  <a:pt x="17462" y="11485"/>
                </a:cubicBezTo>
                <a:cubicBezTo>
                  <a:pt x="17483" y="11601"/>
                  <a:pt x="17479" y="11762"/>
                  <a:pt x="17413" y="11857"/>
                </a:cubicBezTo>
                <a:cubicBezTo>
                  <a:pt x="17376" y="11910"/>
                  <a:pt x="17305" y="12012"/>
                  <a:pt x="17239" y="12030"/>
                </a:cubicBezTo>
                <a:cubicBezTo>
                  <a:pt x="17130" y="12059"/>
                  <a:pt x="17074" y="11980"/>
                  <a:pt x="17016" y="11906"/>
                </a:cubicBezTo>
                <a:cubicBezTo>
                  <a:pt x="17069" y="11843"/>
                  <a:pt x="17145" y="11840"/>
                  <a:pt x="17239" y="11857"/>
                </a:cubicBezTo>
                <a:cubicBezTo>
                  <a:pt x="17396" y="11885"/>
                  <a:pt x="17532" y="11988"/>
                  <a:pt x="17686" y="12030"/>
                </a:cubicBezTo>
                <a:cubicBezTo>
                  <a:pt x="17694" y="12030"/>
                  <a:pt x="17703" y="12030"/>
                  <a:pt x="17711" y="12030"/>
                </a:cubicBezTo>
              </a:path>
              <a:path w="9551" h="4143">
                <a:moveTo>
                  <a:pt x="17016" y="12030"/>
                </a:moveTo>
                <a:cubicBezTo>
                  <a:pt x="17080" y="12069"/>
                  <a:pt x="17186" y="12064"/>
                  <a:pt x="17264" y="12080"/>
                </a:cubicBezTo>
                <a:cubicBezTo>
                  <a:pt x="17448" y="12118"/>
                  <a:pt x="17624" y="12167"/>
                  <a:pt x="17810" y="12179"/>
                </a:cubicBezTo>
              </a:path>
              <a:path w="9551" h="4143">
                <a:moveTo>
                  <a:pt x="17264" y="12576"/>
                </a:moveTo>
                <a:cubicBezTo>
                  <a:pt x="17279" y="12741"/>
                  <a:pt x="17265" y="12932"/>
                  <a:pt x="17289" y="13097"/>
                </a:cubicBezTo>
                <a:cubicBezTo>
                  <a:pt x="17310" y="13179"/>
                  <a:pt x="17318" y="13195"/>
                  <a:pt x="17314" y="13246"/>
                </a:cubicBezTo>
                <a:cubicBezTo>
                  <a:pt x="17274" y="13179"/>
                  <a:pt x="17304" y="13126"/>
                  <a:pt x="17289" y="13047"/>
                </a:cubicBezTo>
                <a:cubicBezTo>
                  <a:pt x="17263" y="12914"/>
                  <a:pt x="17264" y="12788"/>
                  <a:pt x="17264" y="12650"/>
                </a:cubicBezTo>
                <a:cubicBezTo>
                  <a:pt x="17264" y="12588"/>
                  <a:pt x="17270" y="12463"/>
                  <a:pt x="17338" y="12427"/>
                </a:cubicBezTo>
                <a:cubicBezTo>
                  <a:pt x="17427" y="12380"/>
                  <a:pt x="17566" y="12402"/>
                  <a:pt x="17661" y="12402"/>
                </a:cubicBezTo>
                <a:cubicBezTo>
                  <a:pt x="17741" y="12402"/>
                  <a:pt x="17799" y="12428"/>
                  <a:pt x="17859" y="12477"/>
                </a:cubicBezTo>
              </a:path>
              <a:path w="9551" h="4143">
                <a:moveTo>
                  <a:pt x="17487" y="12601"/>
                </a:moveTo>
                <a:cubicBezTo>
                  <a:pt x="17584" y="12601"/>
                  <a:pt x="17783" y="12566"/>
                  <a:pt x="17859" y="12626"/>
                </a:cubicBezTo>
                <a:cubicBezTo>
                  <a:pt x="17921" y="12675"/>
                  <a:pt x="17865" y="12767"/>
                  <a:pt x="17810" y="12799"/>
                </a:cubicBezTo>
                <a:cubicBezTo>
                  <a:pt x="17749" y="12819"/>
                  <a:pt x="17734" y="12817"/>
                  <a:pt x="17711" y="12849"/>
                </a:cubicBezTo>
                <a:cubicBezTo>
                  <a:pt x="17772" y="12879"/>
                  <a:pt x="17920" y="12938"/>
                  <a:pt x="17959" y="12998"/>
                </a:cubicBezTo>
                <a:cubicBezTo>
                  <a:pt x="18026" y="13101"/>
                  <a:pt x="17958" y="13177"/>
                  <a:pt x="17909" y="13246"/>
                </a:cubicBezTo>
                <a:cubicBezTo>
                  <a:pt x="17857" y="13319"/>
                  <a:pt x="17799" y="13304"/>
                  <a:pt x="17711" y="13271"/>
                </a:cubicBezTo>
                <a:cubicBezTo>
                  <a:pt x="17664" y="13253"/>
                  <a:pt x="17577" y="13172"/>
                  <a:pt x="17562" y="13122"/>
                </a:cubicBezTo>
                <a:cubicBezTo>
                  <a:pt x="17562" y="13059"/>
                  <a:pt x="17569" y="13032"/>
                  <a:pt x="17611" y="12998"/>
                </a:cubicBezTo>
              </a:path>
              <a:path w="9551" h="4143">
                <a:moveTo>
                  <a:pt x="18504" y="12973"/>
                </a:moveTo>
                <a:cubicBezTo>
                  <a:pt x="18518" y="13077"/>
                  <a:pt x="18529" y="13148"/>
                  <a:pt x="18529" y="13246"/>
                </a:cubicBezTo>
                <a:cubicBezTo>
                  <a:pt x="18494" y="13151"/>
                  <a:pt x="18444" y="13049"/>
                  <a:pt x="18430" y="12948"/>
                </a:cubicBezTo>
                <a:cubicBezTo>
                  <a:pt x="18416" y="12849"/>
                  <a:pt x="18405" y="12751"/>
                  <a:pt x="18405" y="12650"/>
                </a:cubicBezTo>
                <a:cubicBezTo>
                  <a:pt x="18405" y="12509"/>
                  <a:pt x="18461" y="12482"/>
                  <a:pt x="18604" y="12452"/>
                </a:cubicBezTo>
                <a:cubicBezTo>
                  <a:pt x="18717" y="12429"/>
                  <a:pt x="18859" y="12452"/>
                  <a:pt x="18976" y="12452"/>
                </a:cubicBezTo>
              </a:path>
              <a:path w="9551" h="4143">
                <a:moveTo>
                  <a:pt x="18604" y="12626"/>
                </a:moveTo>
                <a:cubicBezTo>
                  <a:pt x="18675" y="12697"/>
                  <a:pt x="18713" y="12663"/>
                  <a:pt x="18802" y="12650"/>
                </a:cubicBezTo>
                <a:cubicBezTo>
                  <a:pt x="18907" y="12634"/>
                  <a:pt x="18941" y="12653"/>
                  <a:pt x="19000" y="12725"/>
                </a:cubicBezTo>
                <a:cubicBezTo>
                  <a:pt x="19062" y="12800"/>
                  <a:pt x="19011" y="12889"/>
                  <a:pt x="18926" y="12923"/>
                </a:cubicBezTo>
                <a:cubicBezTo>
                  <a:pt x="18842" y="12944"/>
                  <a:pt x="18823" y="12959"/>
                  <a:pt x="18777" y="12923"/>
                </a:cubicBezTo>
                <a:cubicBezTo>
                  <a:pt x="18859" y="12874"/>
                  <a:pt x="18966" y="12913"/>
                  <a:pt x="19025" y="12998"/>
                </a:cubicBezTo>
                <a:cubicBezTo>
                  <a:pt x="19068" y="13060"/>
                  <a:pt x="19102" y="13222"/>
                  <a:pt x="19075" y="13295"/>
                </a:cubicBezTo>
                <a:cubicBezTo>
                  <a:pt x="19040" y="13390"/>
                  <a:pt x="18944" y="13419"/>
                  <a:pt x="18852" y="13395"/>
                </a:cubicBezTo>
                <a:cubicBezTo>
                  <a:pt x="18720" y="13360"/>
                  <a:pt x="18672" y="13256"/>
                  <a:pt x="18628" y="13146"/>
                </a:cubicBezTo>
              </a:path>
              <a:path w="9551" h="4143">
                <a:moveTo>
                  <a:pt x="18058" y="11609"/>
                </a:moveTo>
                <a:cubicBezTo>
                  <a:pt x="18089" y="11749"/>
                  <a:pt x="18113" y="11792"/>
                  <a:pt x="18182" y="11906"/>
                </a:cubicBezTo>
                <a:cubicBezTo>
                  <a:pt x="18207" y="11956"/>
                  <a:pt x="18215" y="11972"/>
                  <a:pt x="18231" y="12005"/>
                </a:cubicBezTo>
                <a:cubicBezTo>
                  <a:pt x="18191" y="11912"/>
                  <a:pt x="18141" y="11827"/>
                  <a:pt x="18107" y="11733"/>
                </a:cubicBezTo>
                <a:cubicBezTo>
                  <a:pt x="18077" y="11650"/>
                  <a:pt x="18015" y="11524"/>
                  <a:pt x="18033" y="11435"/>
                </a:cubicBezTo>
                <a:cubicBezTo>
                  <a:pt x="18056" y="11321"/>
                  <a:pt x="18134" y="11258"/>
                  <a:pt x="18256" y="11237"/>
                </a:cubicBezTo>
                <a:cubicBezTo>
                  <a:pt x="18387" y="11214"/>
                  <a:pt x="18545" y="11237"/>
                  <a:pt x="18678" y="11237"/>
                </a:cubicBezTo>
              </a:path>
              <a:path w="9551" h="4143">
                <a:moveTo>
                  <a:pt x="18331" y="11485"/>
                </a:moveTo>
                <a:cubicBezTo>
                  <a:pt x="18422" y="11539"/>
                  <a:pt x="18505" y="11479"/>
                  <a:pt x="18604" y="11485"/>
                </a:cubicBezTo>
                <a:cubicBezTo>
                  <a:pt x="18665" y="11505"/>
                  <a:pt x="18679" y="11503"/>
                  <a:pt x="18703" y="11534"/>
                </a:cubicBezTo>
                <a:cubicBezTo>
                  <a:pt x="18692" y="11609"/>
                  <a:pt x="18674" y="11621"/>
                  <a:pt x="18604" y="11658"/>
                </a:cubicBezTo>
                <a:cubicBezTo>
                  <a:pt x="18548" y="11688"/>
                  <a:pt x="18492" y="11699"/>
                  <a:pt x="18430" y="11708"/>
                </a:cubicBezTo>
                <a:cubicBezTo>
                  <a:pt x="18553" y="11718"/>
                  <a:pt x="18580" y="11755"/>
                  <a:pt x="18678" y="11807"/>
                </a:cubicBezTo>
                <a:cubicBezTo>
                  <a:pt x="18763" y="11851"/>
                  <a:pt x="18825" y="11897"/>
                  <a:pt x="18752" y="12005"/>
                </a:cubicBezTo>
                <a:cubicBezTo>
                  <a:pt x="18714" y="12062"/>
                  <a:pt x="18599" y="12137"/>
                  <a:pt x="18529" y="12129"/>
                </a:cubicBezTo>
                <a:cubicBezTo>
                  <a:pt x="18458" y="12121"/>
                  <a:pt x="18445" y="12092"/>
                  <a:pt x="18455" y="12055"/>
                </a:cubicBezTo>
              </a:path>
              <a:path w="9551" h="4143">
                <a:moveTo>
                  <a:pt x="19348" y="12105"/>
                </a:moveTo>
                <a:cubicBezTo>
                  <a:pt x="19468" y="12141"/>
                  <a:pt x="19514" y="12138"/>
                  <a:pt x="19596" y="12204"/>
                </a:cubicBezTo>
              </a:path>
              <a:path w="9551" h="4143">
                <a:moveTo>
                  <a:pt x="19298" y="12477"/>
                </a:moveTo>
                <a:cubicBezTo>
                  <a:pt x="19506" y="12477"/>
                  <a:pt x="19535" y="12498"/>
                  <a:pt x="19645" y="12452"/>
                </a:cubicBezTo>
              </a:path>
              <a:path w="9551" h="4143">
                <a:moveTo>
                  <a:pt x="19893" y="11981"/>
                </a:moveTo>
                <a:cubicBezTo>
                  <a:pt x="20009" y="11981"/>
                  <a:pt x="20125" y="11981"/>
                  <a:pt x="20241" y="11981"/>
                </a:cubicBezTo>
              </a:path>
              <a:path w="9551" h="4143">
                <a:moveTo>
                  <a:pt x="20315" y="11658"/>
                </a:moveTo>
                <a:cubicBezTo>
                  <a:pt x="20438" y="11584"/>
                  <a:pt x="20480" y="11561"/>
                  <a:pt x="20613" y="11633"/>
                </a:cubicBezTo>
                <a:cubicBezTo>
                  <a:pt x="20760" y="11712"/>
                  <a:pt x="20757" y="11890"/>
                  <a:pt x="20712" y="12030"/>
                </a:cubicBezTo>
                <a:cubicBezTo>
                  <a:pt x="20685" y="12115"/>
                  <a:pt x="20591" y="12277"/>
                  <a:pt x="20513" y="12328"/>
                </a:cubicBezTo>
                <a:cubicBezTo>
                  <a:pt x="20426" y="12385"/>
                  <a:pt x="20360" y="12353"/>
                  <a:pt x="20315" y="12278"/>
                </a:cubicBezTo>
                <a:cubicBezTo>
                  <a:pt x="20268" y="12198"/>
                  <a:pt x="20263" y="12172"/>
                  <a:pt x="20315" y="12080"/>
                </a:cubicBezTo>
                <a:cubicBezTo>
                  <a:pt x="20323" y="12072"/>
                  <a:pt x="20332" y="12063"/>
                  <a:pt x="20340" y="12055"/>
                </a:cubicBezTo>
                <a:cubicBezTo>
                  <a:pt x="20494" y="12107"/>
                  <a:pt x="20549" y="12185"/>
                  <a:pt x="20662" y="12303"/>
                </a:cubicBezTo>
                <a:cubicBezTo>
                  <a:pt x="20707" y="12348"/>
                  <a:pt x="20724" y="12357"/>
                  <a:pt x="20712" y="12402"/>
                </a:cubicBezTo>
              </a:path>
              <a:path w="9551" h="4143">
                <a:moveTo>
                  <a:pt x="20935" y="11881"/>
                </a:moveTo>
                <a:cubicBezTo>
                  <a:pt x="20954" y="12015"/>
                  <a:pt x="20963" y="12154"/>
                  <a:pt x="21010" y="12278"/>
                </a:cubicBezTo>
                <a:cubicBezTo>
                  <a:pt x="21056" y="12279"/>
                  <a:pt x="20970" y="12142"/>
                  <a:pt x="20960" y="12055"/>
                </a:cubicBezTo>
                <a:cubicBezTo>
                  <a:pt x="20945" y="11923"/>
                  <a:pt x="20935" y="11792"/>
                  <a:pt x="20935" y="11658"/>
                </a:cubicBezTo>
                <a:cubicBezTo>
                  <a:pt x="20935" y="11515"/>
                  <a:pt x="20965" y="11511"/>
                  <a:pt x="21084" y="11460"/>
                </a:cubicBezTo>
                <a:cubicBezTo>
                  <a:pt x="21155" y="11430"/>
                  <a:pt x="21279" y="11397"/>
                  <a:pt x="21357" y="11410"/>
                </a:cubicBezTo>
                <a:cubicBezTo>
                  <a:pt x="21422" y="11432"/>
                  <a:pt x="21437" y="11440"/>
                  <a:pt x="21481" y="11435"/>
                </a:cubicBezTo>
              </a:path>
              <a:path w="9551" h="4143">
                <a:moveTo>
                  <a:pt x="21134" y="11733"/>
                </a:moveTo>
                <a:cubicBezTo>
                  <a:pt x="21203" y="11716"/>
                  <a:pt x="21312" y="11671"/>
                  <a:pt x="21382" y="11683"/>
                </a:cubicBezTo>
                <a:cubicBezTo>
                  <a:pt x="21511" y="11706"/>
                  <a:pt x="21490" y="11788"/>
                  <a:pt x="21481" y="11881"/>
                </a:cubicBezTo>
                <a:cubicBezTo>
                  <a:pt x="21471" y="11982"/>
                  <a:pt x="21384" y="11970"/>
                  <a:pt x="21282" y="12005"/>
                </a:cubicBezTo>
                <a:cubicBezTo>
                  <a:pt x="21374" y="12005"/>
                  <a:pt x="21474" y="11985"/>
                  <a:pt x="21530" y="12080"/>
                </a:cubicBezTo>
                <a:cubicBezTo>
                  <a:pt x="21575" y="12157"/>
                  <a:pt x="21604" y="12283"/>
                  <a:pt x="21530" y="12353"/>
                </a:cubicBezTo>
                <a:cubicBezTo>
                  <a:pt x="21469" y="12411"/>
                  <a:pt x="21383" y="12402"/>
                  <a:pt x="21307" y="12402"/>
                </a:cubicBezTo>
                <a:cubicBezTo>
                  <a:pt x="21249" y="12402"/>
                  <a:pt x="21224" y="12402"/>
                  <a:pt x="21183" y="12402"/>
                </a:cubicBezTo>
              </a:path>
              <a:path w="9551" h="4143">
                <a:moveTo>
                  <a:pt x="20365" y="12502"/>
                </a:moveTo>
                <a:cubicBezTo>
                  <a:pt x="20539" y="12529"/>
                  <a:pt x="20685" y="12506"/>
                  <a:pt x="20861" y="12502"/>
                </a:cubicBezTo>
                <a:cubicBezTo>
                  <a:pt x="21077" y="12498"/>
                  <a:pt x="21293" y="12550"/>
                  <a:pt x="21506" y="12576"/>
                </a:cubicBezTo>
                <a:cubicBezTo>
                  <a:pt x="21590" y="12586"/>
                  <a:pt x="21792" y="12677"/>
                  <a:pt x="21754" y="12601"/>
                </a:cubicBezTo>
                <a:cubicBezTo>
                  <a:pt x="21737" y="12593"/>
                  <a:pt x="21721" y="12584"/>
                  <a:pt x="21704" y="12576"/>
                </a:cubicBezTo>
              </a:path>
              <a:path w="9551" h="4143">
                <a:moveTo>
                  <a:pt x="21134" y="12774"/>
                </a:moveTo>
                <a:cubicBezTo>
                  <a:pt x="21070" y="12774"/>
                  <a:pt x="21282" y="12765"/>
                  <a:pt x="21307" y="12774"/>
                </a:cubicBezTo>
                <a:cubicBezTo>
                  <a:pt x="21391" y="12804"/>
                  <a:pt x="21408" y="12929"/>
                  <a:pt x="21382" y="12998"/>
                </a:cubicBezTo>
                <a:cubicBezTo>
                  <a:pt x="21361" y="13053"/>
                  <a:pt x="21292" y="13109"/>
                  <a:pt x="21233" y="13122"/>
                </a:cubicBezTo>
                <a:cubicBezTo>
                  <a:pt x="21183" y="13122"/>
                  <a:pt x="21167" y="13122"/>
                  <a:pt x="21134" y="13122"/>
                </a:cubicBezTo>
                <a:cubicBezTo>
                  <a:pt x="21104" y="13064"/>
                  <a:pt x="21261" y="13150"/>
                  <a:pt x="21307" y="13171"/>
                </a:cubicBezTo>
                <a:cubicBezTo>
                  <a:pt x="21412" y="13219"/>
                  <a:pt x="21508" y="13359"/>
                  <a:pt x="21530" y="13469"/>
                </a:cubicBezTo>
                <a:cubicBezTo>
                  <a:pt x="21545" y="13544"/>
                  <a:pt x="21524" y="13549"/>
                  <a:pt x="21481" y="13593"/>
                </a:cubicBezTo>
                <a:cubicBezTo>
                  <a:pt x="21348" y="13552"/>
                  <a:pt x="21261" y="13537"/>
                  <a:pt x="21158" y="13444"/>
                </a:cubicBezTo>
                <a:cubicBezTo>
                  <a:pt x="21089" y="13381"/>
                  <a:pt x="21016" y="13345"/>
                  <a:pt x="20960" y="132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Ink 14"/>
          <p:cNvSpPr/>
          <p:nvPr/>
        </p:nvSpPr>
        <p:spPr>
          <a:xfrm>
            <a:off x="2017800" y="5500800"/>
            <a:ext cx="2295360" cy="741240"/>
          </a:xfrm>
          <a:custGeom>
            <a:avLst/>
            <a:gdLst/>
            <a:ahLst/>
            <a:rect l="l" t="t" r="r" b="b"/>
            <a:pathLst>
              <a:path w="6376" h="2059">
                <a:moveTo>
                  <a:pt x="5779" y="15280"/>
                </a:moveTo>
                <a:cubicBezTo>
                  <a:pt x="5804" y="15346"/>
                  <a:pt x="5821" y="15432"/>
                  <a:pt x="5829" y="15503"/>
                </a:cubicBezTo>
                <a:cubicBezTo>
                  <a:pt x="5839" y="15593"/>
                  <a:pt x="5849" y="15687"/>
                  <a:pt x="5854" y="15776"/>
                </a:cubicBezTo>
                <a:cubicBezTo>
                  <a:pt x="5854" y="15843"/>
                  <a:pt x="5858" y="15877"/>
                  <a:pt x="5879" y="15925"/>
                </a:cubicBezTo>
              </a:path>
              <a:path w="6376" h="2059">
                <a:moveTo>
                  <a:pt x="5606" y="15925"/>
                </a:moveTo>
                <a:cubicBezTo>
                  <a:pt x="5721" y="15935"/>
                  <a:pt x="5838" y="15947"/>
                  <a:pt x="5953" y="15974"/>
                </a:cubicBezTo>
                <a:cubicBezTo>
                  <a:pt x="6041" y="15995"/>
                  <a:pt x="6109" y="15999"/>
                  <a:pt x="6201" y="15999"/>
                </a:cubicBezTo>
              </a:path>
              <a:path w="6376" h="2059">
                <a:moveTo>
                  <a:pt x="5879" y="16148"/>
                </a:moveTo>
                <a:cubicBezTo>
                  <a:pt x="5914" y="16143"/>
                  <a:pt x="6006" y="16095"/>
                  <a:pt x="6028" y="16098"/>
                </a:cubicBezTo>
                <a:cubicBezTo>
                  <a:pt x="6149" y="16114"/>
                  <a:pt x="6196" y="16203"/>
                  <a:pt x="6176" y="16321"/>
                </a:cubicBezTo>
                <a:cubicBezTo>
                  <a:pt x="6164" y="16395"/>
                  <a:pt x="6135" y="16526"/>
                  <a:pt x="6102" y="16594"/>
                </a:cubicBezTo>
                <a:cubicBezTo>
                  <a:pt x="6080" y="16640"/>
                  <a:pt x="6023" y="16761"/>
                  <a:pt x="5978" y="16793"/>
                </a:cubicBezTo>
                <a:cubicBezTo>
                  <a:pt x="5896" y="16851"/>
                  <a:pt x="5862" y="16856"/>
                  <a:pt x="5804" y="16793"/>
                </a:cubicBezTo>
                <a:cubicBezTo>
                  <a:pt x="5753" y="16737"/>
                  <a:pt x="5785" y="16672"/>
                  <a:pt x="5829" y="16619"/>
                </a:cubicBezTo>
                <a:cubicBezTo>
                  <a:pt x="5873" y="16566"/>
                  <a:pt x="5965" y="16636"/>
                  <a:pt x="6003" y="16669"/>
                </a:cubicBezTo>
                <a:cubicBezTo>
                  <a:pt x="6058" y="16715"/>
                  <a:pt x="6050" y="16740"/>
                  <a:pt x="6077" y="16793"/>
                </a:cubicBezTo>
                <a:cubicBezTo>
                  <a:pt x="6125" y="16889"/>
                  <a:pt x="6151" y="16795"/>
                  <a:pt x="6176" y="16743"/>
                </a:cubicBezTo>
              </a:path>
              <a:path w="6376" h="2059">
                <a:moveTo>
                  <a:pt x="6524" y="16098"/>
                </a:moveTo>
                <a:cubicBezTo>
                  <a:pt x="6497" y="16152"/>
                  <a:pt x="6567" y="16179"/>
                  <a:pt x="6548" y="16123"/>
                </a:cubicBezTo>
              </a:path>
              <a:path w="6376" h="2059">
                <a:moveTo>
                  <a:pt x="7020" y="15677"/>
                </a:moveTo>
                <a:cubicBezTo>
                  <a:pt x="7045" y="15701"/>
                  <a:pt x="7053" y="15709"/>
                  <a:pt x="7069" y="15726"/>
                </a:cubicBezTo>
                <a:cubicBezTo>
                  <a:pt x="7099" y="15674"/>
                  <a:pt x="7129" y="15622"/>
                  <a:pt x="7169" y="15577"/>
                </a:cubicBezTo>
                <a:cubicBezTo>
                  <a:pt x="7201" y="15541"/>
                  <a:pt x="7322" y="15539"/>
                  <a:pt x="7367" y="15553"/>
                </a:cubicBezTo>
                <a:cubicBezTo>
                  <a:pt x="7422" y="15570"/>
                  <a:pt x="7450" y="15705"/>
                  <a:pt x="7441" y="15751"/>
                </a:cubicBezTo>
                <a:cubicBezTo>
                  <a:pt x="7422" y="15844"/>
                  <a:pt x="7406" y="15933"/>
                  <a:pt x="7367" y="16024"/>
                </a:cubicBezTo>
                <a:cubicBezTo>
                  <a:pt x="7337" y="16092"/>
                  <a:pt x="7282" y="16135"/>
                  <a:pt x="7218" y="16148"/>
                </a:cubicBezTo>
                <a:cubicBezTo>
                  <a:pt x="7124" y="16167"/>
                  <a:pt x="7100" y="16067"/>
                  <a:pt x="7094" y="15999"/>
                </a:cubicBezTo>
                <a:cubicBezTo>
                  <a:pt x="7094" y="15982"/>
                  <a:pt x="7094" y="15966"/>
                  <a:pt x="7094" y="15949"/>
                </a:cubicBezTo>
                <a:cubicBezTo>
                  <a:pt x="7180" y="15961"/>
                  <a:pt x="7181" y="16008"/>
                  <a:pt x="7243" y="16073"/>
                </a:cubicBezTo>
                <a:cubicBezTo>
                  <a:pt x="7292" y="16124"/>
                  <a:pt x="7310" y="16159"/>
                  <a:pt x="7367" y="16173"/>
                </a:cubicBezTo>
              </a:path>
              <a:path w="6376" h="2059">
                <a:moveTo>
                  <a:pt x="7789" y="16049"/>
                </a:moveTo>
                <a:cubicBezTo>
                  <a:pt x="7716" y="16112"/>
                  <a:pt x="7674" y="16120"/>
                  <a:pt x="7590" y="16148"/>
                </a:cubicBezTo>
                <a:cubicBezTo>
                  <a:pt x="7507" y="16176"/>
                  <a:pt x="7435" y="16219"/>
                  <a:pt x="7367" y="16272"/>
                </a:cubicBezTo>
                <a:cubicBezTo>
                  <a:pt x="7305" y="16319"/>
                  <a:pt x="7258" y="16378"/>
                  <a:pt x="7193" y="16421"/>
                </a:cubicBezTo>
              </a:path>
              <a:path w="6376" h="2059">
                <a:moveTo>
                  <a:pt x="6747" y="16197"/>
                </a:moveTo>
                <a:cubicBezTo>
                  <a:pt x="6802" y="16165"/>
                  <a:pt x="6854" y="16173"/>
                  <a:pt x="6921" y="16173"/>
                </a:cubicBezTo>
                <a:cubicBezTo>
                  <a:pt x="6980" y="16173"/>
                  <a:pt x="7006" y="16170"/>
                  <a:pt x="7045" y="16148"/>
                </a:cubicBezTo>
              </a:path>
              <a:path w="6376" h="2059">
                <a:moveTo>
                  <a:pt x="7193" y="16718"/>
                </a:moveTo>
                <a:cubicBezTo>
                  <a:pt x="7193" y="16833"/>
                  <a:pt x="7174" y="16929"/>
                  <a:pt x="7169" y="17041"/>
                </a:cubicBezTo>
                <a:cubicBezTo>
                  <a:pt x="7169" y="17099"/>
                  <a:pt x="7169" y="17124"/>
                  <a:pt x="7169" y="17165"/>
                </a:cubicBezTo>
                <a:cubicBezTo>
                  <a:pt x="7150" y="17079"/>
                  <a:pt x="7169" y="16990"/>
                  <a:pt x="7169" y="16892"/>
                </a:cubicBezTo>
                <a:cubicBezTo>
                  <a:pt x="7169" y="16820"/>
                  <a:pt x="7185" y="16751"/>
                  <a:pt x="7193" y="16694"/>
                </a:cubicBezTo>
                <a:cubicBezTo>
                  <a:pt x="7200" y="16644"/>
                  <a:pt x="7196" y="16541"/>
                  <a:pt x="7268" y="16520"/>
                </a:cubicBezTo>
                <a:cubicBezTo>
                  <a:pt x="7345" y="16498"/>
                  <a:pt x="7433" y="16474"/>
                  <a:pt x="7516" y="16470"/>
                </a:cubicBezTo>
                <a:cubicBezTo>
                  <a:pt x="7573" y="16467"/>
                  <a:pt x="7631" y="16470"/>
                  <a:pt x="7689" y="16470"/>
                </a:cubicBezTo>
              </a:path>
              <a:path w="6376" h="2059">
                <a:moveTo>
                  <a:pt x="7516" y="16644"/>
                </a:moveTo>
                <a:cubicBezTo>
                  <a:pt x="7593" y="16683"/>
                  <a:pt x="7699" y="16686"/>
                  <a:pt x="7789" y="16718"/>
                </a:cubicBezTo>
                <a:cubicBezTo>
                  <a:pt x="7778" y="16817"/>
                  <a:pt x="7774" y="16870"/>
                  <a:pt x="7665" y="16892"/>
                </a:cubicBezTo>
                <a:cubicBezTo>
                  <a:pt x="7558" y="16914"/>
                  <a:pt x="7553" y="16897"/>
                  <a:pt x="7689" y="16917"/>
                </a:cubicBezTo>
                <a:cubicBezTo>
                  <a:pt x="7767" y="16928"/>
                  <a:pt x="7797" y="17006"/>
                  <a:pt x="7813" y="17090"/>
                </a:cubicBezTo>
                <a:cubicBezTo>
                  <a:pt x="7820" y="17128"/>
                  <a:pt x="7786" y="17254"/>
                  <a:pt x="7739" y="17264"/>
                </a:cubicBezTo>
                <a:cubicBezTo>
                  <a:pt x="7613" y="17290"/>
                  <a:pt x="7587" y="17234"/>
                  <a:pt x="7541" y="17140"/>
                </a:cubicBezTo>
              </a:path>
              <a:path w="6376" h="2059">
                <a:moveTo>
                  <a:pt x="6300" y="16321"/>
                </a:moveTo>
                <a:cubicBezTo>
                  <a:pt x="6187" y="16415"/>
                  <a:pt x="5965" y="16583"/>
                  <a:pt x="5879" y="16718"/>
                </a:cubicBezTo>
                <a:cubicBezTo>
                  <a:pt x="5879" y="16735"/>
                  <a:pt x="5879" y="16751"/>
                  <a:pt x="5879" y="16768"/>
                </a:cubicBezTo>
              </a:path>
              <a:path w="6376" h="2059">
                <a:moveTo>
                  <a:pt x="7640" y="15503"/>
                </a:moveTo>
                <a:cubicBezTo>
                  <a:pt x="7573" y="15619"/>
                  <a:pt x="7502" y="15680"/>
                  <a:pt x="7417" y="15776"/>
                </a:cubicBezTo>
                <a:cubicBezTo>
                  <a:pt x="7359" y="15843"/>
                  <a:pt x="7321" y="15930"/>
                  <a:pt x="7268" y="15999"/>
                </a:cubicBezTo>
                <a:cubicBezTo>
                  <a:pt x="7260" y="16007"/>
                  <a:pt x="7251" y="16016"/>
                  <a:pt x="7243" y="16024"/>
                </a:cubicBezTo>
              </a:path>
              <a:path w="6376" h="2059">
                <a:moveTo>
                  <a:pt x="8111" y="16098"/>
                </a:moveTo>
                <a:cubicBezTo>
                  <a:pt x="8185" y="16098"/>
                  <a:pt x="8260" y="16098"/>
                  <a:pt x="8334" y="16098"/>
                </a:cubicBezTo>
              </a:path>
              <a:path w="6376" h="2059">
                <a:moveTo>
                  <a:pt x="8086" y="16346"/>
                </a:moveTo>
                <a:cubicBezTo>
                  <a:pt x="8182" y="16355"/>
                  <a:pt x="8237" y="16357"/>
                  <a:pt x="8334" y="16346"/>
                </a:cubicBezTo>
              </a:path>
              <a:path w="6376" h="2059">
                <a:moveTo>
                  <a:pt x="8632" y="16173"/>
                </a:moveTo>
                <a:cubicBezTo>
                  <a:pt x="8706" y="16173"/>
                  <a:pt x="8781" y="16173"/>
                  <a:pt x="8855" y="16173"/>
                </a:cubicBezTo>
              </a:path>
              <a:path w="6376" h="2059">
                <a:moveTo>
                  <a:pt x="9203" y="15627"/>
                </a:moveTo>
                <a:cubicBezTo>
                  <a:pt x="9237" y="15754"/>
                  <a:pt x="9263" y="15861"/>
                  <a:pt x="9277" y="15999"/>
                </a:cubicBezTo>
                <a:cubicBezTo>
                  <a:pt x="9284" y="16071"/>
                  <a:pt x="9277" y="16149"/>
                  <a:pt x="9277" y="16222"/>
                </a:cubicBezTo>
              </a:path>
              <a:path w="6376" h="2059">
                <a:moveTo>
                  <a:pt x="9500" y="16222"/>
                </a:moveTo>
                <a:cubicBezTo>
                  <a:pt x="9415" y="16262"/>
                  <a:pt x="9319" y="16309"/>
                  <a:pt x="9227" y="16321"/>
                </a:cubicBezTo>
                <a:cubicBezTo>
                  <a:pt x="9151" y="16331"/>
                  <a:pt x="9078" y="16340"/>
                  <a:pt x="9004" y="16346"/>
                </a:cubicBezTo>
                <a:cubicBezTo>
                  <a:pt x="8996" y="16346"/>
                  <a:pt x="8987" y="16346"/>
                  <a:pt x="8979" y="16346"/>
                </a:cubicBezTo>
              </a:path>
              <a:path w="6376" h="2059">
                <a:moveTo>
                  <a:pt x="9004" y="16570"/>
                </a:moveTo>
                <a:cubicBezTo>
                  <a:pt x="9073" y="16551"/>
                  <a:pt x="9108" y="16545"/>
                  <a:pt x="9178" y="16545"/>
                </a:cubicBezTo>
                <a:cubicBezTo>
                  <a:pt x="9178" y="16656"/>
                  <a:pt x="9158" y="16758"/>
                  <a:pt x="9153" y="16867"/>
                </a:cubicBezTo>
                <a:cubicBezTo>
                  <a:pt x="9149" y="16952"/>
                  <a:pt x="9128" y="17027"/>
                  <a:pt x="9128" y="17115"/>
                </a:cubicBezTo>
                <a:cubicBezTo>
                  <a:pt x="9128" y="17140"/>
                  <a:pt x="9128" y="17165"/>
                  <a:pt x="9128" y="17190"/>
                </a:cubicBezTo>
                <a:cubicBezTo>
                  <a:pt x="9128" y="17330"/>
                  <a:pt x="9128" y="17090"/>
                  <a:pt x="9128" y="17066"/>
                </a:cubicBezTo>
                <a:cubicBezTo>
                  <a:pt x="9128" y="16938"/>
                  <a:pt x="9073" y="16619"/>
                  <a:pt x="9153" y="16520"/>
                </a:cubicBezTo>
                <a:cubicBezTo>
                  <a:pt x="9217" y="16440"/>
                  <a:pt x="9307" y="16533"/>
                  <a:pt x="9376" y="16545"/>
                </a:cubicBezTo>
                <a:cubicBezTo>
                  <a:pt x="9478" y="16562"/>
                  <a:pt x="9523" y="16564"/>
                  <a:pt x="9624" y="16545"/>
                </a:cubicBezTo>
                <a:cubicBezTo>
                  <a:pt x="9632" y="16545"/>
                  <a:pt x="9641" y="16545"/>
                  <a:pt x="9649" y="16545"/>
                </a:cubicBezTo>
              </a:path>
              <a:path w="6376" h="2059">
                <a:moveTo>
                  <a:pt x="9376" y="16669"/>
                </a:moveTo>
                <a:cubicBezTo>
                  <a:pt x="9428" y="16695"/>
                  <a:pt x="9474" y="16655"/>
                  <a:pt x="9550" y="16644"/>
                </a:cubicBezTo>
                <a:cubicBezTo>
                  <a:pt x="9585" y="16639"/>
                  <a:pt x="9665" y="16675"/>
                  <a:pt x="9674" y="16718"/>
                </a:cubicBezTo>
                <a:cubicBezTo>
                  <a:pt x="9699" y="16837"/>
                  <a:pt x="9600" y="16896"/>
                  <a:pt x="9500" y="16917"/>
                </a:cubicBezTo>
                <a:cubicBezTo>
                  <a:pt x="9484" y="16917"/>
                  <a:pt x="9467" y="16917"/>
                  <a:pt x="9451" y="16917"/>
                </a:cubicBezTo>
                <a:cubicBezTo>
                  <a:pt x="9569" y="16927"/>
                  <a:pt x="9643" y="16935"/>
                  <a:pt x="9674" y="17066"/>
                </a:cubicBezTo>
                <a:cubicBezTo>
                  <a:pt x="9690" y="17131"/>
                  <a:pt x="9727" y="17289"/>
                  <a:pt x="9649" y="17338"/>
                </a:cubicBezTo>
                <a:cubicBezTo>
                  <a:pt x="9583" y="17380"/>
                  <a:pt x="9445" y="17310"/>
                  <a:pt x="9401" y="17264"/>
                </a:cubicBezTo>
                <a:cubicBezTo>
                  <a:pt x="9376" y="17231"/>
                  <a:pt x="9352" y="17198"/>
                  <a:pt x="9327" y="17165"/>
                </a:cubicBezTo>
              </a:path>
              <a:path w="6376" h="2059">
                <a:moveTo>
                  <a:pt x="9897" y="16619"/>
                </a:moveTo>
                <a:cubicBezTo>
                  <a:pt x="9974" y="16674"/>
                  <a:pt x="10007" y="16740"/>
                  <a:pt x="10021" y="16842"/>
                </a:cubicBezTo>
                <a:cubicBezTo>
                  <a:pt x="10037" y="16957"/>
                  <a:pt x="10066" y="17072"/>
                  <a:pt x="10071" y="17190"/>
                </a:cubicBezTo>
                <a:cubicBezTo>
                  <a:pt x="10071" y="17234"/>
                  <a:pt x="10074" y="17248"/>
                  <a:pt x="10046" y="17264"/>
                </a:cubicBezTo>
                <a:cubicBezTo>
                  <a:pt x="10046" y="17183"/>
                  <a:pt x="10024" y="17118"/>
                  <a:pt x="10021" y="17041"/>
                </a:cubicBezTo>
                <a:cubicBezTo>
                  <a:pt x="10016" y="16912"/>
                  <a:pt x="10035" y="16789"/>
                  <a:pt x="10046" y="16669"/>
                </a:cubicBezTo>
                <a:cubicBezTo>
                  <a:pt x="10054" y="16580"/>
                  <a:pt x="10034" y="16496"/>
                  <a:pt x="10145" y="16470"/>
                </a:cubicBezTo>
                <a:cubicBezTo>
                  <a:pt x="10200" y="16457"/>
                  <a:pt x="10315" y="16523"/>
                  <a:pt x="10368" y="16545"/>
                </a:cubicBezTo>
                <a:cubicBezTo>
                  <a:pt x="10432" y="16571"/>
                  <a:pt x="10466" y="16599"/>
                  <a:pt x="10517" y="16644"/>
                </a:cubicBezTo>
              </a:path>
              <a:path w="6376" h="2059">
                <a:moveTo>
                  <a:pt x="10195" y="16743"/>
                </a:moveTo>
                <a:cubicBezTo>
                  <a:pt x="10267" y="16754"/>
                  <a:pt x="10311" y="16768"/>
                  <a:pt x="10393" y="16768"/>
                </a:cubicBezTo>
                <a:cubicBezTo>
                  <a:pt x="10467" y="16768"/>
                  <a:pt x="10567" y="16782"/>
                  <a:pt x="10592" y="16867"/>
                </a:cubicBezTo>
                <a:cubicBezTo>
                  <a:pt x="10617" y="16950"/>
                  <a:pt x="10525" y="16963"/>
                  <a:pt x="10468" y="16966"/>
                </a:cubicBezTo>
                <a:cubicBezTo>
                  <a:pt x="10451" y="16966"/>
                  <a:pt x="10435" y="16966"/>
                  <a:pt x="10418" y="16966"/>
                </a:cubicBezTo>
                <a:cubicBezTo>
                  <a:pt x="10485" y="16997"/>
                  <a:pt x="10572" y="17030"/>
                  <a:pt x="10592" y="17115"/>
                </a:cubicBezTo>
                <a:cubicBezTo>
                  <a:pt x="10614" y="17207"/>
                  <a:pt x="10593" y="17248"/>
                  <a:pt x="10517" y="17289"/>
                </a:cubicBezTo>
                <a:cubicBezTo>
                  <a:pt x="10381" y="17362"/>
                  <a:pt x="10317" y="17217"/>
                  <a:pt x="10269" y="17115"/>
                </a:cubicBezTo>
                <a:cubicBezTo>
                  <a:pt x="10261" y="17090"/>
                  <a:pt x="10252" y="17066"/>
                  <a:pt x="10244" y="17041"/>
                </a:cubicBezTo>
              </a:path>
              <a:path w="6376" h="2059">
                <a:moveTo>
                  <a:pt x="9872" y="15627"/>
                </a:moveTo>
                <a:cubicBezTo>
                  <a:pt x="9872" y="15806"/>
                  <a:pt x="9881" y="15894"/>
                  <a:pt x="9947" y="16073"/>
                </a:cubicBezTo>
                <a:cubicBezTo>
                  <a:pt x="9955" y="16090"/>
                  <a:pt x="9963" y="16106"/>
                  <a:pt x="9971" y="16123"/>
                </a:cubicBezTo>
                <a:cubicBezTo>
                  <a:pt x="9860" y="16022"/>
                  <a:pt x="9875" y="15991"/>
                  <a:pt x="9847" y="15850"/>
                </a:cubicBezTo>
                <a:cubicBezTo>
                  <a:pt x="9824" y="15738"/>
                  <a:pt x="9803" y="15617"/>
                  <a:pt x="9798" y="15503"/>
                </a:cubicBezTo>
                <a:cubicBezTo>
                  <a:pt x="9794" y="15404"/>
                  <a:pt x="9814" y="15353"/>
                  <a:pt x="9897" y="15304"/>
                </a:cubicBezTo>
                <a:cubicBezTo>
                  <a:pt x="9957" y="15269"/>
                  <a:pt x="10035" y="15301"/>
                  <a:pt x="10096" y="15329"/>
                </a:cubicBezTo>
                <a:cubicBezTo>
                  <a:pt x="10174" y="15364"/>
                  <a:pt x="10247" y="15408"/>
                  <a:pt x="10319" y="15453"/>
                </a:cubicBezTo>
              </a:path>
              <a:path w="6376" h="2059">
                <a:moveTo>
                  <a:pt x="10195" y="15577"/>
                </a:moveTo>
                <a:cubicBezTo>
                  <a:pt x="10256" y="15618"/>
                  <a:pt x="10331" y="15635"/>
                  <a:pt x="10393" y="15677"/>
                </a:cubicBezTo>
                <a:cubicBezTo>
                  <a:pt x="10418" y="15701"/>
                  <a:pt x="10427" y="15709"/>
                  <a:pt x="10443" y="15726"/>
                </a:cubicBezTo>
                <a:cubicBezTo>
                  <a:pt x="10434" y="15731"/>
                  <a:pt x="10233" y="15805"/>
                  <a:pt x="10244" y="15825"/>
                </a:cubicBezTo>
                <a:cubicBezTo>
                  <a:pt x="10275" y="15880"/>
                  <a:pt x="10415" y="15900"/>
                  <a:pt x="10443" y="15949"/>
                </a:cubicBezTo>
                <a:cubicBezTo>
                  <a:pt x="10443" y="15999"/>
                  <a:pt x="10443" y="16016"/>
                  <a:pt x="10443" y="16049"/>
                </a:cubicBezTo>
                <a:cubicBezTo>
                  <a:pt x="10379" y="16067"/>
                  <a:pt x="10255" y="16109"/>
                  <a:pt x="10195" y="16049"/>
                </a:cubicBezTo>
                <a:cubicBezTo>
                  <a:pt x="10175" y="16008"/>
                  <a:pt x="10166" y="16002"/>
                  <a:pt x="10170" y="15974"/>
                </a:cubicBezTo>
              </a:path>
              <a:path w="6376" h="2059">
                <a:moveTo>
                  <a:pt x="10765" y="16024"/>
                </a:moveTo>
                <a:cubicBezTo>
                  <a:pt x="10798" y="16032"/>
                  <a:pt x="10831" y="16041"/>
                  <a:pt x="10864" y="16049"/>
                </a:cubicBezTo>
              </a:path>
              <a:path w="6376" h="2059">
                <a:moveTo>
                  <a:pt x="10616" y="16346"/>
                </a:moveTo>
                <a:cubicBezTo>
                  <a:pt x="10723" y="16371"/>
                  <a:pt x="10752" y="16393"/>
                  <a:pt x="10840" y="16371"/>
                </a:cubicBezTo>
              </a:path>
              <a:path w="6376" h="2059">
                <a:moveTo>
                  <a:pt x="11013" y="16148"/>
                </a:moveTo>
                <a:cubicBezTo>
                  <a:pt x="11111" y="16142"/>
                  <a:pt x="11132" y="16139"/>
                  <a:pt x="11212" y="16123"/>
                </a:cubicBezTo>
              </a:path>
              <a:path w="6376" h="2059">
                <a:moveTo>
                  <a:pt x="11361" y="15825"/>
                </a:moveTo>
                <a:cubicBezTo>
                  <a:pt x="11361" y="15931"/>
                  <a:pt x="11370" y="16024"/>
                  <a:pt x="11385" y="16123"/>
                </a:cubicBezTo>
                <a:cubicBezTo>
                  <a:pt x="11385" y="16140"/>
                  <a:pt x="11385" y="16156"/>
                  <a:pt x="11385" y="16173"/>
                </a:cubicBezTo>
                <a:cubicBezTo>
                  <a:pt x="11418" y="16074"/>
                  <a:pt x="11395" y="16020"/>
                  <a:pt x="11385" y="15925"/>
                </a:cubicBezTo>
                <a:cubicBezTo>
                  <a:pt x="11379" y="15864"/>
                  <a:pt x="11350" y="15421"/>
                  <a:pt x="11410" y="15404"/>
                </a:cubicBezTo>
                <a:cubicBezTo>
                  <a:pt x="11519" y="15374"/>
                  <a:pt x="11649" y="15439"/>
                  <a:pt x="11733" y="15503"/>
                </a:cubicBezTo>
                <a:cubicBezTo>
                  <a:pt x="11741" y="15511"/>
                  <a:pt x="11749" y="15520"/>
                  <a:pt x="11757" y="15528"/>
                </a:cubicBezTo>
              </a:path>
              <a:path w="6376" h="2059">
                <a:moveTo>
                  <a:pt x="11658" y="15776"/>
                </a:moveTo>
                <a:cubicBezTo>
                  <a:pt x="11714" y="15743"/>
                  <a:pt x="11770" y="15738"/>
                  <a:pt x="11832" y="15776"/>
                </a:cubicBezTo>
                <a:cubicBezTo>
                  <a:pt x="11891" y="15812"/>
                  <a:pt x="11850" y="15916"/>
                  <a:pt x="11807" y="15949"/>
                </a:cubicBezTo>
                <a:cubicBezTo>
                  <a:pt x="11757" y="15988"/>
                  <a:pt x="11633" y="15886"/>
                  <a:pt x="11633" y="15949"/>
                </a:cubicBezTo>
                <a:cubicBezTo>
                  <a:pt x="11633" y="16036"/>
                  <a:pt x="11788" y="15970"/>
                  <a:pt x="11782" y="16173"/>
                </a:cubicBezTo>
                <a:cubicBezTo>
                  <a:pt x="11762" y="16233"/>
                  <a:pt x="11763" y="16247"/>
                  <a:pt x="11733" y="16272"/>
                </a:cubicBezTo>
                <a:cubicBezTo>
                  <a:pt x="11646" y="16260"/>
                  <a:pt x="11614" y="16254"/>
                  <a:pt x="11559" y="16173"/>
                </a:cubicBezTo>
                <a:cubicBezTo>
                  <a:pt x="11537" y="16129"/>
                  <a:pt x="11534" y="16117"/>
                  <a:pt x="11509" y="16098"/>
                </a:cubicBezTo>
              </a:path>
              <a:path w="6376" h="2059">
                <a:moveTo>
                  <a:pt x="11782" y="16346"/>
                </a:moveTo>
                <a:cubicBezTo>
                  <a:pt x="11704" y="16418"/>
                  <a:pt x="11626" y="16493"/>
                  <a:pt x="11534" y="16545"/>
                </a:cubicBezTo>
                <a:cubicBezTo>
                  <a:pt x="11465" y="16584"/>
                  <a:pt x="11418" y="16638"/>
                  <a:pt x="11361" y="16694"/>
                </a:cubicBezTo>
                <a:cubicBezTo>
                  <a:pt x="11338" y="16716"/>
                  <a:pt x="11330" y="16721"/>
                  <a:pt x="11336" y="16743"/>
                </a:cubicBezTo>
              </a:path>
              <a:path w="6376" h="2059">
                <a:moveTo>
                  <a:pt x="11584" y="16694"/>
                </a:moveTo>
                <a:cubicBezTo>
                  <a:pt x="11664" y="16677"/>
                  <a:pt x="11774" y="16647"/>
                  <a:pt x="11857" y="16669"/>
                </a:cubicBezTo>
                <a:cubicBezTo>
                  <a:pt x="11940" y="16691"/>
                  <a:pt x="11990" y="16737"/>
                  <a:pt x="11931" y="16818"/>
                </a:cubicBezTo>
                <a:cubicBezTo>
                  <a:pt x="11882" y="16885"/>
                  <a:pt x="11808" y="16907"/>
                  <a:pt x="11733" y="16917"/>
                </a:cubicBezTo>
                <a:cubicBezTo>
                  <a:pt x="11789" y="16849"/>
                  <a:pt x="11825" y="16860"/>
                  <a:pt x="11906" y="16917"/>
                </a:cubicBezTo>
                <a:cubicBezTo>
                  <a:pt x="12006" y="16987"/>
                  <a:pt x="11977" y="17145"/>
                  <a:pt x="11956" y="17239"/>
                </a:cubicBezTo>
                <a:cubicBezTo>
                  <a:pt x="11938" y="17319"/>
                  <a:pt x="11852" y="17339"/>
                  <a:pt x="11782" y="17314"/>
                </a:cubicBezTo>
                <a:cubicBezTo>
                  <a:pt x="11739" y="17299"/>
                  <a:pt x="11682" y="17178"/>
                  <a:pt x="11658" y="171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nk 15"/>
          <p:cNvSpPr/>
          <p:nvPr/>
        </p:nvSpPr>
        <p:spPr>
          <a:xfrm>
            <a:off x="5929200" y="4946760"/>
            <a:ext cx="2616480" cy="947520"/>
          </a:xfrm>
          <a:custGeom>
            <a:avLst/>
            <a:gdLst/>
            <a:ahLst/>
            <a:rect l="l" t="t" r="r" b="b"/>
            <a:pathLst>
              <a:path w="7269" h="2630">
                <a:moveTo>
                  <a:pt x="16470" y="14908"/>
                </a:moveTo>
                <a:cubicBezTo>
                  <a:pt x="16599" y="14908"/>
                  <a:pt x="16720" y="14913"/>
                  <a:pt x="16842" y="14932"/>
                </a:cubicBezTo>
                <a:cubicBezTo>
                  <a:pt x="16911" y="14943"/>
                  <a:pt x="16959" y="14964"/>
                  <a:pt x="17016" y="15007"/>
                </a:cubicBezTo>
                <a:cubicBezTo>
                  <a:pt x="17039" y="15030"/>
                  <a:pt x="17043" y="15038"/>
                  <a:pt x="17066" y="15032"/>
                </a:cubicBezTo>
              </a:path>
              <a:path w="7269" h="2630">
                <a:moveTo>
                  <a:pt x="17289" y="14312"/>
                </a:moveTo>
                <a:cubicBezTo>
                  <a:pt x="17269" y="14272"/>
                  <a:pt x="17288" y="14246"/>
                  <a:pt x="17338" y="14213"/>
                </a:cubicBezTo>
                <a:cubicBezTo>
                  <a:pt x="17399" y="14173"/>
                  <a:pt x="17442" y="14122"/>
                  <a:pt x="17512" y="14114"/>
                </a:cubicBezTo>
                <a:cubicBezTo>
                  <a:pt x="17573" y="14107"/>
                  <a:pt x="17625" y="14108"/>
                  <a:pt x="17661" y="14163"/>
                </a:cubicBezTo>
                <a:cubicBezTo>
                  <a:pt x="17715" y="14246"/>
                  <a:pt x="17667" y="14306"/>
                  <a:pt x="17636" y="14387"/>
                </a:cubicBezTo>
                <a:cubicBezTo>
                  <a:pt x="17616" y="14447"/>
                  <a:pt x="17617" y="14461"/>
                  <a:pt x="17587" y="14486"/>
                </a:cubicBezTo>
                <a:cubicBezTo>
                  <a:pt x="17649" y="14477"/>
                  <a:pt x="17714" y="14439"/>
                  <a:pt x="17785" y="14461"/>
                </a:cubicBezTo>
                <a:cubicBezTo>
                  <a:pt x="17829" y="14475"/>
                  <a:pt x="17862" y="14575"/>
                  <a:pt x="17835" y="14610"/>
                </a:cubicBezTo>
                <a:cubicBezTo>
                  <a:pt x="17794" y="14664"/>
                  <a:pt x="17687" y="14760"/>
                  <a:pt x="17636" y="14808"/>
                </a:cubicBezTo>
                <a:cubicBezTo>
                  <a:pt x="17620" y="14816"/>
                  <a:pt x="17603" y="14825"/>
                  <a:pt x="17587" y="14833"/>
                </a:cubicBezTo>
              </a:path>
              <a:path w="7269" h="2630">
                <a:moveTo>
                  <a:pt x="17338" y="14982"/>
                </a:moveTo>
                <a:cubicBezTo>
                  <a:pt x="17440" y="14942"/>
                  <a:pt x="17564" y="14896"/>
                  <a:pt x="17661" y="14883"/>
                </a:cubicBezTo>
                <a:cubicBezTo>
                  <a:pt x="17744" y="14872"/>
                  <a:pt x="17817" y="14895"/>
                  <a:pt x="17884" y="14908"/>
                </a:cubicBezTo>
                <a:cubicBezTo>
                  <a:pt x="17942" y="14920"/>
                  <a:pt x="17960" y="14919"/>
                  <a:pt x="18008" y="14957"/>
                </a:cubicBezTo>
              </a:path>
              <a:path w="7269" h="2630">
                <a:moveTo>
                  <a:pt x="17338" y="15553"/>
                </a:moveTo>
                <a:cubicBezTo>
                  <a:pt x="17360" y="15696"/>
                  <a:pt x="17388" y="15808"/>
                  <a:pt x="17388" y="15949"/>
                </a:cubicBezTo>
                <a:cubicBezTo>
                  <a:pt x="17388" y="16034"/>
                  <a:pt x="17405" y="16128"/>
                  <a:pt x="17363" y="16197"/>
                </a:cubicBezTo>
                <a:cubicBezTo>
                  <a:pt x="17310" y="16145"/>
                  <a:pt x="17327" y="16110"/>
                  <a:pt x="17289" y="16049"/>
                </a:cubicBezTo>
                <a:cubicBezTo>
                  <a:pt x="17249" y="15985"/>
                  <a:pt x="17264" y="15905"/>
                  <a:pt x="17264" y="15825"/>
                </a:cubicBezTo>
                <a:cubicBezTo>
                  <a:pt x="17264" y="15707"/>
                  <a:pt x="17274" y="15658"/>
                  <a:pt x="17314" y="15553"/>
                </a:cubicBezTo>
                <a:cubicBezTo>
                  <a:pt x="17344" y="15475"/>
                  <a:pt x="17400" y="15404"/>
                  <a:pt x="17462" y="15354"/>
                </a:cubicBezTo>
                <a:cubicBezTo>
                  <a:pt x="17530" y="15299"/>
                  <a:pt x="17679" y="15267"/>
                  <a:pt x="17760" y="15255"/>
                </a:cubicBezTo>
                <a:cubicBezTo>
                  <a:pt x="17829" y="15245"/>
                  <a:pt x="17901" y="15269"/>
                  <a:pt x="17959" y="15304"/>
                </a:cubicBezTo>
                <a:cubicBezTo>
                  <a:pt x="17967" y="15312"/>
                  <a:pt x="17975" y="15321"/>
                  <a:pt x="17983" y="15329"/>
                </a:cubicBezTo>
              </a:path>
              <a:path w="7269" h="2630">
                <a:moveTo>
                  <a:pt x="17686" y="15627"/>
                </a:moveTo>
                <a:cubicBezTo>
                  <a:pt x="17726" y="15587"/>
                  <a:pt x="17769" y="15565"/>
                  <a:pt x="17810" y="15528"/>
                </a:cubicBezTo>
                <a:cubicBezTo>
                  <a:pt x="17865" y="15479"/>
                  <a:pt x="17905" y="15505"/>
                  <a:pt x="17959" y="15528"/>
                </a:cubicBezTo>
                <a:cubicBezTo>
                  <a:pt x="17949" y="15603"/>
                  <a:pt x="17919" y="15657"/>
                  <a:pt x="17884" y="15726"/>
                </a:cubicBezTo>
                <a:cubicBezTo>
                  <a:pt x="17861" y="15771"/>
                  <a:pt x="17835" y="15806"/>
                  <a:pt x="17810" y="15850"/>
                </a:cubicBezTo>
                <a:cubicBezTo>
                  <a:pt x="17876" y="15883"/>
                  <a:pt x="17900" y="15796"/>
                  <a:pt x="17934" y="15925"/>
                </a:cubicBezTo>
                <a:cubicBezTo>
                  <a:pt x="17956" y="16007"/>
                  <a:pt x="17865" y="16107"/>
                  <a:pt x="17835" y="16173"/>
                </a:cubicBezTo>
                <a:cubicBezTo>
                  <a:pt x="17797" y="16259"/>
                  <a:pt x="17780" y="16310"/>
                  <a:pt x="17711" y="16371"/>
                </a:cubicBezTo>
              </a:path>
              <a:path w="7269" h="2630">
                <a:moveTo>
                  <a:pt x="18256" y="15627"/>
                </a:moveTo>
                <a:cubicBezTo>
                  <a:pt x="18316" y="15759"/>
                  <a:pt x="18355" y="15834"/>
                  <a:pt x="18355" y="15974"/>
                </a:cubicBezTo>
                <a:cubicBezTo>
                  <a:pt x="18355" y="15991"/>
                  <a:pt x="18355" y="16007"/>
                  <a:pt x="18355" y="16024"/>
                </a:cubicBezTo>
                <a:cubicBezTo>
                  <a:pt x="18268" y="15952"/>
                  <a:pt x="18286" y="15955"/>
                  <a:pt x="18256" y="15850"/>
                </a:cubicBezTo>
                <a:cubicBezTo>
                  <a:pt x="18230" y="15759"/>
                  <a:pt x="18231" y="15677"/>
                  <a:pt x="18231" y="15577"/>
                </a:cubicBezTo>
                <a:cubicBezTo>
                  <a:pt x="18231" y="15485"/>
                  <a:pt x="18252" y="15357"/>
                  <a:pt x="18306" y="15280"/>
                </a:cubicBezTo>
                <a:cubicBezTo>
                  <a:pt x="18354" y="15211"/>
                  <a:pt x="18448" y="15111"/>
                  <a:pt x="18529" y="15106"/>
                </a:cubicBezTo>
                <a:cubicBezTo>
                  <a:pt x="18602" y="15102"/>
                  <a:pt x="18638" y="15127"/>
                  <a:pt x="18703" y="15131"/>
                </a:cubicBezTo>
                <a:cubicBezTo>
                  <a:pt x="18719" y="15131"/>
                  <a:pt x="18736" y="15131"/>
                  <a:pt x="18752" y="15131"/>
                </a:cubicBezTo>
              </a:path>
              <a:path w="7269" h="2630">
                <a:moveTo>
                  <a:pt x="18554" y="15354"/>
                </a:moveTo>
                <a:cubicBezTo>
                  <a:pt x="18502" y="15458"/>
                  <a:pt x="18591" y="15302"/>
                  <a:pt x="18653" y="15280"/>
                </a:cubicBezTo>
                <a:cubicBezTo>
                  <a:pt x="18728" y="15254"/>
                  <a:pt x="18827" y="15288"/>
                  <a:pt x="18827" y="15379"/>
                </a:cubicBezTo>
                <a:cubicBezTo>
                  <a:pt x="18827" y="15483"/>
                  <a:pt x="18733" y="15562"/>
                  <a:pt x="18703" y="15652"/>
                </a:cubicBezTo>
                <a:cubicBezTo>
                  <a:pt x="18703" y="15696"/>
                  <a:pt x="18706" y="15710"/>
                  <a:pt x="18678" y="15726"/>
                </a:cubicBezTo>
                <a:cubicBezTo>
                  <a:pt x="18745" y="15726"/>
                  <a:pt x="18805" y="15704"/>
                  <a:pt x="18852" y="15726"/>
                </a:cubicBezTo>
                <a:cubicBezTo>
                  <a:pt x="18937" y="15766"/>
                  <a:pt x="18882" y="15849"/>
                  <a:pt x="18852" y="15925"/>
                </a:cubicBezTo>
                <a:cubicBezTo>
                  <a:pt x="18802" y="16054"/>
                  <a:pt x="18759" y="16106"/>
                  <a:pt x="18653" y="16197"/>
                </a:cubicBezTo>
              </a:path>
              <a:path w="7269" h="2630">
                <a:moveTo>
                  <a:pt x="18355" y="14362"/>
                </a:moveTo>
                <a:cubicBezTo>
                  <a:pt x="18360" y="14484"/>
                  <a:pt x="18380" y="14590"/>
                  <a:pt x="18380" y="14709"/>
                </a:cubicBezTo>
                <a:cubicBezTo>
                  <a:pt x="18380" y="14786"/>
                  <a:pt x="18379" y="14815"/>
                  <a:pt x="18405" y="14883"/>
                </a:cubicBezTo>
                <a:cubicBezTo>
                  <a:pt x="18377" y="14810"/>
                  <a:pt x="18370" y="14737"/>
                  <a:pt x="18355" y="14660"/>
                </a:cubicBezTo>
                <a:cubicBezTo>
                  <a:pt x="18329" y="14533"/>
                  <a:pt x="18341" y="14458"/>
                  <a:pt x="18355" y="14337"/>
                </a:cubicBezTo>
                <a:cubicBezTo>
                  <a:pt x="18365" y="14251"/>
                  <a:pt x="18371" y="14169"/>
                  <a:pt x="18405" y="14089"/>
                </a:cubicBezTo>
                <a:cubicBezTo>
                  <a:pt x="18441" y="14004"/>
                  <a:pt x="18478" y="13964"/>
                  <a:pt x="18554" y="13915"/>
                </a:cubicBezTo>
                <a:cubicBezTo>
                  <a:pt x="18642" y="13858"/>
                  <a:pt x="18676" y="13841"/>
                  <a:pt x="18777" y="13841"/>
                </a:cubicBezTo>
                <a:cubicBezTo>
                  <a:pt x="18836" y="13841"/>
                  <a:pt x="18850" y="13861"/>
                  <a:pt x="18901" y="13891"/>
                </a:cubicBezTo>
              </a:path>
              <a:path w="7269" h="2630">
                <a:moveTo>
                  <a:pt x="18628" y="14163"/>
                </a:moveTo>
                <a:cubicBezTo>
                  <a:pt x="18736" y="14110"/>
                  <a:pt x="18787" y="14066"/>
                  <a:pt x="18901" y="14114"/>
                </a:cubicBezTo>
                <a:cubicBezTo>
                  <a:pt x="18987" y="14150"/>
                  <a:pt x="18921" y="14234"/>
                  <a:pt x="18876" y="14288"/>
                </a:cubicBezTo>
                <a:cubicBezTo>
                  <a:pt x="18832" y="14340"/>
                  <a:pt x="18818" y="14349"/>
                  <a:pt x="18802" y="14412"/>
                </a:cubicBezTo>
                <a:cubicBezTo>
                  <a:pt x="18815" y="14418"/>
                  <a:pt x="19002" y="14441"/>
                  <a:pt x="19000" y="14461"/>
                </a:cubicBezTo>
                <a:cubicBezTo>
                  <a:pt x="18991" y="14567"/>
                  <a:pt x="18834" y="14677"/>
                  <a:pt x="18777" y="14759"/>
                </a:cubicBezTo>
                <a:cubicBezTo>
                  <a:pt x="18730" y="14826"/>
                  <a:pt x="18690" y="14857"/>
                  <a:pt x="18628" y="14908"/>
                </a:cubicBezTo>
              </a:path>
              <a:path w="7269" h="2630">
                <a:moveTo>
                  <a:pt x="19248" y="14585"/>
                </a:moveTo>
                <a:cubicBezTo>
                  <a:pt x="19327" y="14633"/>
                  <a:pt x="19378" y="14597"/>
                  <a:pt x="19472" y="14585"/>
                </a:cubicBezTo>
                <a:cubicBezTo>
                  <a:pt x="19521" y="14585"/>
                  <a:pt x="19538" y="14585"/>
                  <a:pt x="19571" y="14585"/>
                </a:cubicBezTo>
              </a:path>
              <a:path w="7269" h="2630">
                <a:moveTo>
                  <a:pt x="19397" y="14883"/>
                </a:moveTo>
                <a:cubicBezTo>
                  <a:pt x="19550" y="14823"/>
                  <a:pt x="19561" y="14808"/>
                  <a:pt x="19695" y="14808"/>
                </a:cubicBezTo>
              </a:path>
              <a:path w="7269" h="2630">
                <a:moveTo>
                  <a:pt x="19993" y="14436"/>
                </a:moveTo>
                <a:cubicBezTo>
                  <a:pt x="20126" y="14409"/>
                  <a:pt x="20261" y="14397"/>
                  <a:pt x="20389" y="14362"/>
                </a:cubicBezTo>
              </a:path>
              <a:path w="7269" h="2630">
                <a:moveTo>
                  <a:pt x="20414" y="14015"/>
                </a:moveTo>
                <a:cubicBezTo>
                  <a:pt x="20482" y="13971"/>
                  <a:pt x="20607" y="13852"/>
                  <a:pt x="20712" y="13891"/>
                </a:cubicBezTo>
                <a:cubicBezTo>
                  <a:pt x="20791" y="13920"/>
                  <a:pt x="20715" y="14053"/>
                  <a:pt x="20687" y="14089"/>
                </a:cubicBezTo>
                <a:cubicBezTo>
                  <a:pt x="20611" y="14187"/>
                  <a:pt x="20528" y="14243"/>
                  <a:pt x="20513" y="14362"/>
                </a:cubicBezTo>
                <a:cubicBezTo>
                  <a:pt x="20577" y="14319"/>
                  <a:pt x="20649" y="14317"/>
                  <a:pt x="20712" y="14288"/>
                </a:cubicBezTo>
                <a:cubicBezTo>
                  <a:pt x="20769" y="14262"/>
                  <a:pt x="20913" y="14273"/>
                  <a:pt x="20861" y="14387"/>
                </a:cubicBezTo>
                <a:cubicBezTo>
                  <a:pt x="20840" y="14434"/>
                  <a:pt x="20694" y="14632"/>
                  <a:pt x="20662" y="14660"/>
                </a:cubicBezTo>
                <a:cubicBezTo>
                  <a:pt x="20579" y="14734"/>
                  <a:pt x="20545" y="14731"/>
                  <a:pt x="20489" y="14833"/>
                </a:cubicBezTo>
              </a:path>
              <a:path w="7269" h="2630">
                <a:moveTo>
                  <a:pt x="20886" y="14139"/>
                </a:moveTo>
                <a:cubicBezTo>
                  <a:pt x="20901" y="14226"/>
                  <a:pt x="20888" y="14352"/>
                  <a:pt x="20910" y="14436"/>
                </a:cubicBezTo>
                <a:cubicBezTo>
                  <a:pt x="20930" y="14513"/>
                  <a:pt x="20935" y="14577"/>
                  <a:pt x="20935" y="14660"/>
                </a:cubicBezTo>
                <a:cubicBezTo>
                  <a:pt x="20922" y="14572"/>
                  <a:pt x="20871" y="14481"/>
                  <a:pt x="20861" y="14387"/>
                </a:cubicBezTo>
                <a:cubicBezTo>
                  <a:pt x="20853" y="14307"/>
                  <a:pt x="20855" y="14164"/>
                  <a:pt x="20886" y="14089"/>
                </a:cubicBezTo>
                <a:cubicBezTo>
                  <a:pt x="20908" y="14036"/>
                  <a:pt x="20984" y="13943"/>
                  <a:pt x="21034" y="13915"/>
                </a:cubicBezTo>
                <a:cubicBezTo>
                  <a:pt x="21071" y="13894"/>
                  <a:pt x="21230" y="13836"/>
                  <a:pt x="21258" y="13841"/>
                </a:cubicBezTo>
                <a:cubicBezTo>
                  <a:pt x="21292" y="13847"/>
                  <a:pt x="21394" y="13851"/>
                  <a:pt x="21431" y="13866"/>
                </a:cubicBezTo>
                <a:cubicBezTo>
                  <a:pt x="21454" y="13889"/>
                  <a:pt x="21458" y="13897"/>
                  <a:pt x="21481" y="13891"/>
                </a:cubicBezTo>
              </a:path>
              <a:path w="7269" h="2630">
                <a:moveTo>
                  <a:pt x="21134" y="14039"/>
                </a:moveTo>
                <a:cubicBezTo>
                  <a:pt x="21204" y="14039"/>
                  <a:pt x="21243" y="14019"/>
                  <a:pt x="21307" y="14015"/>
                </a:cubicBezTo>
                <a:cubicBezTo>
                  <a:pt x="21352" y="14012"/>
                  <a:pt x="21438" y="14003"/>
                  <a:pt x="21456" y="14064"/>
                </a:cubicBezTo>
                <a:cubicBezTo>
                  <a:pt x="21477" y="14138"/>
                  <a:pt x="21439" y="14177"/>
                  <a:pt x="21406" y="14238"/>
                </a:cubicBezTo>
              </a:path>
              <a:path w="7269" h="2630">
                <a:moveTo>
                  <a:pt x="21258" y="14461"/>
                </a:moveTo>
                <a:cubicBezTo>
                  <a:pt x="21233" y="14532"/>
                  <a:pt x="21318" y="14461"/>
                  <a:pt x="21382" y="14486"/>
                </a:cubicBezTo>
                <a:cubicBezTo>
                  <a:pt x="21484" y="14526"/>
                  <a:pt x="21354" y="14652"/>
                  <a:pt x="21332" y="14684"/>
                </a:cubicBezTo>
                <a:cubicBezTo>
                  <a:pt x="21279" y="14763"/>
                  <a:pt x="21243" y="14791"/>
                  <a:pt x="21158" y="14833"/>
                </a:cubicBezTo>
              </a:path>
              <a:path w="7269" h="2630">
                <a:moveTo>
                  <a:pt x="20340" y="15007"/>
                </a:moveTo>
                <a:cubicBezTo>
                  <a:pt x="20392" y="14954"/>
                  <a:pt x="20446" y="14940"/>
                  <a:pt x="20513" y="14908"/>
                </a:cubicBezTo>
                <a:cubicBezTo>
                  <a:pt x="20587" y="14873"/>
                  <a:pt x="20726" y="14844"/>
                  <a:pt x="20811" y="14833"/>
                </a:cubicBezTo>
                <a:cubicBezTo>
                  <a:pt x="20911" y="14820"/>
                  <a:pt x="21007" y="14808"/>
                  <a:pt x="21109" y="14808"/>
                </a:cubicBezTo>
                <a:cubicBezTo>
                  <a:pt x="21229" y="14808"/>
                  <a:pt x="21317" y="14825"/>
                  <a:pt x="21431" y="14833"/>
                </a:cubicBezTo>
                <a:cubicBezTo>
                  <a:pt x="21439" y="14833"/>
                  <a:pt x="21448" y="14833"/>
                  <a:pt x="21456" y="14833"/>
                </a:cubicBezTo>
              </a:path>
              <a:path w="7269" h="2630">
                <a:moveTo>
                  <a:pt x="20464" y="15280"/>
                </a:moveTo>
                <a:cubicBezTo>
                  <a:pt x="20526" y="15271"/>
                  <a:pt x="20600" y="15250"/>
                  <a:pt x="20662" y="15230"/>
                </a:cubicBezTo>
                <a:cubicBezTo>
                  <a:pt x="20717" y="15213"/>
                  <a:pt x="20797" y="15144"/>
                  <a:pt x="20861" y="15180"/>
                </a:cubicBezTo>
                <a:cubicBezTo>
                  <a:pt x="20951" y="15231"/>
                  <a:pt x="20910" y="15362"/>
                  <a:pt x="20861" y="15429"/>
                </a:cubicBezTo>
                <a:cubicBezTo>
                  <a:pt x="20809" y="15499"/>
                  <a:pt x="20775" y="15564"/>
                  <a:pt x="20712" y="15627"/>
                </a:cubicBezTo>
                <a:cubicBezTo>
                  <a:pt x="20721" y="15561"/>
                  <a:pt x="20738" y="15551"/>
                  <a:pt x="20786" y="15503"/>
                </a:cubicBezTo>
                <a:cubicBezTo>
                  <a:pt x="20813" y="15475"/>
                  <a:pt x="20914" y="15449"/>
                  <a:pt x="20935" y="15503"/>
                </a:cubicBezTo>
                <a:cubicBezTo>
                  <a:pt x="20968" y="15590"/>
                  <a:pt x="20928" y="15743"/>
                  <a:pt x="20886" y="15825"/>
                </a:cubicBezTo>
                <a:cubicBezTo>
                  <a:pt x="20873" y="15850"/>
                  <a:pt x="20736" y="16103"/>
                  <a:pt x="20712" y="16098"/>
                </a:cubicBezTo>
                <a:cubicBezTo>
                  <a:pt x="20704" y="16082"/>
                  <a:pt x="20695" y="16065"/>
                  <a:pt x="20687" y="16049"/>
                </a:cubicBezTo>
              </a:path>
              <a:path w="7269" h="2630">
                <a:moveTo>
                  <a:pt x="20513" y="13767"/>
                </a:moveTo>
                <a:cubicBezTo>
                  <a:pt x="20513" y="13849"/>
                  <a:pt x="20516" y="13939"/>
                  <a:pt x="20538" y="14015"/>
                </a:cubicBezTo>
                <a:cubicBezTo>
                  <a:pt x="20565" y="14107"/>
                  <a:pt x="20586" y="14196"/>
                  <a:pt x="20613" y="14288"/>
                </a:cubicBezTo>
                <a:cubicBezTo>
                  <a:pt x="20639" y="14374"/>
                  <a:pt x="20650" y="14471"/>
                  <a:pt x="20662" y="14560"/>
                </a:cubicBezTo>
                <a:cubicBezTo>
                  <a:pt x="20671" y="14622"/>
                  <a:pt x="20668" y="14616"/>
                  <a:pt x="20712" y="14660"/>
                </a:cubicBezTo>
              </a:path>
              <a:path w="7269" h="2630">
                <a:moveTo>
                  <a:pt x="20712" y="15007"/>
                </a:moveTo>
                <a:cubicBezTo>
                  <a:pt x="20698" y="15132"/>
                  <a:pt x="20699" y="15250"/>
                  <a:pt x="20712" y="15379"/>
                </a:cubicBezTo>
                <a:cubicBezTo>
                  <a:pt x="20726" y="15523"/>
                  <a:pt x="20766" y="15641"/>
                  <a:pt x="20811" y="15776"/>
                </a:cubicBezTo>
                <a:cubicBezTo>
                  <a:pt x="20837" y="15852"/>
                  <a:pt x="20855" y="15955"/>
                  <a:pt x="20886" y="16024"/>
                </a:cubicBezTo>
                <a:cubicBezTo>
                  <a:pt x="20892" y="16038"/>
                  <a:pt x="20931" y="16170"/>
                  <a:pt x="20935" y="16173"/>
                </a:cubicBezTo>
                <a:cubicBezTo>
                  <a:pt x="20980" y="16173"/>
                  <a:pt x="20993" y="16176"/>
                  <a:pt x="21010" y="16148"/>
                </a:cubicBezTo>
              </a:path>
              <a:path w="7269" h="2630">
                <a:moveTo>
                  <a:pt x="21803" y="14858"/>
                </a:moveTo>
                <a:cubicBezTo>
                  <a:pt x="21886" y="14865"/>
                  <a:pt x="21949" y="14892"/>
                  <a:pt x="22027" y="14908"/>
                </a:cubicBezTo>
              </a:path>
              <a:path w="7269" h="2630">
                <a:moveTo>
                  <a:pt x="21878" y="15081"/>
                </a:moveTo>
                <a:cubicBezTo>
                  <a:pt x="21927" y="15111"/>
                  <a:pt x="21995" y="15107"/>
                  <a:pt x="22051" y="15081"/>
                </a:cubicBezTo>
                <a:cubicBezTo>
                  <a:pt x="22109" y="15054"/>
                  <a:pt x="22153" y="15056"/>
                  <a:pt x="22225" y="15056"/>
                </a:cubicBezTo>
              </a:path>
              <a:path w="7269" h="2630">
                <a:moveTo>
                  <a:pt x="22448" y="14709"/>
                </a:moveTo>
                <a:cubicBezTo>
                  <a:pt x="22535" y="14658"/>
                  <a:pt x="22591" y="14660"/>
                  <a:pt x="22696" y="14660"/>
                </a:cubicBezTo>
                <a:cubicBezTo>
                  <a:pt x="22713" y="14660"/>
                  <a:pt x="22729" y="14660"/>
                  <a:pt x="22746" y="14660"/>
                </a:cubicBezTo>
              </a:path>
              <a:path w="7269" h="2630">
                <a:moveTo>
                  <a:pt x="22969" y="14263"/>
                </a:moveTo>
                <a:cubicBezTo>
                  <a:pt x="22930" y="14250"/>
                  <a:pt x="22923" y="14296"/>
                  <a:pt x="22920" y="14362"/>
                </a:cubicBezTo>
                <a:cubicBezTo>
                  <a:pt x="22916" y="14444"/>
                  <a:pt x="22919" y="14534"/>
                  <a:pt x="22944" y="14610"/>
                </a:cubicBezTo>
                <a:cubicBezTo>
                  <a:pt x="22965" y="14673"/>
                  <a:pt x="23004" y="14743"/>
                  <a:pt x="23019" y="14808"/>
                </a:cubicBezTo>
                <a:cubicBezTo>
                  <a:pt x="23034" y="14873"/>
                  <a:pt x="23053" y="14922"/>
                  <a:pt x="23093" y="14982"/>
                </a:cubicBezTo>
                <a:cubicBezTo>
                  <a:pt x="23067" y="14903"/>
                  <a:pt x="23067" y="14835"/>
                  <a:pt x="23044" y="14759"/>
                </a:cubicBezTo>
                <a:cubicBezTo>
                  <a:pt x="23016" y="14665"/>
                  <a:pt x="23009" y="14557"/>
                  <a:pt x="22994" y="14461"/>
                </a:cubicBezTo>
                <a:cubicBezTo>
                  <a:pt x="22975" y="14340"/>
                  <a:pt x="22985" y="14169"/>
                  <a:pt x="23019" y="14064"/>
                </a:cubicBezTo>
                <a:cubicBezTo>
                  <a:pt x="23071" y="13904"/>
                  <a:pt x="23083" y="13923"/>
                  <a:pt x="23217" y="13816"/>
                </a:cubicBezTo>
                <a:cubicBezTo>
                  <a:pt x="23256" y="13785"/>
                  <a:pt x="23341" y="13738"/>
                  <a:pt x="23391" y="13742"/>
                </a:cubicBezTo>
                <a:cubicBezTo>
                  <a:pt x="23473" y="13763"/>
                  <a:pt x="23489" y="13771"/>
                  <a:pt x="23540" y="13767"/>
                </a:cubicBezTo>
              </a:path>
              <a:path w="7269" h="2630">
                <a:moveTo>
                  <a:pt x="23267" y="14288"/>
                </a:moveTo>
                <a:cubicBezTo>
                  <a:pt x="23275" y="14313"/>
                  <a:pt x="23284" y="14337"/>
                  <a:pt x="23292" y="14362"/>
                </a:cubicBezTo>
                <a:cubicBezTo>
                  <a:pt x="23354" y="14299"/>
                  <a:pt x="23412" y="14229"/>
                  <a:pt x="23490" y="14188"/>
                </a:cubicBezTo>
                <a:cubicBezTo>
                  <a:pt x="23569" y="14146"/>
                  <a:pt x="23609" y="14185"/>
                  <a:pt x="23614" y="14263"/>
                </a:cubicBezTo>
                <a:cubicBezTo>
                  <a:pt x="23617" y="14318"/>
                  <a:pt x="23612" y="14391"/>
                  <a:pt x="23589" y="14436"/>
                </a:cubicBezTo>
                <a:cubicBezTo>
                  <a:pt x="23564" y="14486"/>
                  <a:pt x="23480" y="14496"/>
                  <a:pt x="23540" y="14486"/>
                </a:cubicBezTo>
                <a:cubicBezTo>
                  <a:pt x="23636" y="14470"/>
                  <a:pt x="23658" y="14533"/>
                  <a:pt x="23688" y="14585"/>
                </a:cubicBezTo>
                <a:cubicBezTo>
                  <a:pt x="23732" y="14660"/>
                  <a:pt x="23752" y="14672"/>
                  <a:pt x="23713" y="14759"/>
                </a:cubicBezTo>
                <a:cubicBezTo>
                  <a:pt x="23688" y="14815"/>
                  <a:pt x="23645" y="14835"/>
                  <a:pt x="23614" y="14883"/>
                </a:cubicBezTo>
                <a:cubicBezTo>
                  <a:pt x="23560" y="14965"/>
                  <a:pt x="23494" y="14968"/>
                  <a:pt x="23416" y="15007"/>
                </a:cubicBezTo>
                <a:cubicBezTo>
                  <a:pt x="23356" y="15037"/>
                  <a:pt x="23350" y="14995"/>
                  <a:pt x="23341" y="149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Ink 16"/>
          <p:cNvSpPr/>
          <p:nvPr/>
        </p:nvSpPr>
        <p:spPr>
          <a:xfrm>
            <a:off x="598320" y="3732120"/>
            <a:ext cx="973440" cy="546120"/>
          </a:xfrm>
          <a:custGeom>
            <a:avLst/>
            <a:gdLst/>
            <a:ahLst/>
            <a:rect l="l" t="t" r="r" b="b"/>
            <a:pathLst>
              <a:path w="2705" h="1514">
                <a:moveTo>
                  <a:pt x="2108" y="10542"/>
                </a:moveTo>
                <a:cubicBezTo>
                  <a:pt x="2100" y="10567"/>
                  <a:pt x="2092" y="10591"/>
                  <a:pt x="2084" y="10616"/>
                </a:cubicBezTo>
                <a:cubicBezTo>
                  <a:pt x="2052" y="10533"/>
                  <a:pt x="2063" y="10470"/>
                  <a:pt x="1984" y="10418"/>
                </a:cubicBezTo>
                <a:cubicBezTo>
                  <a:pt x="1913" y="10371"/>
                  <a:pt x="1856" y="10434"/>
                  <a:pt x="1811" y="10492"/>
                </a:cubicBezTo>
                <a:cubicBezTo>
                  <a:pt x="1741" y="10583"/>
                  <a:pt x="1717" y="10681"/>
                  <a:pt x="1687" y="10790"/>
                </a:cubicBezTo>
                <a:cubicBezTo>
                  <a:pt x="1650" y="10924"/>
                  <a:pt x="1671" y="11007"/>
                  <a:pt x="1687" y="11137"/>
                </a:cubicBezTo>
                <a:cubicBezTo>
                  <a:pt x="1701" y="11250"/>
                  <a:pt x="1742" y="11333"/>
                  <a:pt x="1860" y="11361"/>
                </a:cubicBezTo>
                <a:cubicBezTo>
                  <a:pt x="1943" y="11381"/>
                  <a:pt x="2031" y="11350"/>
                  <a:pt x="2084" y="11286"/>
                </a:cubicBezTo>
                <a:cubicBezTo>
                  <a:pt x="2092" y="11270"/>
                  <a:pt x="2100" y="11253"/>
                  <a:pt x="2108" y="11237"/>
                </a:cubicBezTo>
              </a:path>
              <a:path w="2705" h="1514">
                <a:moveTo>
                  <a:pt x="2307" y="10964"/>
                </a:moveTo>
                <a:cubicBezTo>
                  <a:pt x="2297" y="11062"/>
                  <a:pt x="2247" y="11257"/>
                  <a:pt x="2307" y="11361"/>
                </a:cubicBezTo>
                <a:cubicBezTo>
                  <a:pt x="2343" y="11423"/>
                  <a:pt x="2435" y="11423"/>
                  <a:pt x="2480" y="11385"/>
                </a:cubicBezTo>
                <a:cubicBezTo>
                  <a:pt x="2548" y="11326"/>
                  <a:pt x="2593" y="11267"/>
                  <a:pt x="2604" y="11187"/>
                </a:cubicBezTo>
                <a:cubicBezTo>
                  <a:pt x="2612" y="11131"/>
                  <a:pt x="2588" y="11018"/>
                  <a:pt x="2530" y="10988"/>
                </a:cubicBezTo>
                <a:cubicBezTo>
                  <a:pt x="2462" y="10953"/>
                  <a:pt x="2381" y="10946"/>
                  <a:pt x="2307" y="10939"/>
                </a:cubicBezTo>
              </a:path>
              <a:path w="2705" h="1514">
                <a:moveTo>
                  <a:pt x="2828" y="10889"/>
                </a:moveTo>
                <a:cubicBezTo>
                  <a:pt x="2783" y="10967"/>
                  <a:pt x="2745" y="10959"/>
                  <a:pt x="2679" y="11013"/>
                </a:cubicBezTo>
                <a:cubicBezTo>
                  <a:pt x="2613" y="11067"/>
                  <a:pt x="2679" y="11148"/>
                  <a:pt x="2729" y="11187"/>
                </a:cubicBezTo>
                <a:cubicBezTo>
                  <a:pt x="2878" y="11302"/>
                  <a:pt x="2840" y="11203"/>
                  <a:pt x="2679" y="11435"/>
                </a:cubicBezTo>
                <a:cubicBezTo>
                  <a:pt x="2651" y="11407"/>
                  <a:pt x="2642" y="11394"/>
                  <a:pt x="2654" y="11361"/>
                </a:cubicBezTo>
              </a:path>
              <a:path w="2705" h="1514">
                <a:moveTo>
                  <a:pt x="3473" y="10418"/>
                </a:moveTo>
                <a:cubicBezTo>
                  <a:pt x="3555" y="10418"/>
                  <a:pt x="3693" y="10441"/>
                  <a:pt x="3770" y="10393"/>
                </a:cubicBezTo>
                <a:cubicBezTo>
                  <a:pt x="3778" y="10385"/>
                  <a:pt x="3787" y="10376"/>
                  <a:pt x="3795" y="10368"/>
                </a:cubicBezTo>
              </a:path>
              <a:path w="2705" h="1514">
                <a:moveTo>
                  <a:pt x="3423" y="10468"/>
                </a:moveTo>
                <a:cubicBezTo>
                  <a:pt x="3411" y="10510"/>
                  <a:pt x="3363" y="10623"/>
                  <a:pt x="3448" y="10641"/>
                </a:cubicBezTo>
                <a:cubicBezTo>
                  <a:pt x="3557" y="10664"/>
                  <a:pt x="3578" y="10679"/>
                  <a:pt x="3671" y="10740"/>
                </a:cubicBezTo>
                <a:cubicBezTo>
                  <a:pt x="3740" y="10785"/>
                  <a:pt x="3775" y="10801"/>
                  <a:pt x="3721" y="10889"/>
                </a:cubicBezTo>
                <a:cubicBezTo>
                  <a:pt x="3675" y="10963"/>
                  <a:pt x="3612" y="10954"/>
                  <a:pt x="3547" y="10939"/>
                </a:cubicBezTo>
                <a:cubicBezTo>
                  <a:pt x="3483" y="10924"/>
                  <a:pt x="3393" y="10878"/>
                  <a:pt x="3423" y="10790"/>
                </a:cubicBezTo>
                <a:cubicBezTo>
                  <a:pt x="3431" y="10782"/>
                  <a:pt x="3440" y="10773"/>
                  <a:pt x="3448" y="10765"/>
                </a:cubicBezTo>
              </a:path>
              <a:path w="2705" h="1514">
                <a:moveTo>
                  <a:pt x="3994" y="10443"/>
                </a:moveTo>
                <a:cubicBezTo>
                  <a:pt x="4069" y="10443"/>
                  <a:pt x="4147" y="10472"/>
                  <a:pt x="4167" y="10393"/>
                </a:cubicBezTo>
              </a:path>
              <a:path w="2705" h="1514">
                <a:moveTo>
                  <a:pt x="4043" y="10443"/>
                </a:moveTo>
                <a:cubicBezTo>
                  <a:pt x="4027" y="10551"/>
                  <a:pt x="4018" y="10634"/>
                  <a:pt x="4018" y="10740"/>
                </a:cubicBezTo>
                <a:cubicBezTo>
                  <a:pt x="4018" y="10812"/>
                  <a:pt x="4015" y="10828"/>
                  <a:pt x="4068" y="10815"/>
                </a:cubicBezTo>
              </a:path>
              <a:path w="2705" h="1514">
                <a:moveTo>
                  <a:pt x="4192" y="10443"/>
                </a:moveTo>
                <a:cubicBezTo>
                  <a:pt x="4211" y="10539"/>
                  <a:pt x="4217" y="10619"/>
                  <a:pt x="4217" y="10716"/>
                </a:cubicBezTo>
                <a:cubicBezTo>
                  <a:pt x="4217" y="10765"/>
                  <a:pt x="4270" y="10855"/>
                  <a:pt x="4266" y="10889"/>
                </a:cubicBezTo>
                <a:cubicBezTo>
                  <a:pt x="4258" y="10906"/>
                  <a:pt x="4250" y="10922"/>
                  <a:pt x="4242" y="10939"/>
                </a:cubicBezTo>
              </a:path>
              <a:path w="2705" h="1514">
                <a:moveTo>
                  <a:pt x="3448" y="11013"/>
                </a:moveTo>
                <a:cubicBezTo>
                  <a:pt x="3684" y="11034"/>
                  <a:pt x="3905" y="11038"/>
                  <a:pt x="4142" y="11038"/>
                </a:cubicBezTo>
                <a:cubicBezTo>
                  <a:pt x="4217" y="11038"/>
                  <a:pt x="4291" y="11038"/>
                  <a:pt x="4366" y="11038"/>
                </a:cubicBezTo>
              </a:path>
              <a:path w="2705" h="1514">
                <a:moveTo>
                  <a:pt x="3969" y="11311"/>
                </a:moveTo>
                <a:cubicBezTo>
                  <a:pt x="3890" y="11481"/>
                  <a:pt x="3761" y="11614"/>
                  <a:pt x="3845" y="11782"/>
                </a:cubicBezTo>
                <a:cubicBezTo>
                  <a:pt x="3879" y="11851"/>
                  <a:pt x="3966" y="11891"/>
                  <a:pt x="4043" y="11881"/>
                </a:cubicBezTo>
                <a:cubicBezTo>
                  <a:pt x="4175" y="11864"/>
                  <a:pt x="4234" y="11841"/>
                  <a:pt x="4341" y="11757"/>
                </a:cubicBezTo>
                <a:cubicBezTo>
                  <a:pt x="4412" y="11702"/>
                  <a:pt x="4343" y="11609"/>
                  <a:pt x="4266" y="11609"/>
                </a:cubicBezTo>
                <a:cubicBezTo>
                  <a:pt x="4186" y="11609"/>
                  <a:pt x="4129" y="11667"/>
                  <a:pt x="4068" y="11708"/>
                </a:cubicBezTo>
                <a:cubicBezTo>
                  <a:pt x="3990" y="11760"/>
                  <a:pt x="3985" y="11756"/>
                  <a:pt x="3944" y="11832"/>
                </a:cubicBezTo>
                <a:cubicBezTo>
                  <a:pt x="3936" y="11848"/>
                  <a:pt x="3927" y="11865"/>
                  <a:pt x="3919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Ink 17"/>
          <p:cNvSpPr/>
          <p:nvPr/>
        </p:nvSpPr>
        <p:spPr>
          <a:xfrm>
            <a:off x="1776240" y="3714840"/>
            <a:ext cx="822600" cy="706320"/>
          </a:xfrm>
          <a:custGeom>
            <a:avLst/>
            <a:gdLst/>
            <a:ahLst/>
            <a:rect l="l" t="t" r="r" b="b"/>
            <a:pathLst>
              <a:path w="2283" h="1960">
                <a:moveTo>
                  <a:pt x="4936" y="11137"/>
                </a:moveTo>
                <a:cubicBezTo>
                  <a:pt x="5063" y="11174"/>
                  <a:pt x="5087" y="11156"/>
                  <a:pt x="5135" y="11212"/>
                </a:cubicBezTo>
              </a:path>
              <a:path w="2283" h="1960">
                <a:moveTo>
                  <a:pt x="5110" y="11534"/>
                </a:moveTo>
                <a:cubicBezTo>
                  <a:pt x="5251" y="11586"/>
                  <a:pt x="5321" y="11622"/>
                  <a:pt x="5457" y="11633"/>
                </a:cubicBezTo>
              </a:path>
              <a:path w="2283" h="1960">
                <a:moveTo>
                  <a:pt x="5655" y="11162"/>
                </a:moveTo>
                <a:cubicBezTo>
                  <a:pt x="5751" y="11162"/>
                  <a:pt x="5835" y="11183"/>
                  <a:pt x="5928" y="11187"/>
                </a:cubicBezTo>
                <a:cubicBezTo>
                  <a:pt x="5953" y="11187"/>
                  <a:pt x="5978" y="11187"/>
                  <a:pt x="6003" y="11187"/>
                </a:cubicBezTo>
              </a:path>
              <a:path w="2283" h="1960">
                <a:moveTo>
                  <a:pt x="6375" y="10740"/>
                </a:moveTo>
                <a:cubicBezTo>
                  <a:pt x="6358" y="10817"/>
                  <a:pt x="6292" y="10986"/>
                  <a:pt x="6300" y="11063"/>
                </a:cubicBezTo>
                <a:cubicBezTo>
                  <a:pt x="6332" y="11126"/>
                  <a:pt x="6337" y="11158"/>
                  <a:pt x="6300" y="11212"/>
                </a:cubicBezTo>
                <a:cubicBezTo>
                  <a:pt x="6300" y="11139"/>
                  <a:pt x="6279" y="11083"/>
                  <a:pt x="6276" y="11013"/>
                </a:cubicBezTo>
                <a:cubicBezTo>
                  <a:pt x="6272" y="10911"/>
                  <a:pt x="6251" y="10820"/>
                  <a:pt x="6251" y="10716"/>
                </a:cubicBezTo>
                <a:cubicBezTo>
                  <a:pt x="6251" y="10641"/>
                  <a:pt x="6225" y="10505"/>
                  <a:pt x="6276" y="10443"/>
                </a:cubicBezTo>
                <a:cubicBezTo>
                  <a:pt x="6365" y="10335"/>
                  <a:pt x="6400" y="10319"/>
                  <a:pt x="6524" y="10319"/>
                </a:cubicBezTo>
                <a:cubicBezTo>
                  <a:pt x="6605" y="10319"/>
                  <a:pt x="6724" y="10327"/>
                  <a:pt x="6796" y="10368"/>
                </a:cubicBezTo>
                <a:cubicBezTo>
                  <a:pt x="6804" y="10376"/>
                  <a:pt x="6813" y="10385"/>
                  <a:pt x="6821" y="10393"/>
                </a:cubicBezTo>
              </a:path>
              <a:path w="2283" h="1960">
                <a:moveTo>
                  <a:pt x="6598" y="10641"/>
                </a:moveTo>
                <a:cubicBezTo>
                  <a:pt x="6679" y="10641"/>
                  <a:pt x="6747" y="10628"/>
                  <a:pt x="6821" y="10616"/>
                </a:cubicBezTo>
                <a:cubicBezTo>
                  <a:pt x="6878" y="10607"/>
                  <a:pt x="6952" y="10640"/>
                  <a:pt x="6995" y="10666"/>
                </a:cubicBezTo>
                <a:cubicBezTo>
                  <a:pt x="6984" y="10754"/>
                  <a:pt x="6948" y="10790"/>
                  <a:pt x="6871" y="10840"/>
                </a:cubicBezTo>
                <a:cubicBezTo>
                  <a:pt x="6835" y="10864"/>
                  <a:pt x="6705" y="10931"/>
                  <a:pt x="6672" y="10914"/>
                </a:cubicBezTo>
                <a:cubicBezTo>
                  <a:pt x="6680" y="10906"/>
                  <a:pt x="6689" y="10897"/>
                  <a:pt x="6697" y="10889"/>
                </a:cubicBezTo>
                <a:cubicBezTo>
                  <a:pt x="6812" y="10846"/>
                  <a:pt x="6841" y="10857"/>
                  <a:pt x="6945" y="10939"/>
                </a:cubicBezTo>
                <a:cubicBezTo>
                  <a:pt x="7010" y="10990"/>
                  <a:pt x="7046" y="11078"/>
                  <a:pt x="7020" y="11162"/>
                </a:cubicBezTo>
                <a:cubicBezTo>
                  <a:pt x="6992" y="11251"/>
                  <a:pt x="6891" y="11237"/>
                  <a:pt x="6821" y="11237"/>
                </a:cubicBezTo>
                <a:cubicBezTo>
                  <a:pt x="6704" y="11237"/>
                  <a:pt x="6670" y="11239"/>
                  <a:pt x="6598" y="11212"/>
                </a:cubicBezTo>
              </a:path>
              <a:path w="2283" h="1960">
                <a:moveTo>
                  <a:pt x="6251" y="11311"/>
                </a:moveTo>
                <a:cubicBezTo>
                  <a:pt x="6381" y="11311"/>
                  <a:pt x="6494" y="11333"/>
                  <a:pt x="6623" y="11336"/>
                </a:cubicBezTo>
                <a:cubicBezTo>
                  <a:pt x="6771" y="11340"/>
                  <a:pt x="6924" y="11338"/>
                  <a:pt x="7069" y="11361"/>
                </a:cubicBezTo>
                <a:cubicBezTo>
                  <a:pt x="7135" y="11382"/>
                  <a:pt x="7150" y="11390"/>
                  <a:pt x="7193" y="11385"/>
                </a:cubicBezTo>
              </a:path>
              <a:path w="2283" h="1960">
                <a:moveTo>
                  <a:pt x="6747" y="11683"/>
                </a:moveTo>
                <a:cubicBezTo>
                  <a:pt x="6836" y="11643"/>
                  <a:pt x="6931" y="11593"/>
                  <a:pt x="7020" y="11658"/>
                </a:cubicBezTo>
                <a:cubicBezTo>
                  <a:pt x="7085" y="11705"/>
                  <a:pt x="7163" y="11780"/>
                  <a:pt x="7169" y="11857"/>
                </a:cubicBezTo>
                <a:cubicBezTo>
                  <a:pt x="7178" y="11983"/>
                  <a:pt x="7118" y="12075"/>
                  <a:pt x="7020" y="12154"/>
                </a:cubicBezTo>
                <a:cubicBezTo>
                  <a:pt x="6978" y="12188"/>
                  <a:pt x="6866" y="12243"/>
                  <a:pt x="6821" y="12254"/>
                </a:cubicBezTo>
                <a:cubicBezTo>
                  <a:pt x="6769" y="12267"/>
                  <a:pt x="6635" y="12205"/>
                  <a:pt x="6623" y="12154"/>
                </a:cubicBezTo>
                <a:cubicBezTo>
                  <a:pt x="6594" y="12031"/>
                  <a:pt x="6653" y="11961"/>
                  <a:pt x="6772" y="11981"/>
                </a:cubicBezTo>
                <a:cubicBezTo>
                  <a:pt x="6878" y="11999"/>
                  <a:pt x="6949" y="12094"/>
                  <a:pt x="7020" y="12154"/>
                </a:cubicBezTo>
                <a:cubicBezTo>
                  <a:pt x="7079" y="12204"/>
                  <a:pt x="7151" y="12241"/>
                  <a:pt x="7218" y="122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Find the six trig functions of        t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</a:rPr>
              <a:t>7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Page 300</a:t>
            </a:r>
            <a:br>
              <a:rPr sz="7500"/>
            </a:b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#13-27 odd</a:t>
            </a:r>
            <a:endParaRPr b="0" lang="en-US" sz="7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(page 300 #5-11,29-33,43,47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1295280" y="2286000"/>
          <a:ext cx="6541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654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8"/>
          <p:cNvGraphicFramePr/>
          <p:nvPr/>
        </p:nvGraphicFramePr>
        <p:xfrm>
          <a:off x="4876920" y="2286000"/>
          <a:ext cx="65376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65376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10"/>
          <p:cNvGraphicFramePr/>
          <p:nvPr/>
        </p:nvGraphicFramePr>
        <p:xfrm>
          <a:off x="1066680" y="4419720"/>
          <a:ext cx="831960" cy="73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419720"/>
                    <a:ext cx="83196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5"/>
          <p:cNvSpPr/>
          <p:nvPr/>
        </p:nvSpPr>
        <p:spPr>
          <a:xfrm>
            <a:off x="304920" y="1981080"/>
            <a:ext cx="8001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point (x,y) on the unit circle that corresponds to the real number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Object 12"/>
          <p:cNvGraphicFramePr/>
          <p:nvPr/>
        </p:nvGraphicFramePr>
        <p:xfrm>
          <a:off x="4952880" y="4267080"/>
          <a:ext cx="673200" cy="6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267080"/>
                    <a:ext cx="6732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Ink 14"/>
          <p:cNvSpPr/>
          <p:nvPr/>
        </p:nvSpPr>
        <p:spPr>
          <a:xfrm>
            <a:off x="1143000" y="2990880"/>
            <a:ext cx="1785960" cy="938160"/>
          </a:xfrm>
          <a:custGeom>
            <a:avLst/>
            <a:gdLst/>
            <a:ahLst/>
            <a:rect l="l" t="t" r="r" b="b"/>
            <a:pathLst>
              <a:path w="4962" h="2605">
                <a:moveTo>
                  <a:pt x="3621" y="8310"/>
                </a:moveTo>
                <a:cubicBezTo>
                  <a:pt x="3601" y="8378"/>
                  <a:pt x="3545" y="8435"/>
                  <a:pt x="3497" y="8508"/>
                </a:cubicBezTo>
                <a:cubicBezTo>
                  <a:pt x="3423" y="8622"/>
                  <a:pt x="3329" y="8760"/>
                  <a:pt x="3274" y="8880"/>
                </a:cubicBezTo>
                <a:cubicBezTo>
                  <a:pt x="3214" y="9012"/>
                  <a:pt x="3233" y="9164"/>
                  <a:pt x="3200" y="9302"/>
                </a:cubicBezTo>
                <a:cubicBezTo>
                  <a:pt x="3168" y="9436"/>
                  <a:pt x="3195" y="9537"/>
                  <a:pt x="3200" y="9674"/>
                </a:cubicBezTo>
                <a:cubicBezTo>
                  <a:pt x="3204" y="9774"/>
                  <a:pt x="3236" y="9878"/>
                  <a:pt x="3274" y="9971"/>
                </a:cubicBezTo>
                <a:cubicBezTo>
                  <a:pt x="3299" y="10031"/>
                  <a:pt x="3330" y="10097"/>
                  <a:pt x="3373" y="10145"/>
                </a:cubicBezTo>
                <a:cubicBezTo>
                  <a:pt x="3401" y="10173"/>
                  <a:pt x="3415" y="10182"/>
                  <a:pt x="3448" y="10170"/>
                </a:cubicBezTo>
              </a:path>
              <a:path w="4962" h="2605">
                <a:moveTo>
                  <a:pt x="4217" y="8830"/>
                </a:moveTo>
                <a:cubicBezTo>
                  <a:pt x="4195" y="8964"/>
                  <a:pt x="4196" y="9056"/>
                  <a:pt x="4217" y="9178"/>
                </a:cubicBezTo>
                <a:cubicBezTo>
                  <a:pt x="4217" y="9227"/>
                  <a:pt x="4217" y="9244"/>
                  <a:pt x="4217" y="9277"/>
                </a:cubicBezTo>
                <a:cubicBezTo>
                  <a:pt x="4226" y="9207"/>
                  <a:pt x="4242" y="9152"/>
                  <a:pt x="4242" y="9079"/>
                </a:cubicBezTo>
                <a:cubicBezTo>
                  <a:pt x="4242" y="8982"/>
                  <a:pt x="4254" y="8900"/>
                  <a:pt x="4266" y="8806"/>
                </a:cubicBezTo>
                <a:cubicBezTo>
                  <a:pt x="4279" y="8706"/>
                  <a:pt x="4266" y="8647"/>
                  <a:pt x="4316" y="8558"/>
                </a:cubicBezTo>
                <a:cubicBezTo>
                  <a:pt x="4366" y="8470"/>
                  <a:pt x="4419" y="8464"/>
                  <a:pt x="4514" y="8434"/>
                </a:cubicBezTo>
                <a:cubicBezTo>
                  <a:pt x="4610" y="8403"/>
                  <a:pt x="4711" y="8388"/>
                  <a:pt x="4812" y="8384"/>
                </a:cubicBezTo>
                <a:cubicBezTo>
                  <a:pt x="4913" y="8380"/>
                  <a:pt x="4950" y="8393"/>
                  <a:pt x="5011" y="8434"/>
                </a:cubicBezTo>
              </a:path>
              <a:path w="4962" h="2605">
                <a:moveTo>
                  <a:pt x="4614" y="8632"/>
                </a:moveTo>
                <a:cubicBezTo>
                  <a:pt x="4678" y="8632"/>
                  <a:pt x="4784" y="8601"/>
                  <a:pt x="4837" y="8607"/>
                </a:cubicBezTo>
                <a:cubicBezTo>
                  <a:pt x="4883" y="8612"/>
                  <a:pt x="5015" y="8663"/>
                  <a:pt x="5011" y="8731"/>
                </a:cubicBezTo>
                <a:cubicBezTo>
                  <a:pt x="5007" y="8796"/>
                  <a:pt x="4963" y="8889"/>
                  <a:pt x="4911" y="8930"/>
                </a:cubicBezTo>
                <a:cubicBezTo>
                  <a:pt x="4832" y="8993"/>
                  <a:pt x="4795" y="9003"/>
                  <a:pt x="4738" y="9079"/>
                </a:cubicBezTo>
                <a:cubicBezTo>
                  <a:pt x="4718" y="9106"/>
                  <a:pt x="4687" y="9129"/>
                  <a:pt x="4663" y="9153"/>
                </a:cubicBezTo>
                <a:cubicBezTo>
                  <a:pt x="4735" y="9196"/>
                  <a:pt x="4822" y="9199"/>
                  <a:pt x="4911" y="9203"/>
                </a:cubicBezTo>
                <a:cubicBezTo>
                  <a:pt x="5029" y="9208"/>
                  <a:pt x="5181" y="9177"/>
                  <a:pt x="5283" y="9227"/>
                </a:cubicBezTo>
              </a:path>
              <a:path w="4962" h="2605">
                <a:moveTo>
                  <a:pt x="4142" y="9401"/>
                </a:moveTo>
                <a:cubicBezTo>
                  <a:pt x="4285" y="9368"/>
                  <a:pt x="4438" y="9376"/>
                  <a:pt x="4589" y="9376"/>
                </a:cubicBezTo>
                <a:cubicBezTo>
                  <a:pt x="4718" y="9376"/>
                  <a:pt x="4839" y="9412"/>
                  <a:pt x="4961" y="9426"/>
                </a:cubicBezTo>
                <a:cubicBezTo>
                  <a:pt x="5022" y="9433"/>
                  <a:pt x="5075" y="9441"/>
                  <a:pt x="5135" y="9451"/>
                </a:cubicBezTo>
              </a:path>
              <a:path w="4962" h="2605">
                <a:moveTo>
                  <a:pt x="4589" y="9599"/>
                </a:moveTo>
                <a:cubicBezTo>
                  <a:pt x="4687" y="9599"/>
                  <a:pt x="4768" y="9596"/>
                  <a:pt x="4862" y="9624"/>
                </a:cubicBezTo>
                <a:cubicBezTo>
                  <a:pt x="4962" y="9654"/>
                  <a:pt x="5091" y="9680"/>
                  <a:pt x="5085" y="9798"/>
                </a:cubicBezTo>
                <a:cubicBezTo>
                  <a:pt x="5081" y="9878"/>
                  <a:pt x="4985" y="9924"/>
                  <a:pt x="4936" y="9971"/>
                </a:cubicBezTo>
                <a:cubicBezTo>
                  <a:pt x="4863" y="10040"/>
                  <a:pt x="4788" y="10082"/>
                  <a:pt x="4713" y="10145"/>
                </a:cubicBezTo>
                <a:cubicBezTo>
                  <a:pt x="4654" y="10194"/>
                  <a:pt x="4699" y="10254"/>
                  <a:pt x="4762" y="10269"/>
                </a:cubicBezTo>
                <a:cubicBezTo>
                  <a:pt x="4867" y="10294"/>
                  <a:pt x="5035" y="10275"/>
                  <a:pt x="5135" y="10244"/>
                </a:cubicBezTo>
                <a:cubicBezTo>
                  <a:pt x="5151" y="10236"/>
                  <a:pt x="5168" y="10228"/>
                  <a:pt x="5184" y="10220"/>
                </a:cubicBezTo>
              </a:path>
              <a:path w="4962" h="2605">
                <a:moveTo>
                  <a:pt x="5779" y="9401"/>
                </a:moveTo>
                <a:cubicBezTo>
                  <a:pt x="5769" y="9472"/>
                  <a:pt x="5725" y="9642"/>
                  <a:pt x="5755" y="9723"/>
                </a:cubicBezTo>
                <a:cubicBezTo>
                  <a:pt x="5763" y="9731"/>
                  <a:pt x="5771" y="9740"/>
                  <a:pt x="5779" y="9748"/>
                </a:cubicBezTo>
              </a:path>
              <a:path w="4962" h="2605">
                <a:moveTo>
                  <a:pt x="6300" y="8954"/>
                </a:moveTo>
                <a:cubicBezTo>
                  <a:pt x="6300" y="9029"/>
                  <a:pt x="6313" y="9093"/>
                  <a:pt x="6325" y="9153"/>
                </a:cubicBezTo>
                <a:cubicBezTo>
                  <a:pt x="6349" y="9272"/>
                  <a:pt x="6325" y="9250"/>
                  <a:pt x="6325" y="9128"/>
                </a:cubicBezTo>
                <a:cubicBezTo>
                  <a:pt x="6325" y="9011"/>
                  <a:pt x="6297" y="8917"/>
                  <a:pt x="6276" y="8806"/>
                </a:cubicBezTo>
                <a:cubicBezTo>
                  <a:pt x="6263" y="8738"/>
                  <a:pt x="6266" y="8642"/>
                  <a:pt x="6300" y="8582"/>
                </a:cubicBezTo>
                <a:cubicBezTo>
                  <a:pt x="6349" y="8496"/>
                  <a:pt x="6446" y="8422"/>
                  <a:pt x="6548" y="8409"/>
                </a:cubicBezTo>
                <a:cubicBezTo>
                  <a:pt x="6682" y="8392"/>
                  <a:pt x="6820" y="8413"/>
                  <a:pt x="6945" y="8434"/>
                </a:cubicBezTo>
                <a:cubicBezTo>
                  <a:pt x="6962" y="8434"/>
                  <a:pt x="6978" y="8434"/>
                  <a:pt x="6995" y="8434"/>
                </a:cubicBezTo>
              </a:path>
              <a:path w="4962" h="2605">
                <a:moveTo>
                  <a:pt x="6548" y="8706"/>
                </a:moveTo>
                <a:cubicBezTo>
                  <a:pt x="6634" y="8678"/>
                  <a:pt x="6752" y="8642"/>
                  <a:pt x="6846" y="8657"/>
                </a:cubicBezTo>
                <a:cubicBezTo>
                  <a:pt x="6886" y="8663"/>
                  <a:pt x="7029" y="8710"/>
                  <a:pt x="7045" y="8756"/>
                </a:cubicBezTo>
                <a:cubicBezTo>
                  <a:pt x="7077" y="8847"/>
                  <a:pt x="7041" y="8946"/>
                  <a:pt x="6970" y="9004"/>
                </a:cubicBezTo>
                <a:cubicBezTo>
                  <a:pt x="6900" y="9062"/>
                  <a:pt x="6833" y="9117"/>
                  <a:pt x="6772" y="9153"/>
                </a:cubicBezTo>
                <a:cubicBezTo>
                  <a:pt x="6747" y="9178"/>
                  <a:pt x="6739" y="9186"/>
                  <a:pt x="6722" y="9203"/>
                </a:cubicBezTo>
                <a:cubicBezTo>
                  <a:pt x="6804" y="9264"/>
                  <a:pt x="6846" y="9254"/>
                  <a:pt x="6945" y="9277"/>
                </a:cubicBezTo>
                <a:cubicBezTo>
                  <a:pt x="7047" y="9301"/>
                  <a:pt x="7146" y="9295"/>
                  <a:pt x="7243" y="9327"/>
                </a:cubicBezTo>
              </a:path>
              <a:path w="4962" h="2605">
                <a:moveTo>
                  <a:pt x="6350" y="9475"/>
                </a:moveTo>
                <a:cubicBezTo>
                  <a:pt x="6510" y="9475"/>
                  <a:pt x="6663" y="9491"/>
                  <a:pt x="6821" y="9500"/>
                </a:cubicBezTo>
                <a:cubicBezTo>
                  <a:pt x="6965" y="9508"/>
                  <a:pt x="7107" y="9513"/>
                  <a:pt x="7243" y="9550"/>
                </a:cubicBezTo>
              </a:path>
              <a:path w="4962" h="2605">
                <a:moveTo>
                  <a:pt x="6722" y="9723"/>
                </a:moveTo>
                <a:cubicBezTo>
                  <a:pt x="6841" y="9734"/>
                  <a:pt x="6932" y="9779"/>
                  <a:pt x="7045" y="9823"/>
                </a:cubicBezTo>
                <a:cubicBezTo>
                  <a:pt x="7145" y="9861"/>
                  <a:pt x="7254" y="9896"/>
                  <a:pt x="7193" y="10021"/>
                </a:cubicBezTo>
                <a:cubicBezTo>
                  <a:pt x="7164" y="10081"/>
                  <a:pt x="7049" y="10143"/>
                  <a:pt x="6995" y="10170"/>
                </a:cubicBezTo>
                <a:cubicBezTo>
                  <a:pt x="6915" y="10210"/>
                  <a:pt x="6822" y="10241"/>
                  <a:pt x="6747" y="10294"/>
                </a:cubicBezTo>
                <a:cubicBezTo>
                  <a:pt x="6679" y="10342"/>
                  <a:pt x="6749" y="10434"/>
                  <a:pt x="6796" y="10468"/>
                </a:cubicBezTo>
                <a:cubicBezTo>
                  <a:pt x="6906" y="10547"/>
                  <a:pt x="7055" y="10625"/>
                  <a:pt x="7193" y="10641"/>
                </a:cubicBezTo>
                <a:cubicBezTo>
                  <a:pt x="7294" y="10641"/>
                  <a:pt x="7328" y="10641"/>
                  <a:pt x="7392" y="10616"/>
                </a:cubicBezTo>
              </a:path>
              <a:path w="4962" h="2605">
                <a:moveTo>
                  <a:pt x="7541" y="8384"/>
                </a:moveTo>
                <a:cubicBezTo>
                  <a:pt x="7700" y="8499"/>
                  <a:pt x="7732" y="8623"/>
                  <a:pt x="7813" y="8806"/>
                </a:cubicBezTo>
                <a:cubicBezTo>
                  <a:pt x="7926" y="9062"/>
                  <a:pt x="8045" y="9325"/>
                  <a:pt x="8111" y="9599"/>
                </a:cubicBezTo>
                <a:cubicBezTo>
                  <a:pt x="8151" y="9766"/>
                  <a:pt x="8173" y="10029"/>
                  <a:pt x="8111" y="10195"/>
                </a:cubicBezTo>
                <a:cubicBezTo>
                  <a:pt x="8041" y="10383"/>
                  <a:pt x="7941" y="10533"/>
                  <a:pt x="7789" y="10666"/>
                </a:cubicBezTo>
                <a:cubicBezTo>
                  <a:pt x="7666" y="10774"/>
                  <a:pt x="7536" y="10839"/>
                  <a:pt x="7392" y="109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15"/>
          <p:cNvSpPr/>
          <p:nvPr/>
        </p:nvSpPr>
        <p:spPr>
          <a:xfrm>
            <a:off x="4384800" y="2813040"/>
            <a:ext cx="2036520" cy="992160"/>
          </a:xfrm>
          <a:custGeom>
            <a:avLst/>
            <a:gdLst/>
            <a:ahLst/>
            <a:rect l="l" t="t" r="r" b="b"/>
            <a:pathLst>
              <a:path w="5657" h="2755">
                <a:moveTo>
                  <a:pt x="12824" y="7813"/>
                </a:moveTo>
                <a:cubicBezTo>
                  <a:pt x="12726" y="7875"/>
                  <a:pt x="12705" y="7953"/>
                  <a:pt x="12626" y="8037"/>
                </a:cubicBezTo>
                <a:cubicBezTo>
                  <a:pt x="12523" y="8146"/>
                  <a:pt x="12379" y="8312"/>
                  <a:pt x="12328" y="8458"/>
                </a:cubicBezTo>
                <a:cubicBezTo>
                  <a:pt x="12247" y="8693"/>
                  <a:pt x="12183" y="8929"/>
                  <a:pt x="12179" y="9178"/>
                </a:cubicBezTo>
                <a:cubicBezTo>
                  <a:pt x="12176" y="9368"/>
                  <a:pt x="12175" y="9563"/>
                  <a:pt x="12229" y="9748"/>
                </a:cubicBezTo>
                <a:cubicBezTo>
                  <a:pt x="12262" y="9864"/>
                  <a:pt x="12307" y="10024"/>
                  <a:pt x="12378" y="10120"/>
                </a:cubicBezTo>
                <a:cubicBezTo>
                  <a:pt x="12466" y="10239"/>
                  <a:pt x="12461" y="10235"/>
                  <a:pt x="12576" y="10244"/>
                </a:cubicBezTo>
              </a:path>
              <a:path w="5657" h="2755">
                <a:moveTo>
                  <a:pt x="12774" y="9004"/>
                </a:moveTo>
                <a:cubicBezTo>
                  <a:pt x="12829" y="8971"/>
                  <a:pt x="12880" y="8979"/>
                  <a:pt x="12948" y="8979"/>
                </a:cubicBezTo>
                <a:cubicBezTo>
                  <a:pt x="13074" y="8979"/>
                  <a:pt x="13192" y="9004"/>
                  <a:pt x="13320" y="9004"/>
                </a:cubicBezTo>
              </a:path>
              <a:path w="5657" h="2755">
                <a:moveTo>
                  <a:pt x="13742" y="8632"/>
                </a:moveTo>
                <a:cubicBezTo>
                  <a:pt x="13760" y="8754"/>
                  <a:pt x="13777" y="8886"/>
                  <a:pt x="13791" y="9004"/>
                </a:cubicBezTo>
                <a:cubicBezTo>
                  <a:pt x="13800" y="9083"/>
                  <a:pt x="13805" y="9107"/>
                  <a:pt x="13841" y="9178"/>
                </a:cubicBezTo>
                <a:cubicBezTo>
                  <a:pt x="13841" y="9016"/>
                  <a:pt x="13848" y="8862"/>
                  <a:pt x="13866" y="8706"/>
                </a:cubicBezTo>
                <a:cubicBezTo>
                  <a:pt x="13876" y="8617"/>
                  <a:pt x="13883" y="8511"/>
                  <a:pt x="13940" y="8434"/>
                </a:cubicBezTo>
                <a:cubicBezTo>
                  <a:pt x="14012" y="8336"/>
                  <a:pt x="14083" y="8304"/>
                  <a:pt x="14188" y="8260"/>
                </a:cubicBezTo>
                <a:cubicBezTo>
                  <a:pt x="14290" y="8217"/>
                  <a:pt x="14377" y="8250"/>
                  <a:pt x="14486" y="8260"/>
                </a:cubicBezTo>
              </a:path>
              <a:path w="5657" h="2755">
                <a:moveTo>
                  <a:pt x="14213" y="8508"/>
                </a:moveTo>
                <a:cubicBezTo>
                  <a:pt x="14227" y="8606"/>
                  <a:pt x="14265" y="8582"/>
                  <a:pt x="14362" y="8582"/>
                </a:cubicBezTo>
                <a:cubicBezTo>
                  <a:pt x="14430" y="8582"/>
                  <a:pt x="14535" y="8595"/>
                  <a:pt x="14585" y="8632"/>
                </a:cubicBezTo>
                <a:cubicBezTo>
                  <a:pt x="14593" y="8640"/>
                  <a:pt x="14602" y="8649"/>
                  <a:pt x="14610" y="8657"/>
                </a:cubicBezTo>
                <a:cubicBezTo>
                  <a:pt x="14543" y="8756"/>
                  <a:pt x="14492" y="8781"/>
                  <a:pt x="14387" y="8830"/>
                </a:cubicBezTo>
                <a:cubicBezTo>
                  <a:pt x="14326" y="8859"/>
                  <a:pt x="14279" y="8873"/>
                  <a:pt x="14213" y="8880"/>
                </a:cubicBezTo>
                <a:cubicBezTo>
                  <a:pt x="14323" y="8852"/>
                  <a:pt x="14405" y="8850"/>
                  <a:pt x="14511" y="8905"/>
                </a:cubicBezTo>
                <a:cubicBezTo>
                  <a:pt x="14603" y="8953"/>
                  <a:pt x="14659" y="9016"/>
                  <a:pt x="14635" y="9128"/>
                </a:cubicBezTo>
                <a:cubicBezTo>
                  <a:pt x="14621" y="9196"/>
                  <a:pt x="14459" y="9201"/>
                  <a:pt x="14412" y="9203"/>
                </a:cubicBezTo>
                <a:cubicBezTo>
                  <a:pt x="14313" y="9207"/>
                  <a:pt x="14212" y="9203"/>
                  <a:pt x="14114" y="9203"/>
                </a:cubicBezTo>
              </a:path>
              <a:path w="5657" h="2755">
                <a:moveTo>
                  <a:pt x="13618" y="9203"/>
                </a:moveTo>
                <a:cubicBezTo>
                  <a:pt x="13821" y="9203"/>
                  <a:pt x="14012" y="9215"/>
                  <a:pt x="14213" y="9227"/>
                </a:cubicBezTo>
                <a:cubicBezTo>
                  <a:pt x="14369" y="9236"/>
                  <a:pt x="14507" y="9256"/>
                  <a:pt x="14660" y="9277"/>
                </a:cubicBezTo>
                <a:cubicBezTo>
                  <a:pt x="14685" y="9277"/>
                  <a:pt x="14709" y="9277"/>
                  <a:pt x="14734" y="9277"/>
                </a:cubicBezTo>
              </a:path>
              <a:path w="5657" h="2755">
                <a:moveTo>
                  <a:pt x="14188" y="9475"/>
                </a:moveTo>
                <a:cubicBezTo>
                  <a:pt x="14253" y="9540"/>
                  <a:pt x="14294" y="9518"/>
                  <a:pt x="14387" y="9550"/>
                </a:cubicBezTo>
                <a:cubicBezTo>
                  <a:pt x="14438" y="9567"/>
                  <a:pt x="14565" y="9658"/>
                  <a:pt x="14536" y="9723"/>
                </a:cubicBezTo>
                <a:cubicBezTo>
                  <a:pt x="14489" y="9829"/>
                  <a:pt x="14329" y="9877"/>
                  <a:pt x="14238" y="9922"/>
                </a:cubicBezTo>
                <a:cubicBezTo>
                  <a:pt x="14186" y="9948"/>
                  <a:pt x="14136" y="9965"/>
                  <a:pt x="14089" y="9996"/>
                </a:cubicBezTo>
                <a:cubicBezTo>
                  <a:pt x="14101" y="10078"/>
                  <a:pt x="14146" y="10106"/>
                  <a:pt x="14238" y="10120"/>
                </a:cubicBezTo>
                <a:cubicBezTo>
                  <a:pt x="14414" y="10146"/>
                  <a:pt x="14547" y="10102"/>
                  <a:pt x="14709" y="10046"/>
                </a:cubicBezTo>
              </a:path>
              <a:path w="5657" h="2755">
                <a:moveTo>
                  <a:pt x="15205" y="9302"/>
                </a:moveTo>
                <a:cubicBezTo>
                  <a:pt x="15205" y="9414"/>
                  <a:pt x="15185" y="9516"/>
                  <a:pt x="15180" y="9624"/>
                </a:cubicBezTo>
                <a:cubicBezTo>
                  <a:pt x="15180" y="9692"/>
                  <a:pt x="15177" y="9711"/>
                  <a:pt x="15205" y="9748"/>
                </a:cubicBezTo>
              </a:path>
              <a:path w="5657" h="2755">
                <a:moveTo>
                  <a:pt x="15553" y="9004"/>
                </a:moveTo>
                <a:cubicBezTo>
                  <a:pt x="15728" y="9004"/>
                  <a:pt x="15857" y="9006"/>
                  <a:pt x="16024" y="8979"/>
                </a:cubicBezTo>
              </a:path>
              <a:path w="5657" h="2755">
                <a:moveTo>
                  <a:pt x="16346" y="8310"/>
                </a:moveTo>
                <a:cubicBezTo>
                  <a:pt x="16367" y="8479"/>
                  <a:pt x="16371" y="8636"/>
                  <a:pt x="16371" y="8806"/>
                </a:cubicBezTo>
                <a:cubicBezTo>
                  <a:pt x="16371" y="8929"/>
                  <a:pt x="16401" y="9056"/>
                  <a:pt x="16421" y="9178"/>
                </a:cubicBezTo>
              </a:path>
              <a:path w="5657" h="2755">
                <a:moveTo>
                  <a:pt x="16247" y="9401"/>
                </a:moveTo>
                <a:cubicBezTo>
                  <a:pt x="16470" y="9401"/>
                  <a:pt x="16694" y="9401"/>
                  <a:pt x="16917" y="9401"/>
                </a:cubicBezTo>
              </a:path>
              <a:path w="5657" h="2755">
                <a:moveTo>
                  <a:pt x="16570" y="9699"/>
                </a:moveTo>
                <a:cubicBezTo>
                  <a:pt x="16611" y="9723"/>
                  <a:pt x="16692" y="9741"/>
                  <a:pt x="16743" y="9748"/>
                </a:cubicBezTo>
                <a:cubicBezTo>
                  <a:pt x="16842" y="9761"/>
                  <a:pt x="16916" y="9754"/>
                  <a:pt x="16942" y="9872"/>
                </a:cubicBezTo>
                <a:cubicBezTo>
                  <a:pt x="16977" y="10027"/>
                  <a:pt x="16698" y="10149"/>
                  <a:pt x="16594" y="10195"/>
                </a:cubicBezTo>
                <a:cubicBezTo>
                  <a:pt x="16556" y="10212"/>
                  <a:pt x="16431" y="10271"/>
                  <a:pt x="16470" y="10344"/>
                </a:cubicBezTo>
                <a:cubicBezTo>
                  <a:pt x="16515" y="10429"/>
                  <a:pt x="16652" y="10505"/>
                  <a:pt x="16743" y="10517"/>
                </a:cubicBezTo>
                <a:cubicBezTo>
                  <a:pt x="16840" y="10530"/>
                  <a:pt x="17101" y="10589"/>
                  <a:pt x="17190" y="10542"/>
                </a:cubicBezTo>
                <a:cubicBezTo>
                  <a:pt x="17239" y="10501"/>
                  <a:pt x="17289" y="10459"/>
                  <a:pt x="17338" y="10418"/>
                </a:cubicBezTo>
              </a:path>
              <a:path w="5657" h="2755">
                <a:moveTo>
                  <a:pt x="17388" y="8186"/>
                </a:moveTo>
                <a:cubicBezTo>
                  <a:pt x="17639" y="8610"/>
                  <a:pt x="17803" y="8863"/>
                  <a:pt x="17835" y="9351"/>
                </a:cubicBezTo>
                <a:cubicBezTo>
                  <a:pt x="17854" y="9646"/>
                  <a:pt x="17839" y="9934"/>
                  <a:pt x="17711" y="10195"/>
                </a:cubicBezTo>
                <a:cubicBezTo>
                  <a:pt x="17634" y="10353"/>
                  <a:pt x="17563" y="10450"/>
                  <a:pt x="17438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16"/>
          <p:cNvSpPr/>
          <p:nvPr/>
        </p:nvSpPr>
        <p:spPr>
          <a:xfrm>
            <a:off x="1071720" y="5089680"/>
            <a:ext cx="1768320" cy="1260360"/>
          </a:xfrm>
          <a:custGeom>
            <a:avLst/>
            <a:gdLst/>
            <a:ahLst/>
            <a:rect l="l" t="t" r="r" b="b"/>
            <a:pathLst>
              <a:path w="4912" h="3498">
                <a:moveTo>
                  <a:pt x="3621" y="14139"/>
                </a:moveTo>
                <a:cubicBezTo>
                  <a:pt x="3576" y="14266"/>
                  <a:pt x="3548" y="14394"/>
                  <a:pt x="3473" y="14511"/>
                </a:cubicBezTo>
                <a:cubicBezTo>
                  <a:pt x="3347" y="14708"/>
                  <a:pt x="3243" y="14915"/>
                  <a:pt x="3150" y="15131"/>
                </a:cubicBezTo>
                <a:cubicBezTo>
                  <a:pt x="3046" y="15373"/>
                  <a:pt x="2992" y="15610"/>
                  <a:pt x="2977" y="15875"/>
                </a:cubicBezTo>
                <a:cubicBezTo>
                  <a:pt x="2967" y="16055"/>
                  <a:pt x="3016" y="16181"/>
                  <a:pt x="3076" y="16346"/>
                </a:cubicBezTo>
              </a:path>
              <a:path w="4912" h="3498">
                <a:moveTo>
                  <a:pt x="3671" y="14982"/>
                </a:moveTo>
                <a:cubicBezTo>
                  <a:pt x="3924" y="15054"/>
                  <a:pt x="3966" y="15102"/>
                  <a:pt x="4192" y="15056"/>
                </a:cubicBezTo>
              </a:path>
              <a:path w="4912" h="3498">
                <a:moveTo>
                  <a:pt x="4663" y="14486"/>
                </a:moveTo>
                <a:cubicBezTo>
                  <a:pt x="4640" y="14667"/>
                  <a:pt x="4593" y="14850"/>
                  <a:pt x="4589" y="15032"/>
                </a:cubicBezTo>
                <a:cubicBezTo>
                  <a:pt x="4589" y="15148"/>
                  <a:pt x="4589" y="15181"/>
                  <a:pt x="4589" y="15255"/>
                </a:cubicBezTo>
              </a:path>
              <a:path w="4912" h="3498">
                <a:moveTo>
                  <a:pt x="4316" y="15503"/>
                </a:moveTo>
                <a:cubicBezTo>
                  <a:pt x="4461" y="15482"/>
                  <a:pt x="4591" y="15478"/>
                  <a:pt x="4738" y="15478"/>
                </a:cubicBezTo>
                <a:cubicBezTo>
                  <a:pt x="4863" y="15478"/>
                  <a:pt x="4905" y="15478"/>
                  <a:pt x="4986" y="15453"/>
                </a:cubicBezTo>
              </a:path>
              <a:path w="4912" h="3498">
                <a:moveTo>
                  <a:pt x="4564" y="15776"/>
                </a:moveTo>
                <a:cubicBezTo>
                  <a:pt x="4633" y="15914"/>
                  <a:pt x="4630" y="15850"/>
                  <a:pt x="4762" y="15825"/>
                </a:cubicBezTo>
                <a:cubicBezTo>
                  <a:pt x="4806" y="15817"/>
                  <a:pt x="4903" y="15828"/>
                  <a:pt x="4936" y="15850"/>
                </a:cubicBezTo>
                <a:cubicBezTo>
                  <a:pt x="4991" y="15886"/>
                  <a:pt x="5047" y="15956"/>
                  <a:pt x="5035" y="16024"/>
                </a:cubicBezTo>
                <a:cubicBezTo>
                  <a:pt x="5015" y="16144"/>
                  <a:pt x="4940" y="16233"/>
                  <a:pt x="4862" y="16321"/>
                </a:cubicBezTo>
                <a:cubicBezTo>
                  <a:pt x="4781" y="16412"/>
                  <a:pt x="4658" y="16514"/>
                  <a:pt x="4539" y="16545"/>
                </a:cubicBezTo>
                <a:cubicBezTo>
                  <a:pt x="4481" y="16560"/>
                  <a:pt x="4410" y="16547"/>
                  <a:pt x="4366" y="16520"/>
                </a:cubicBezTo>
                <a:cubicBezTo>
                  <a:pt x="4343" y="16405"/>
                  <a:pt x="4365" y="16364"/>
                  <a:pt x="4465" y="16297"/>
                </a:cubicBezTo>
                <a:cubicBezTo>
                  <a:pt x="4572" y="16225"/>
                  <a:pt x="4741" y="16270"/>
                  <a:pt x="4812" y="16371"/>
                </a:cubicBezTo>
                <a:cubicBezTo>
                  <a:pt x="4900" y="16496"/>
                  <a:pt x="4858" y="16621"/>
                  <a:pt x="4986" y="16694"/>
                </a:cubicBezTo>
              </a:path>
              <a:path w="4912" h="3498">
                <a:moveTo>
                  <a:pt x="5482" y="15776"/>
                </a:moveTo>
                <a:cubicBezTo>
                  <a:pt x="5467" y="15886"/>
                  <a:pt x="5370" y="16187"/>
                  <a:pt x="5407" y="16297"/>
                </a:cubicBezTo>
                <a:cubicBezTo>
                  <a:pt x="5415" y="16297"/>
                  <a:pt x="5424" y="16297"/>
                  <a:pt x="5432" y="16297"/>
                </a:cubicBezTo>
              </a:path>
              <a:path w="4912" h="3498">
                <a:moveTo>
                  <a:pt x="5680" y="15379"/>
                </a:moveTo>
                <a:cubicBezTo>
                  <a:pt x="5806" y="15379"/>
                  <a:pt x="5908" y="15384"/>
                  <a:pt x="6028" y="15354"/>
                </a:cubicBezTo>
              </a:path>
              <a:path w="4912" h="3498">
                <a:moveTo>
                  <a:pt x="6325" y="15180"/>
                </a:moveTo>
                <a:cubicBezTo>
                  <a:pt x="6308" y="15415"/>
                  <a:pt x="6288" y="15507"/>
                  <a:pt x="6251" y="15701"/>
                </a:cubicBezTo>
                <a:cubicBezTo>
                  <a:pt x="6251" y="15718"/>
                  <a:pt x="6251" y="15734"/>
                  <a:pt x="6251" y="15751"/>
                </a:cubicBezTo>
                <a:cubicBezTo>
                  <a:pt x="6201" y="15668"/>
                  <a:pt x="6230" y="15549"/>
                  <a:pt x="6251" y="15453"/>
                </a:cubicBezTo>
                <a:cubicBezTo>
                  <a:pt x="6279" y="15328"/>
                  <a:pt x="6318" y="15205"/>
                  <a:pt x="6350" y="15081"/>
                </a:cubicBezTo>
                <a:cubicBezTo>
                  <a:pt x="6375" y="14984"/>
                  <a:pt x="6371" y="14878"/>
                  <a:pt x="6400" y="14784"/>
                </a:cubicBezTo>
                <a:cubicBezTo>
                  <a:pt x="6426" y="14699"/>
                  <a:pt x="6470" y="14688"/>
                  <a:pt x="6548" y="14684"/>
                </a:cubicBezTo>
                <a:cubicBezTo>
                  <a:pt x="6650" y="14679"/>
                  <a:pt x="6760" y="14779"/>
                  <a:pt x="6846" y="14833"/>
                </a:cubicBezTo>
                <a:cubicBezTo>
                  <a:pt x="6911" y="14877"/>
                  <a:pt x="6926" y="14888"/>
                  <a:pt x="6970" y="14908"/>
                </a:cubicBezTo>
              </a:path>
              <a:path w="4912" h="3498">
                <a:moveTo>
                  <a:pt x="6697" y="15131"/>
                </a:moveTo>
                <a:cubicBezTo>
                  <a:pt x="6761" y="15195"/>
                  <a:pt x="6804" y="15217"/>
                  <a:pt x="6896" y="15230"/>
                </a:cubicBezTo>
                <a:cubicBezTo>
                  <a:pt x="6935" y="15236"/>
                  <a:pt x="7029" y="15291"/>
                  <a:pt x="6995" y="15354"/>
                </a:cubicBezTo>
                <a:cubicBezTo>
                  <a:pt x="6953" y="15432"/>
                  <a:pt x="6845" y="15404"/>
                  <a:pt x="6772" y="15404"/>
                </a:cubicBezTo>
                <a:cubicBezTo>
                  <a:pt x="6813" y="15446"/>
                  <a:pt x="6855" y="15487"/>
                  <a:pt x="6896" y="15528"/>
                </a:cubicBezTo>
                <a:cubicBezTo>
                  <a:pt x="6978" y="15610"/>
                  <a:pt x="6970" y="15662"/>
                  <a:pt x="6970" y="15776"/>
                </a:cubicBezTo>
                <a:cubicBezTo>
                  <a:pt x="6970" y="15889"/>
                  <a:pt x="6904" y="15945"/>
                  <a:pt x="6796" y="15949"/>
                </a:cubicBezTo>
                <a:cubicBezTo>
                  <a:pt x="6679" y="15953"/>
                  <a:pt x="6636" y="15923"/>
                  <a:pt x="6548" y="15850"/>
                </a:cubicBezTo>
              </a:path>
              <a:path w="4912" h="3498">
                <a:moveTo>
                  <a:pt x="6201" y="15875"/>
                </a:moveTo>
                <a:cubicBezTo>
                  <a:pt x="6364" y="15943"/>
                  <a:pt x="6541" y="16029"/>
                  <a:pt x="6722" y="16049"/>
                </a:cubicBezTo>
                <a:cubicBezTo>
                  <a:pt x="6813" y="16049"/>
                  <a:pt x="6838" y="16049"/>
                  <a:pt x="6896" y="16049"/>
                </a:cubicBezTo>
              </a:path>
              <a:path w="4912" h="3498">
                <a:moveTo>
                  <a:pt x="6846" y="16297"/>
                </a:moveTo>
                <a:cubicBezTo>
                  <a:pt x="6883" y="16370"/>
                  <a:pt x="6910" y="16446"/>
                  <a:pt x="6945" y="16520"/>
                </a:cubicBezTo>
                <a:cubicBezTo>
                  <a:pt x="6995" y="16627"/>
                  <a:pt x="7020" y="16699"/>
                  <a:pt x="7020" y="16818"/>
                </a:cubicBezTo>
                <a:cubicBezTo>
                  <a:pt x="7020" y="16906"/>
                  <a:pt x="6976" y="16953"/>
                  <a:pt x="6896" y="16991"/>
                </a:cubicBezTo>
                <a:cubicBezTo>
                  <a:pt x="6777" y="17048"/>
                  <a:pt x="6652" y="17041"/>
                  <a:pt x="6524" y="17041"/>
                </a:cubicBezTo>
                <a:cubicBezTo>
                  <a:pt x="6453" y="17041"/>
                  <a:pt x="6428" y="17048"/>
                  <a:pt x="6375" y="17016"/>
                </a:cubicBezTo>
                <a:cubicBezTo>
                  <a:pt x="6387" y="16935"/>
                  <a:pt x="6433" y="16906"/>
                  <a:pt x="6524" y="16892"/>
                </a:cubicBezTo>
                <a:cubicBezTo>
                  <a:pt x="6646" y="16873"/>
                  <a:pt x="6715" y="16902"/>
                  <a:pt x="6772" y="17016"/>
                </a:cubicBezTo>
                <a:cubicBezTo>
                  <a:pt x="6815" y="17103"/>
                  <a:pt x="6811" y="17231"/>
                  <a:pt x="6896" y="17289"/>
                </a:cubicBezTo>
                <a:cubicBezTo>
                  <a:pt x="6921" y="17297"/>
                  <a:pt x="6945" y="17306"/>
                  <a:pt x="6970" y="17314"/>
                </a:cubicBezTo>
              </a:path>
              <a:path w="4912" h="3498">
                <a:moveTo>
                  <a:pt x="7615" y="14982"/>
                </a:moveTo>
                <a:cubicBezTo>
                  <a:pt x="7634" y="14888"/>
                  <a:pt x="7621" y="14868"/>
                  <a:pt x="7665" y="14833"/>
                </a:cubicBezTo>
                <a:cubicBezTo>
                  <a:pt x="7769" y="15001"/>
                  <a:pt x="7804" y="15180"/>
                  <a:pt x="7838" y="15379"/>
                </a:cubicBezTo>
                <a:cubicBezTo>
                  <a:pt x="7895" y="15712"/>
                  <a:pt x="7870" y="15990"/>
                  <a:pt x="7813" y="16321"/>
                </a:cubicBezTo>
                <a:cubicBezTo>
                  <a:pt x="7752" y="16672"/>
                  <a:pt x="7637" y="17043"/>
                  <a:pt x="7392" y="17314"/>
                </a:cubicBezTo>
                <a:cubicBezTo>
                  <a:pt x="7197" y="17484"/>
                  <a:pt x="7135" y="17538"/>
                  <a:pt x="6995" y="176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17"/>
          <p:cNvSpPr/>
          <p:nvPr/>
        </p:nvSpPr>
        <p:spPr>
          <a:xfrm>
            <a:off x="5089680" y="4894200"/>
            <a:ext cx="1233360" cy="884160"/>
          </a:xfrm>
          <a:custGeom>
            <a:avLst/>
            <a:gdLst/>
            <a:ahLst/>
            <a:rect l="l" t="t" r="r" b="b"/>
            <a:pathLst>
              <a:path w="3424" h="2457">
                <a:moveTo>
                  <a:pt x="14511" y="13593"/>
                </a:moveTo>
                <a:cubicBezTo>
                  <a:pt x="14439" y="13665"/>
                  <a:pt x="14370" y="13731"/>
                  <a:pt x="14312" y="13816"/>
                </a:cubicBezTo>
                <a:cubicBezTo>
                  <a:pt x="14205" y="13972"/>
                  <a:pt x="14198" y="14180"/>
                  <a:pt x="14163" y="14362"/>
                </a:cubicBezTo>
                <a:cubicBezTo>
                  <a:pt x="14128" y="14545"/>
                  <a:pt x="14179" y="14703"/>
                  <a:pt x="14213" y="14883"/>
                </a:cubicBezTo>
                <a:cubicBezTo>
                  <a:pt x="14247" y="15064"/>
                  <a:pt x="14310" y="15128"/>
                  <a:pt x="14436" y="15255"/>
                </a:cubicBezTo>
              </a:path>
              <a:path w="3424" h="2457">
                <a:moveTo>
                  <a:pt x="15131" y="14064"/>
                </a:moveTo>
                <a:cubicBezTo>
                  <a:pt x="15018" y="14166"/>
                  <a:pt x="14863" y="14298"/>
                  <a:pt x="14833" y="14461"/>
                </a:cubicBezTo>
                <a:cubicBezTo>
                  <a:pt x="14799" y="14645"/>
                  <a:pt x="14844" y="14825"/>
                  <a:pt x="14932" y="14982"/>
                </a:cubicBezTo>
                <a:cubicBezTo>
                  <a:pt x="15000" y="15103"/>
                  <a:pt x="15021" y="15210"/>
                  <a:pt x="15156" y="15280"/>
                </a:cubicBezTo>
                <a:cubicBezTo>
                  <a:pt x="15313" y="15361"/>
                  <a:pt x="15390" y="15250"/>
                  <a:pt x="15453" y="15131"/>
                </a:cubicBezTo>
                <a:cubicBezTo>
                  <a:pt x="15532" y="14981"/>
                  <a:pt x="15547" y="14803"/>
                  <a:pt x="15528" y="14635"/>
                </a:cubicBezTo>
                <a:cubicBezTo>
                  <a:pt x="15507" y="14450"/>
                  <a:pt x="15442" y="14226"/>
                  <a:pt x="15280" y="14114"/>
                </a:cubicBezTo>
                <a:cubicBezTo>
                  <a:pt x="15191" y="14053"/>
                  <a:pt x="15022" y="14035"/>
                  <a:pt x="14932" y="14089"/>
                </a:cubicBezTo>
                <a:cubicBezTo>
                  <a:pt x="14841" y="14143"/>
                  <a:pt x="14870" y="14208"/>
                  <a:pt x="14883" y="14288"/>
                </a:cubicBezTo>
              </a:path>
              <a:path w="3424" h="2457">
                <a:moveTo>
                  <a:pt x="15801" y="15503"/>
                </a:moveTo>
                <a:cubicBezTo>
                  <a:pt x="15785" y="15662"/>
                  <a:pt x="15658" y="16033"/>
                  <a:pt x="15776" y="15925"/>
                </a:cubicBezTo>
              </a:path>
              <a:path w="3424" h="2457">
                <a:moveTo>
                  <a:pt x="16024" y="14784"/>
                </a:moveTo>
                <a:cubicBezTo>
                  <a:pt x="16202" y="14699"/>
                  <a:pt x="16255" y="14729"/>
                  <a:pt x="16446" y="14734"/>
                </a:cubicBezTo>
                <a:cubicBezTo>
                  <a:pt x="16479" y="14734"/>
                  <a:pt x="16512" y="14734"/>
                  <a:pt x="16545" y="14734"/>
                </a:cubicBezTo>
              </a:path>
              <a:path w="3424" h="2457">
                <a:moveTo>
                  <a:pt x="16793" y="14312"/>
                </a:moveTo>
                <a:cubicBezTo>
                  <a:pt x="16815" y="14583"/>
                  <a:pt x="16842" y="14840"/>
                  <a:pt x="16892" y="15106"/>
                </a:cubicBezTo>
                <a:cubicBezTo>
                  <a:pt x="16913" y="15219"/>
                  <a:pt x="16934" y="15360"/>
                  <a:pt x="16917" y="15453"/>
                </a:cubicBezTo>
                <a:cubicBezTo>
                  <a:pt x="16917" y="15461"/>
                  <a:pt x="16917" y="15470"/>
                  <a:pt x="16917" y="15478"/>
                </a:cubicBezTo>
              </a:path>
              <a:path w="3424" h="2457">
                <a:moveTo>
                  <a:pt x="17090" y="13841"/>
                </a:moveTo>
                <a:cubicBezTo>
                  <a:pt x="17370" y="14293"/>
                  <a:pt x="17550" y="14617"/>
                  <a:pt x="17562" y="15156"/>
                </a:cubicBezTo>
                <a:cubicBezTo>
                  <a:pt x="17569" y="15455"/>
                  <a:pt x="17541" y="15636"/>
                  <a:pt x="17363" y="15875"/>
                </a:cubicBezTo>
                <a:cubicBezTo>
                  <a:pt x="17269" y="15992"/>
                  <a:pt x="17244" y="16031"/>
                  <a:pt x="17140" y="160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valuate the trigonometric function using its period as an aid.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.  Sin 5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1.cos            33.  cos (-3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4419720" y="1523880"/>
          <a:ext cx="60624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606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Ink 6"/>
          <p:cNvSpPr/>
          <p:nvPr/>
        </p:nvSpPr>
        <p:spPr>
          <a:xfrm>
            <a:off x="204840" y="2455920"/>
            <a:ext cx="2795400" cy="1608120"/>
          </a:xfrm>
          <a:custGeom>
            <a:avLst/>
            <a:gdLst/>
            <a:ahLst/>
            <a:rect l="l" t="t" r="r" b="b"/>
            <a:pathLst>
              <a:path w="7764" h="4466">
                <a:moveTo>
                  <a:pt x="5680" y="7193"/>
                </a:moveTo>
                <a:cubicBezTo>
                  <a:pt x="5551" y="7091"/>
                  <a:pt x="5454" y="7011"/>
                  <a:pt x="5308" y="6945"/>
                </a:cubicBezTo>
                <a:cubicBezTo>
                  <a:pt x="5206" y="6899"/>
                  <a:pt x="5070" y="6868"/>
                  <a:pt x="4961" y="6846"/>
                </a:cubicBezTo>
                <a:cubicBezTo>
                  <a:pt x="4829" y="6819"/>
                  <a:pt x="4720" y="6833"/>
                  <a:pt x="4589" y="6846"/>
                </a:cubicBezTo>
                <a:cubicBezTo>
                  <a:pt x="4423" y="6862"/>
                  <a:pt x="4256" y="6878"/>
                  <a:pt x="4093" y="6921"/>
                </a:cubicBezTo>
                <a:cubicBezTo>
                  <a:pt x="3884" y="6976"/>
                  <a:pt x="3683" y="7093"/>
                  <a:pt x="3497" y="7193"/>
                </a:cubicBezTo>
                <a:cubicBezTo>
                  <a:pt x="3369" y="7262"/>
                  <a:pt x="3280" y="7342"/>
                  <a:pt x="3175" y="7441"/>
                </a:cubicBezTo>
                <a:cubicBezTo>
                  <a:pt x="3031" y="7577"/>
                  <a:pt x="2871" y="7724"/>
                  <a:pt x="2753" y="7888"/>
                </a:cubicBezTo>
                <a:cubicBezTo>
                  <a:pt x="2660" y="8017"/>
                  <a:pt x="2587" y="8188"/>
                  <a:pt x="2530" y="8334"/>
                </a:cubicBezTo>
                <a:cubicBezTo>
                  <a:pt x="2459" y="8516"/>
                  <a:pt x="2431" y="8715"/>
                  <a:pt x="2406" y="8905"/>
                </a:cubicBezTo>
                <a:cubicBezTo>
                  <a:pt x="2388" y="9041"/>
                  <a:pt x="2362" y="9187"/>
                  <a:pt x="2381" y="9327"/>
                </a:cubicBezTo>
                <a:cubicBezTo>
                  <a:pt x="2405" y="9509"/>
                  <a:pt x="2484" y="9732"/>
                  <a:pt x="2555" y="9897"/>
                </a:cubicBezTo>
                <a:cubicBezTo>
                  <a:pt x="2615" y="10036"/>
                  <a:pt x="2707" y="10150"/>
                  <a:pt x="2803" y="10269"/>
                </a:cubicBezTo>
                <a:cubicBezTo>
                  <a:pt x="2900" y="10389"/>
                  <a:pt x="2999" y="10514"/>
                  <a:pt x="3125" y="10616"/>
                </a:cubicBezTo>
                <a:cubicBezTo>
                  <a:pt x="3256" y="10723"/>
                  <a:pt x="3403" y="10802"/>
                  <a:pt x="3547" y="10889"/>
                </a:cubicBezTo>
                <a:cubicBezTo>
                  <a:pt x="3685" y="10972"/>
                  <a:pt x="3810" y="11053"/>
                  <a:pt x="3969" y="11112"/>
                </a:cubicBezTo>
                <a:cubicBezTo>
                  <a:pt x="4271" y="11224"/>
                  <a:pt x="4590" y="11257"/>
                  <a:pt x="4911" y="11237"/>
                </a:cubicBezTo>
                <a:cubicBezTo>
                  <a:pt x="5094" y="11226"/>
                  <a:pt x="5257" y="11200"/>
                  <a:pt x="5432" y="11137"/>
                </a:cubicBezTo>
                <a:cubicBezTo>
                  <a:pt x="5603" y="11076"/>
                  <a:pt x="5731" y="10991"/>
                  <a:pt x="5879" y="10889"/>
                </a:cubicBezTo>
                <a:cubicBezTo>
                  <a:pt x="6014" y="10796"/>
                  <a:pt x="6139" y="10689"/>
                  <a:pt x="6251" y="10567"/>
                </a:cubicBezTo>
                <a:cubicBezTo>
                  <a:pt x="6407" y="10398"/>
                  <a:pt x="6513" y="10221"/>
                  <a:pt x="6623" y="10021"/>
                </a:cubicBezTo>
                <a:cubicBezTo>
                  <a:pt x="6708" y="9866"/>
                  <a:pt x="6755" y="9670"/>
                  <a:pt x="6796" y="9500"/>
                </a:cubicBezTo>
                <a:cubicBezTo>
                  <a:pt x="6838" y="9326"/>
                  <a:pt x="6851" y="9109"/>
                  <a:pt x="6846" y="8930"/>
                </a:cubicBezTo>
                <a:cubicBezTo>
                  <a:pt x="6841" y="8743"/>
                  <a:pt x="6806" y="8560"/>
                  <a:pt x="6747" y="8384"/>
                </a:cubicBezTo>
                <a:cubicBezTo>
                  <a:pt x="6663" y="8132"/>
                  <a:pt x="6570" y="7907"/>
                  <a:pt x="6449" y="7665"/>
                </a:cubicBezTo>
                <a:cubicBezTo>
                  <a:pt x="6372" y="7511"/>
                  <a:pt x="6248" y="7408"/>
                  <a:pt x="6127" y="7293"/>
                </a:cubicBezTo>
                <a:cubicBezTo>
                  <a:pt x="5965" y="7139"/>
                  <a:pt x="5793" y="7006"/>
                  <a:pt x="5581" y="6945"/>
                </a:cubicBezTo>
                <a:cubicBezTo>
                  <a:pt x="5454" y="6909"/>
                  <a:pt x="5290" y="6909"/>
                  <a:pt x="5159" y="6921"/>
                </a:cubicBezTo>
                <a:cubicBezTo>
                  <a:pt x="5104" y="6948"/>
                  <a:pt x="5081" y="6956"/>
                  <a:pt x="5035" y="6945"/>
                </a:cubicBezTo>
              </a:path>
              <a:path w="7764" h="4466">
                <a:moveTo>
                  <a:pt x="6871" y="9029"/>
                </a:moveTo>
                <a:cubicBezTo>
                  <a:pt x="6933" y="9067"/>
                  <a:pt x="6945" y="9054"/>
                  <a:pt x="6995" y="9004"/>
                </a:cubicBezTo>
                <a:cubicBezTo>
                  <a:pt x="6984" y="8925"/>
                  <a:pt x="6949" y="8898"/>
                  <a:pt x="6871" y="8954"/>
                </a:cubicBezTo>
                <a:cubicBezTo>
                  <a:pt x="6837" y="8978"/>
                  <a:pt x="6821" y="9084"/>
                  <a:pt x="6871" y="9103"/>
                </a:cubicBezTo>
                <a:cubicBezTo>
                  <a:pt x="6888" y="9103"/>
                  <a:pt x="6904" y="9103"/>
                  <a:pt x="6921" y="9103"/>
                </a:cubicBezTo>
                <a:cubicBezTo>
                  <a:pt x="6988" y="9094"/>
                  <a:pt x="7027" y="9061"/>
                  <a:pt x="6995" y="8979"/>
                </a:cubicBezTo>
                <a:cubicBezTo>
                  <a:pt x="6979" y="8936"/>
                  <a:pt x="6886" y="8914"/>
                  <a:pt x="6846" y="8930"/>
                </a:cubicBezTo>
                <a:cubicBezTo>
                  <a:pt x="6814" y="8943"/>
                  <a:pt x="6712" y="8958"/>
                  <a:pt x="6772" y="9004"/>
                </a:cubicBezTo>
                <a:cubicBezTo>
                  <a:pt x="6820" y="9028"/>
                  <a:pt x="6834" y="9037"/>
                  <a:pt x="6871" y="9029"/>
                </a:cubicBezTo>
              </a:path>
              <a:path w="7764" h="4466">
                <a:moveTo>
                  <a:pt x="6896" y="9079"/>
                </a:moveTo>
                <a:cubicBezTo>
                  <a:pt x="6965" y="8988"/>
                  <a:pt x="6966" y="8963"/>
                  <a:pt x="6995" y="8855"/>
                </a:cubicBezTo>
                <a:cubicBezTo>
                  <a:pt x="7016" y="8779"/>
                  <a:pt x="7008" y="8742"/>
                  <a:pt x="6995" y="8657"/>
                </a:cubicBezTo>
                <a:cubicBezTo>
                  <a:pt x="6982" y="8572"/>
                  <a:pt x="6982" y="8518"/>
                  <a:pt x="6945" y="8434"/>
                </a:cubicBezTo>
                <a:cubicBezTo>
                  <a:pt x="6899" y="8330"/>
                  <a:pt x="6847" y="8232"/>
                  <a:pt x="6796" y="8136"/>
                </a:cubicBezTo>
                <a:cubicBezTo>
                  <a:pt x="6736" y="8024"/>
                  <a:pt x="6678" y="7909"/>
                  <a:pt x="6598" y="7813"/>
                </a:cubicBezTo>
                <a:cubicBezTo>
                  <a:pt x="6469" y="7659"/>
                  <a:pt x="6307" y="7517"/>
                  <a:pt x="6152" y="7392"/>
                </a:cubicBezTo>
                <a:cubicBezTo>
                  <a:pt x="6063" y="7321"/>
                  <a:pt x="5978" y="7273"/>
                  <a:pt x="5879" y="7218"/>
                </a:cubicBezTo>
                <a:cubicBezTo>
                  <a:pt x="5747" y="7144"/>
                  <a:pt x="5629" y="7084"/>
                  <a:pt x="5482" y="7045"/>
                </a:cubicBezTo>
                <a:cubicBezTo>
                  <a:pt x="5314" y="7000"/>
                  <a:pt x="5134" y="6956"/>
                  <a:pt x="4961" y="6945"/>
                </a:cubicBezTo>
                <a:cubicBezTo>
                  <a:pt x="4793" y="6934"/>
                  <a:pt x="4629" y="6948"/>
                  <a:pt x="4465" y="6970"/>
                </a:cubicBezTo>
                <a:cubicBezTo>
                  <a:pt x="4305" y="6992"/>
                  <a:pt x="4151" y="7019"/>
                  <a:pt x="3994" y="7069"/>
                </a:cubicBezTo>
                <a:cubicBezTo>
                  <a:pt x="3824" y="7124"/>
                  <a:pt x="3589" y="7194"/>
                  <a:pt x="3448" y="7293"/>
                </a:cubicBezTo>
                <a:cubicBezTo>
                  <a:pt x="3373" y="7346"/>
                  <a:pt x="3293" y="7430"/>
                  <a:pt x="3225" y="7491"/>
                </a:cubicBezTo>
                <a:cubicBezTo>
                  <a:pt x="3141" y="7566"/>
                  <a:pt x="3080" y="7664"/>
                  <a:pt x="3001" y="7739"/>
                </a:cubicBezTo>
                <a:cubicBezTo>
                  <a:pt x="2907" y="7829"/>
                  <a:pt x="2879" y="7882"/>
                  <a:pt x="2803" y="7987"/>
                </a:cubicBezTo>
                <a:cubicBezTo>
                  <a:pt x="2740" y="8074"/>
                  <a:pt x="2668" y="8160"/>
                  <a:pt x="2604" y="8260"/>
                </a:cubicBezTo>
                <a:cubicBezTo>
                  <a:pt x="2536" y="8365"/>
                  <a:pt x="2529" y="8441"/>
                  <a:pt x="2480" y="8533"/>
                </a:cubicBezTo>
                <a:cubicBezTo>
                  <a:pt x="2448" y="8593"/>
                  <a:pt x="2410" y="8613"/>
                  <a:pt x="2406" y="8682"/>
                </a:cubicBezTo>
                <a:cubicBezTo>
                  <a:pt x="2399" y="8810"/>
                  <a:pt x="2417" y="8692"/>
                  <a:pt x="2456" y="8731"/>
                </a:cubicBezTo>
                <a:cubicBezTo>
                  <a:pt x="2431" y="8682"/>
                  <a:pt x="2422" y="8666"/>
                  <a:pt x="2381" y="8706"/>
                </a:cubicBezTo>
                <a:cubicBezTo>
                  <a:pt x="2408" y="8739"/>
                  <a:pt x="2347" y="8788"/>
                  <a:pt x="2456" y="8806"/>
                </a:cubicBezTo>
                <a:cubicBezTo>
                  <a:pt x="2550" y="8821"/>
                  <a:pt x="2577" y="8744"/>
                  <a:pt x="2604" y="8731"/>
                </a:cubicBezTo>
                <a:cubicBezTo>
                  <a:pt x="2542" y="8709"/>
                  <a:pt x="2500" y="8696"/>
                  <a:pt x="2431" y="8682"/>
                </a:cubicBezTo>
              </a:path>
              <a:path w="7764" h="4466">
                <a:moveTo>
                  <a:pt x="1612" y="8508"/>
                </a:moveTo>
                <a:cubicBezTo>
                  <a:pt x="1773" y="8508"/>
                  <a:pt x="1931" y="8509"/>
                  <a:pt x="2084" y="8483"/>
                </a:cubicBezTo>
                <a:cubicBezTo>
                  <a:pt x="2100" y="8483"/>
                  <a:pt x="2117" y="8483"/>
                  <a:pt x="2133" y="8483"/>
                </a:cubicBezTo>
              </a:path>
              <a:path w="7764" h="4466">
                <a:moveTo>
                  <a:pt x="1761" y="8582"/>
                </a:moveTo>
                <a:cubicBezTo>
                  <a:pt x="1761" y="8666"/>
                  <a:pt x="1749" y="8738"/>
                  <a:pt x="1786" y="8806"/>
                </a:cubicBezTo>
                <a:cubicBezTo>
                  <a:pt x="1806" y="8846"/>
                  <a:pt x="1805" y="8862"/>
                  <a:pt x="1836" y="8855"/>
                </a:cubicBezTo>
              </a:path>
              <a:path w="7764" h="4466">
                <a:moveTo>
                  <a:pt x="2009" y="8558"/>
                </a:moveTo>
                <a:cubicBezTo>
                  <a:pt x="1991" y="8663"/>
                  <a:pt x="1984" y="8750"/>
                  <a:pt x="1984" y="8855"/>
                </a:cubicBezTo>
              </a:path>
              <a:path w="7764" h="4466">
                <a:moveTo>
                  <a:pt x="2431" y="8756"/>
                </a:moveTo>
                <a:cubicBezTo>
                  <a:pt x="2431" y="8949"/>
                  <a:pt x="2444" y="9139"/>
                  <a:pt x="2456" y="9327"/>
                </a:cubicBezTo>
                <a:cubicBezTo>
                  <a:pt x="2461" y="9409"/>
                  <a:pt x="2476" y="9500"/>
                  <a:pt x="2480" y="9575"/>
                </a:cubicBezTo>
                <a:cubicBezTo>
                  <a:pt x="2486" y="9697"/>
                  <a:pt x="2486" y="9781"/>
                  <a:pt x="2530" y="9897"/>
                </a:cubicBezTo>
                <a:cubicBezTo>
                  <a:pt x="2565" y="9988"/>
                  <a:pt x="2609" y="10110"/>
                  <a:pt x="2654" y="10195"/>
                </a:cubicBezTo>
                <a:cubicBezTo>
                  <a:pt x="2755" y="10384"/>
                  <a:pt x="2900" y="10521"/>
                  <a:pt x="3051" y="10666"/>
                </a:cubicBezTo>
                <a:cubicBezTo>
                  <a:pt x="3155" y="10766"/>
                  <a:pt x="3252" y="10858"/>
                  <a:pt x="3373" y="10939"/>
                </a:cubicBezTo>
                <a:cubicBezTo>
                  <a:pt x="3502" y="11025"/>
                  <a:pt x="3621" y="11103"/>
                  <a:pt x="3770" y="11162"/>
                </a:cubicBezTo>
                <a:cubicBezTo>
                  <a:pt x="3904" y="11215"/>
                  <a:pt x="4042" y="11269"/>
                  <a:pt x="4192" y="11286"/>
                </a:cubicBezTo>
                <a:cubicBezTo>
                  <a:pt x="4407" y="11310"/>
                  <a:pt x="4649" y="11298"/>
                  <a:pt x="4862" y="11261"/>
                </a:cubicBezTo>
                <a:cubicBezTo>
                  <a:pt x="5016" y="11234"/>
                  <a:pt x="5183" y="11207"/>
                  <a:pt x="5333" y="11162"/>
                </a:cubicBezTo>
                <a:cubicBezTo>
                  <a:pt x="5506" y="11110"/>
                  <a:pt x="5642" y="11021"/>
                  <a:pt x="5779" y="10914"/>
                </a:cubicBezTo>
                <a:cubicBezTo>
                  <a:pt x="5911" y="10811"/>
                  <a:pt x="6012" y="10712"/>
                  <a:pt x="6127" y="10592"/>
                </a:cubicBezTo>
                <a:cubicBezTo>
                  <a:pt x="6290" y="10423"/>
                  <a:pt x="6393" y="10251"/>
                  <a:pt x="6499" y="10046"/>
                </a:cubicBezTo>
                <a:cubicBezTo>
                  <a:pt x="6558" y="9932"/>
                  <a:pt x="6629" y="9817"/>
                  <a:pt x="6672" y="9699"/>
                </a:cubicBezTo>
                <a:cubicBezTo>
                  <a:pt x="6711" y="9592"/>
                  <a:pt x="6761" y="9504"/>
                  <a:pt x="6796" y="9401"/>
                </a:cubicBezTo>
                <a:cubicBezTo>
                  <a:pt x="6816" y="9342"/>
                  <a:pt x="6837" y="9240"/>
                  <a:pt x="6846" y="9178"/>
                </a:cubicBezTo>
                <a:cubicBezTo>
                  <a:pt x="6855" y="9115"/>
                  <a:pt x="6839" y="9166"/>
                  <a:pt x="6846" y="9103"/>
                </a:cubicBezTo>
                <a:cubicBezTo>
                  <a:pt x="6882" y="9089"/>
                  <a:pt x="6933" y="9069"/>
                  <a:pt x="6970" y="9054"/>
                </a:cubicBezTo>
                <a:cubicBezTo>
                  <a:pt x="6962" y="9053"/>
                  <a:pt x="6828" y="8949"/>
                  <a:pt x="6796" y="9054"/>
                </a:cubicBezTo>
                <a:cubicBezTo>
                  <a:pt x="6761" y="9167"/>
                  <a:pt x="6871" y="9142"/>
                  <a:pt x="6896" y="9178"/>
                </a:cubicBezTo>
              </a:path>
              <a:path w="7764" h="4466">
                <a:moveTo>
                  <a:pt x="7243" y="8905"/>
                </a:moveTo>
                <a:cubicBezTo>
                  <a:pt x="7308" y="8796"/>
                  <a:pt x="7337" y="8806"/>
                  <a:pt x="7466" y="8806"/>
                </a:cubicBezTo>
                <a:cubicBezTo>
                  <a:pt x="7539" y="8806"/>
                  <a:pt x="7596" y="8843"/>
                  <a:pt x="7665" y="8855"/>
                </a:cubicBezTo>
                <a:cubicBezTo>
                  <a:pt x="7717" y="8864"/>
                  <a:pt x="7761" y="8873"/>
                  <a:pt x="7813" y="8880"/>
                </a:cubicBezTo>
                <a:cubicBezTo>
                  <a:pt x="7773" y="8962"/>
                  <a:pt x="7739" y="9071"/>
                  <a:pt x="7665" y="9128"/>
                </a:cubicBezTo>
                <a:cubicBezTo>
                  <a:pt x="7613" y="9168"/>
                  <a:pt x="7550" y="9198"/>
                  <a:pt x="7491" y="9227"/>
                </a:cubicBezTo>
                <a:cubicBezTo>
                  <a:pt x="7429" y="9258"/>
                  <a:pt x="7432" y="9268"/>
                  <a:pt x="7367" y="9277"/>
                </a:cubicBezTo>
                <a:cubicBezTo>
                  <a:pt x="7333" y="9187"/>
                  <a:pt x="7342" y="9129"/>
                  <a:pt x="7466" y="9153"/>
                </a:cubicBezTo>
                <a:cubicBezTo>
                  <a:pt x="7526" y="9164"/>
                  <a:pt x="7593" y="9185"/>
                  <a:pt x="7640" y="9227"/>
                </a:cubicBezTo>
                <a:cubicBezTo>
                  <a:pt x="7672" y="9255"/>
                  <a:pt x="7706" y="9275"/>
                  <a:pt x="7739" y="9302"/>
                </a:cubicBezTo>
              </a:path>
              <a:path w="7764" h="4466">
                <a:moveTo>
                  <a:pt x="7962" y="8905"/>
                </a:moveTo>
                <a:cubicBezTo>
                  <a:pt x="8040" y="8914"/>
                  <a:pt x="8112" y="8942"/>
                  <a:pt x="8186" y="8954"/>
                </a:cubicBezTo>
                <a:cubicBezTo>
                  <a:pt x="8235" y="8954"/>
                  <a:pt x="8252" y="8954"/>
                  <a:pt x="8285" y="8954"/>
                </a:cubicBezTo>
              </a:path>
              <a:path w="7764" h="4466">
                <a:moveTo>
                  <a:pt x="8161" y="9029"/>
                </a:moveTo>
                <a:cubicBezTo>
                  <a:pt x="8116" y="9136"/>
                  <a:pt x="8086" y="9192"/>
                  <a:pt x="8086" y="9302"/>
                </a:cubicBezTo>
              </a:path>
              <a:path w="7764" h="4466">
                <a:moveTo>
                  <a:pt x="8334" y="9029"/>
                </a:moveTo>
                <a:cubicBezTo>
                  <a:pt x="8334" y="9182"/>
                  <a:pt x="8327" y="9288"/>
                  <a:pt x="8310" y="9426"/>
                </a:cubicBezTo>
              </a:path>
              <a:path w="7764" h="4466">
                <a:moveTo>
                  <a:pt x="6846" y="9128"/>
                </a:moveTo>
                <a:cubicBezTo>
                  <a:pt x="6854" y="9136"/>
                  <a:pt x="6863" y="9145"/>
                  <a:pt x="6871" y="9153"/>
                </a:cubicBezTo>
              </a:path>
              <a:path w="7764" h="4466">
                <a:moveTo>
                  <a:pt x="2505" y="8756"/>
                </a:moveTo>
                <a:cubicBezTo>
                  <a:pt x="2497" y="8773"/>
                  <a:pt x="2488" y="8789"/>
                  <a:pt x="2480" y="8806"/>
                </a:cubicBezTo>
              </a:path>
              <a:path w="7764" h="4466">
                <a:moveTo>
                  <a:pt x="7045" y="9079"/>
                </a:moveTo>
                <a:cubicBezTo>
                  <a:pt x="7045" y="9206"/>
                  <a:pt x="7069" y="9017"/>
                  <a:pt x="7069" y="8979"/>
                </a:cubicBezTo>
              </a:path>
              <a:path w="7764" h="4466">
                <a:moveTo>
                  <a:pt x="2356" y="8806"/>
                </a:moveTo>
                <a:lnTo>
                  <a:pt x="2356" y="8806"/>
                </a:lnTo>
              </a:path>
              <a:path w="7764" h="4466">
                <a:moveTo>
                  <a:pt x="819" y="8210"/>
                </a:moveTo>
                <a:cubicBezTo>
                  <a:pt x="858" y="8234"/>
                  <a:pt x="940" y="8255"/>
                  <a:pt x="992" y="8235"/>
                </a:cubicBezTo>
                <a:cubicBezTo>
                  <a:pt x="1033" y="8219"/>
                  <a:pt x="1075" y="8206"/>
                  <a:pt x="1116" y="8186"/>
                </a:cubicBezTo>
              </a:path>
              <a:path w="7764" h="4466">
                <a:moveTo>
                  <a:pt x="819" y="8285"/>
                </a:moveTo>
                <a:cubicBezTo>
                  <a:pt x="742" y="8368"/>
                  <a:pt x="685" y="8406"/>
                  <a:pt x="670" y="8508"/>
                </a:cubicBezTo>
                <a:cubicBezTo>
                  <a:pt x="732" y="8539"/>
                  <a:pt x="794" y="8533"/>
                  <a:pt x="868" y="8533"/>
                </a:cubicBezTo>
                <a:cubicBezTo>
                  <a:pt x="923" y="8533"/>
                  <a:pt x="1046" y="8573"/>
                  <a:pt x="1042" y="8657"/>
                </a:cubicBezTo>
                <a:cubicBezTo>
                  <a:pt x="1038" y="8737"/>
                  <a:pt x="983" y="8834"/>
                  <a:pt x="918" y="8880"/>
                </a:cubicBezTo>
                <a:cubicBezTo>
                  <a:pt x="806" y="8960"/>
                  <a:pt x="778" y="8868"/>
                  <a:pt x="744" y="8781"/>
                </a:cubicBezTo>
              </a:path>
              <a:path w="7764" h="4466">
                <a:moveTo>
                  <a:pt x="1017" y="8384"/>
                </a:moveTo>
                <a:cubicBezTo>
                  <a:pt x="1173" y="8377"/>
                  <a:pt x="1189" y="8382"/>
                  <a:pt x="1315" y="8310"/>
                </a:cubicBezTo>
              </a:path>
              <a:path w="7764" h="4466">
                <a:moveTo>
                  <a:pt x="1191" y="8533"/>
                </a:moveTo>
                <a:cubicBezTo>
                  <a:pt x="1191" y="8558"/>
                  <a:pt x="1134" y="9043"/>
                  <a:pt x="1240" y="8855"/>
                </a:cubicBezTo>
              </a:path>
              <a:path w="7764" h="4466">
                <a:moveTo>
                  <a:pt x="1290" y="8235"/>
                </a:moveTo>
                <a:cubicBezTo>
                  <a:pt x="1311" y="8359"/>
                  <a:pt x="1345" y="8488"/>
                  <a:pt x="1364" y="8607"/>
                </a:cubicBezTo>
                <a:cubicBezTo>
                  <a:pt x="1374" y="8673"/>
                  <a:pt x="1381" y="8723"/>
                  <a:pt x="1414" y="8781"/>
                </a:cubicBezTo>
              </a:path>
              <a:path w="7764" h="4466">
                <a:moveTo>
                  <a:pt x="571" y="9103"/>
                </a:moveTo>
                <a:cubicBezTo>
                  <a:pt x="680" y="9091"/>
                  <a:pt x="745" y="9036"/>
                  <a:pt x="843" y="9004"/>
                </a:cubicBezTo>
                <a:cubicBezTo>
                  <a:pt x="958" y="8966"/>
                  <a:pt x="1095" y="8934"/>
                  <a:pt x="1215" y="8930"/>
                </a:cubicBezTo>
                <a:cubicBezTo>
                  <a:pt x="1319" y="8926"/>
                  <a:pt x="1403" y="8939"/>
                  <a:pt x="1389" y="8855"/>
                </a:cubicBezTo>
              </a:path>
              <a:path w="7764" h="4466">
                <a:moveTo>
                  <a:pt x="1042" y="9252"/>
                </a:moveTo>
                <a:lnTo>
                  <a:pt x="1042" y="9252"/>
                </a:lnTo>
              </a:path>
              <a:path w="7764" h="4466">
                <a:moveTo>
                  <a:pt x="1042" y="9252"/>
                </a:moveTo>
                <a:cubicBezTo>
                  <a:pt x="1034" y="9269"/>
                  <a:pt x="1025" y="9285"/>
                  <a:pt x="1017" y="9302"/>
                </a:cubicBezTo>
              </a:path>
              <a:path w="7764" h="4466">
                <a:moveTo>
                  <a:pt x="1017" y="9302"/>
                </a:moveTo>
                <a:lnTo>
                  <a:pt x="1017" y="9302"/>
                </a:lnTo>
                <a:lnTo>
                  <a:pt x="1017" y="9302"/>
                </a:lnTo>
              </a:path>
              <a:path w="7764" h="4466">
                <a:moveTo>
                  <a:pt x="1017" y="9302"/>
                </a:moveTo>
                <a:cubicBezTo>
                  <a:pt x="1009" y="9302"/>
                  <a:pt x="1000" y="9302"/>
                  <a:pt x="992" y="9302"/>
                </a:cubicBezTo>
              </a:path>
              <a:path w="7764" h="4466">
                <a:moveTo>
                  <a:pt x="992" y="9302"/>
                </a:moveTo>
                <a:lnTo>
                  <a:pt x="992" y="9302"/>
                </a:lnTo>
                <a:lnTo>
                  <a:pt x="992" y="9302"/>
                </a:lnTo>
              </a:path>
              <a:path w="7764" h="4466">
                <a:moveTo>
                  <a:pt x="992" y="9302"/>
                </a:moveTo>
                <a:lnTo>
                  <a:pt x="992" y="9302"/>
                </a:lnTo>
                <a:lnTo>
                  <a:pt x="992" y="9302"/>
                </a:lnTo>
              </a:path>
              <a:path w="7764" h="4466">
                <a:moveTo>
                  <a:pt x="992" y="9302"/>
                </a:moveTo>
                <a:cubicBezTo>
                  <a:pt x="992" y="9318"/>
                  <a:pt x="992" y="9335"/>
                  <a:pt x="992" y="9351"/>
                </a:cubicBezTo>
              </a:path>
              <a:path w="7764" h="4466">
                <a:moveTo>
                  <a:pt x="992" y="9351"/>
                </a:moveTo>
                <a:cubicBezTo>
                  <a:pt x="1009" y="9351"/>
                  <a:pt x="1025" y="9351"/>
                  <a:pt x="1042" y="9351"/>
                </a:cubicBezTo>
              </a:path>
              <a:path w="7764" h="4466">
                <a:moveTo>
                  <a:pt x="1042" y="9351"/>
                </a:moveTo>
                <a:cubicBezTo>
                  <a:pt x="1025" y="9359"/>
                  <a:pt x="1009" y="9368"/>
                  <a:pt x="992" y="9376"/>
                </a:cubicBezTo>
              </a:path>
              <a:path w="7764" h="4466">
                <a:moveTo>
                  <a:pt x="992" y="9376"/>
                </a:moveTo>
                <a:cubicBezTo>
                  <a:pt x="1000" y="9368"/>
                  <a:pt x="1009" y="9359"/>
                  <a:pt x="1017" y="9351"/>
                </a:cubicBezTo>
              </a:path>
              <a:path w="7764" h="4466">
                <a:moveTo>
                  <a:pt x="1017" y="9351"/>
                </a:moveTo>
                <a:cubicBezTo>
                  <a:pt x="1017" y="9359"/>
                  <a:pt x="1017" y="9368"/>
                  <a:pt x="1017" y="9376"/>
                </a:cubicBezTo>
              </a:path>
              <a:path w="7764" h="4466">
                <a:moveTo>
                  <a:pt x="1017" y="9376"/>
                </a:moveTo>
                <a:lnTo>
                  <a:pt x="1017" y="937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7"/>
          <p:cNvSpPr/>
          <p:nvPr/>
        </p:nvSpPr>
        <p:spPr>
          <a:xfrm>
            <a:off x="3562200" y="2509920"/>
            <a:ext cx="1778040" cy="1625400"/>
          </a:xfrm>
          <a:custGeom>
            <a:avLst/>
            <a:gdLst/>
            <a:ahLst/>
            <a:rect l="l" t="t" r="r" b="b"/>
            <a:pathLst>
              <a:path w="4937" h="4516">
                <a:moveTo>
                  <a:pt x="13122" y="7317"/>
                </a:moveTo>
                <a:cubicBezTo>
                  <a:pt x="12944" y="7234"/>
                  <a:pt x="12793" y="7161"/>
                  <a:pt x="12601" y="7119"/>
                </a:cubicBezTo>
                <a:cubicBezTo>
                  <a:pt x="12460" y="7088"/>
                  <a:pt x="12299" y="7096"/>
                  <a:pt x="12154" y="7094"/>
                </a:cubicBezTo>
                <a:cubicBezTo>
                  <a:pt x="11989" y="7091"/>
                  <a:pt x="11794" y="7102"/>
                  <a:pt x="11633" y="7144"/>
                </a:cubicBezTo>
                <a:cubicBezTo>
                  <a:pt x="11480" y="7184"/>
                  <a:pt x="11278" y="7246"/>
                  <a:pt x="11137" y="7317"/>
                </a:cubicBezTo>
                <a:cubicBezTo>
                  <a:pt x="10936" y="7419"/>
                  <a:pt x="10761" y="7546"/>
                  <a:pt x="10592" y="7689"/>
                </a:cubicBezTo>
                <a:cubicBezTo>
                  <a:pt x="10470" y="7792"/>
                  <a:pt x="10355" y="7927"/>
                  <a:pt x="10269" y="8062"/>
                </a:cubicBezTo>
                <a:cubicBezTo>
                  <a:pt x="10200" y="8171"/>
                  <a:pt x="10102" y="8359"/>
                  <a:pt x="10071" y="8483"/>
                </a:cubicBezTo>
                <a:cubicBezTo>
                  <a:pt x="10024" y="8674"/>
                  <a:pt x="10023" y="8885"/>
                  <a:pt x="10021" y="9079"/>
                </a:cubicBezTo>
                <a:cubicBezTo>
                  <a:pt x="10019" y="9239"/>
                  <a:pt x="10012" y="9394"/>
                  <a:pt x="10046" y="9550"/>
                </a:cubicBezTo>
                <a:cubicBezTo>
                  <a:pt x="10081" y="9714"/>
                  <a:pt x="10147" y="9900"/>
                  <a:pt x="10220" y="10046"/>
                </a:cubicBezTo>
                <a:cubicBezTo>
                  <a:pt x="10322" y="10251"/>
                  <a:pt x="10463" y="10446"/>
                  <a:pt x="10616" y="10616"/>
                </a:cubicBezTo>
                <a:cubicBezTo>
                  <a:pt x="10781" y="10800"/>
                  <a:pt x="10944" y="10963"/>
                  <a:pt x="11162" y="11088"/>
                </a:cubicBezTo>
                <a:cubicBezTo>
                  <a:pt x="11344" y="11192"/>
                  <a:pt x="11506" y="11273"/>
                  <a:pt x="11708" y="11336"/>
                </a:cubicBezTo>
                <a:cubicBezTo>
                  <a:pt x="11971" y="11417"/>
                  <a:pt x="12272" y="11499"/>
                  <a:pt x="12551" y="11485"/>
                </a:cubicBezTo>
                <a:cubicBezTo>
                  <a:pt x="12761" y="11474"/>
                  <a:pt x="13045" y="11462"/>
                  <a:pt x="13246" y="11385"/>
                </a:cubicBezTo>
                <a:cubicBezTo>
                  <a:pt x="13385" y="11332"/>
                  <a:pt x="13554" y="11212"/>
                  <a:pt x="13667" y="11112"/>
                </a:cubicBezTo>
                <a:cubicBezTo>
                  <a:pt x="13788" y="11005"/>
                  <a:pt x="13920" y="10870"/>
                  <a:pt x="14015" y="10740"/>
                </a:cubicBezTo>
                <a:cubicBezTo>
                  <a:pt x="14154" y="10550"/>
                  <a:pt x="14241" y="10389"/>
                  <a:pt x="14337" y="10170"/>
                </a:cubicBezTo>
                <a:cubicBezTo>
                  <a:pt x="14404" y="10017"/>
                  <a:pt x="14467" y="9868"/>
                  <a:pt x="14511" y="9699"/>
                </a:cubicBezTo>
                <a:cubicBezTo>
                  <a:pt x="14553" y="9540"/>
                  <a:pt x="14571" y="9317"/>
                  <a:pt x="14560" y="9153"/>
                </a:cubicBezTo>
                <a:cubicBezTo>
                  <a:pt x="14547" y="8955"/>
                  <a:pt x="14488" y="8662"/>
                  <a:pt x="14412" y="8483"/>
                </a:cubicBezTo>
                <a:cubicBezTo>
                  <a:pt x="14291" y="8200"/>
                  <a:pt x="14130" y="7888"/>
                  <a:pt x="13915" y="7665"/>
                </a:cubicBezTo>
                <a:cubicBezTo>
                  <a:pt x="13786" y="7531"/>
                  <a:pt x="13679" y="7391"/>
                  <a:pt x="13519" y="7293"/>
                </a:cubicBezTo>
                <a:cubicBezTo>
                  <a:pt x="13380" y="7207"/>
                  <a:pt x="13224" y="7128"/>
                  <a:pt x="13072" y="7069"/>
                </a:cubicBezTo>
                <a:cubicBezTo>
                  <a:pt x="12887" y="6997"/>
                  <a:pt x="12728" y="6961"/>
                  <a:pt x="12526" y="6970"/>
                </a:cubicBezTo>
                <a:cubicBezTo>
                  <a:pt x="12401" y="6976"/>
                  <a:pt x="12301" y="7014"/>
                  <a:pt x="12179" y="7045"/>
                </a:cubicBezTo>
              </a:path>
              <a:path w="4937" h="4516">
                <a:moveTo>
                  <a:pt x="14436" y="9376"/>
                </a:moveTo>
                <a:cubicBezTo>
                  <a:pt x="14524" y="9392"/>
                  <a:pt x="14579" y="9409"/>
                  <a:pt x="14585" y="9302"/>
                </a:cubicBezTo>
                <a:cubicBezTo>
                  <a:pt x="14589" y="9231"/>
                  <a:pt x="14443" y="9182"/>
                  <a:pt x="14536" y="9252"/>
                </a:cubicBezTo>
              </a:path>
              <a:path w="4937" h="4516">
                <a:moveTo>
                  <a:pt x="14610" y="9227"/>
                </a:moveTo>
                <a:cubicBezTo>
                  <a:pt x="14635" y="9203"/>
                  <a:pt x="14644" y="9195"/>
                  <a:pt x="14660" y="9178"/>
                </a:cubicBezTo>
                <a:cubicBezTo>
                  <a:pt x="14640" y="9158"/>
                  <a:pt x="14486" y="9075"/>
                  <a:pt x="14486" y="9178"/>
                </a:cubicBezTo>
                <a:cubicBezTo>
                  <a:pt x="14486" y="9271"/>
                  <a:pt x="14580" y="9315"/>
                  <a:pt x="14635" y="9351"/>
                </a:cubicBezTo>
                <a:cubicBezTo>
                  <a:pt x="14685" y="9384"/>
                  <a:pt x="14761" y="9320"/>
                  <a:pt x="14784" y="9252"/>
                </a:cubicBezTo>
                <a:cubicBezTo>
                  <a:pt x="14806" y="9187"/>
                  <a:pt x="14712" y="9135"/>
                  <a:pt x="14660" y="9128"/>
                </a:cubicBezTo>
                <a:cubicBezTo>
                  <a:pt x="14575" y="9128"/>
                  <a:pt x="14555" y="9121"/>
                  <a:pt x="14511" y="9153"/>
                </a:cubicBezTo>
                <a:cubicBezTo>
                  <a:pt x="14531" y="9226"/>
                  <a:pt x="14589" y="9270"/>
                  <a:pt x="14684" y="9252"/>
                </a:cubicBezTo>
                <a:cubicBezTo>
                  <a:pt x="14778" y="9234"/>
                  <a:pt x="14782" y="9228"/>
                  <a:pt x="14808" y="9153"/>
                </a:cubicBezTo>
                <a:cubicBezTo>
                  <a:pt x="14832" y="9084"/>
                  <a:pt x="14848" y="9006"/>
                  <a:pt x="14833" y="8930"/>
                </a:cubicBezTo>
                <a:cubicBezTo>
                  <a:pt x="14810" y="8811"/>
                  <a:pt x="14746" y="8708"/>
                  <a:pt x="14684" y="8607"/>
                </a:cubicBezTo>
              </a:path>
              <a:path w="4937" h="4516">
                <a:moveTo>
                  <a:pt x="9897" y="10145"/>
                </a:moveTo>
                <a:cubicBezTo>
                  <a:pt x="10140" y="10502"/>
                  <a:pt x="10303" y="10703"/>
                  <a:pt x="10641" y="10964"/>
                </a:cubicBezTo>
                <a:cubicBezTo>
                  <a:pt x="10880" y="11149"/>
                  <a:pt x="11224" y="11204"/>
                  <a:pt x="11509" y="11286"/>
                </a:cubicBezTo>
                <a:cubicBezTo>
                  <a:pt x="11567" y="11303"/>
                  <a:pt x="11625" y="11319"/>
                  <a:pt x="11683" y="11336"/>
                </a:cubicBezTo>
              </a:path>
              <a:path w="4937" h="4516">
                <a:moveTo>
                  <a:pt x="12353" y="11460"/>
                </a:moveTo>
                <a:cubicBezTo>
                  <a:pt x="12715" y="11460"/>
                  <a:pt x="12994" y="11455"/>
                  <a:pt x="13345" y="11361"/>
                </a:cubicBezTo>
                <a:cubicBezTo>
                  <a:pt x="13531" y="11311"/>
                  <a:pt x="13725" y="11254"/>
                  <a:pt x="13891" y="11162"/>
                </a:cubicBezTo>
                <a:cubicBezTo>
                  <a:pt x="14071" y="11062"/>
                  <a:pt x="14145" y="10913"/>
                  <a:pt x="14263" y="10765"/>
                </a:cubicBezTo>
                <a:cubicBezTo>
                  <a:pt x="14424" y="10563"/>
                  <a:pt x="14573" y="10346"/>
                  <a:pt x="14660" y="10096"/>
                </a:cubicBezTo>
                <a:cubicBezTo>
                  <a:pt x="14701" y="9978"/>
                  <a:pt x="14727" y="9823"/>
                  <a:pt x="14709" y="9699"/>
                </a:cubicBezTo>
                <a:cubicBezTo>
                  <a:pt x="14701" y="9645"/>
                  <a:pt x="14650" y="9438"/>
                  <a:pt x="14610" y="9401"/>
                </a:cubicBezTo>
                <a:cubicBezTo>
                  <a:pt x="14572" y="9366"/>
                  <a:pt x="14460" y="9290"/>
                  <a:pt x="14412" y="9277"/>
                </a:cubicBezTo>
                <a:cubicBezTo>
                  <a:pt x="14404" y="9285"/>
                  <a:pt x="14395" y="9294"/>
                  <a:pt x="14387" y="9302"/>
                </a:cubicBezTo>
                <a:cubicBezTo>
                  <a:pt x="14423" y="9302"/>
                  <a:pt x="14555" y="9270"/>
                  <a:pt x="14486" y="9302"/>
                </a:cubicBezTo>
                <a:cubicBezTo>
                  <a:pt x="14426" y="9322"/>
                  <a:pt x="14412" y="9321"/>
                  <a:pt x="14387" y="93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8"/>
          <p:cNvSpPr/>
          <p:nvPr/>
        </p:nvSpPr>
        <p:spPr>
          <a:xfrm>
            <a:off x="2295360" y="1758960"/>
            <a:ext cx="527040" cy="322200"/>
          </a:xfrm>
          <a:custGeom>
            <a:avLst/>
            <a:gdLst/>
            <a:ahLst/>
            <a:rect l="l" t="t" r="r" b="b"/>
            <a:pathLst>
              <a:path w="1464" h="893">
                <a:moveTo>
                  <a:pt x="6499" y="5308"/>
                </a:moveTo>
                <a:cubicBezTo>
                  <a:pt x="6570" y="5323"/>
                  <a:pt x="6605" y="5333"/>
                  <a:pt x="6672" y="5333"/>
                </a:cubicBezTo>
              </a:path>
              <a:path w="1464" h="893">
                <a:moveTo>
                  <a:pt x="6375" y="5556"/>
                </a:moveTo>
                <a:cubicBezTo>
                  <a:pt x="6452" y="5577"/>
                  <a:pt x="6521" y="5596"/>
                  <a:pt x="6598" y="5606"/>
                </a:cubicBezTo>
              </a:path>
              <a:path w="1464" h="893">
                <a:moveTo>
                  <a:pt x="7144" y="5060"/>
                </a:moveTo>
                <a:cubicBezTo>
                  <a:pt x="7133" y="5144"/>
                  <a:pt x="7080" y="5226"/>
                  <a:pt x="7069" y="5308"/>
                </a:cubicBezTo>
                <a:cubicBezTo>
                  <a:pt x="7059" y="5381"/>
                  <a:pt x="7045" y="5568"/>
                  <a:pt x="7094" y="5631"/>
                </a:cubicBezTo>
                <a:cubicBezTo>
                  <a:pt x="7113" y="5656"/>
                  <a:pt x="7262" y="5771"/>
                  <a:pt x="7293" y="5779"/>
                </a:cubicBezTo>
                <a:cubicBezTo>
                  <a:pt x="7427" y="5812"/>
                  <a:pt x="7545" y="5739"/>
                  <a:pt x="7640" y="5655"/>
                </a:cubicBezTo>
                <a:cubicBezTo>
                  <a:pt x="7745" y="5562"/>
                  <a:pt x="7781" y="5456"/>
                  <a:pt x="7813" y="5333"/>
                </a:cubicBezTo>
                <a:cubicBezTo>
                  <a:pt x="7839" y="5233"/>
                  <a:pt x="7844" y="5049"/>
                  <a:pt x="7764" y="4961"/>
                </a:cubicBezTo>
                <a:cubicBezTo>
                  <a:pt x="7700" y="4890"/>
                  <a:pt x="7507" y="4851"/>
                  <a:pt x="7417" y="4887"/>
                </a:cubicBezTo>
                <a:cubicBezTo>
                  <a:pt x="7321" y="4925"/>
                  <a:pt x="7287" y="4980"/>
                  <a:pt x="7243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9"/>
          <p:cNvSpPr/>
          <p:nvPr/>
        </p:nvSpPr>
        <p:spPr>
          <a:xfrm>
            <a:off x="6089760" y="2268360"/>
            <a:ext cx="1546200" cy="1392480"/>
          </a:xfrm>
          <a:custGeom>
            <a:avLst/>
            <a:gdLst/>
            <a:ahLst/>
            <a:rect l="l" t="t" r="r" b="b"/>
            <a:pathLst>
              <a:path w="4292" h="3871">
                <a:moveTo>
                  <a:pt x="19472" y="6474"/>
                </a:moveTo>
                <a:cubicBezTo>
                  <a:pt x="19273" y="6455"/>
                  <a:pt x="19096" y="6433"/>
                  <a:pt x="18901" y="6474"/>
                </a:cubicBezTo>
                <a:cubicBezTo>
                  <a:pt x="18738" y="6508"/>
                  <a:pt x="18524" y="6588"/>
                  <a:pt x="18380" y="6672"/>
                </a:cubicBezTo>
                <a:cubicBezTo>
                  <a:pt x="18185" y="6786"/>
                  <a:pt x="17980" y="6942"/>
                  <a:pt x="17810" y="7094"/>
                </a:cubicBezTo>
                <a:cubicBezTo>
                  <a:pt x="17684" y="7207"/>
                  <a:pt x="17516" y="7364"/>
                  <a:pt x="17438" y="7516"/>
                </a:cubicBezTo>
                <a:cubicBezTo>
                  <a:pt x="17320" y="7747"/>
                  <a:pt x="17231" y="8002"/>
                  <a:pt x="17214" y="8260"/>
                </a:cubicBezTo>
                <a:cubicBezTo>
                  <a:pt x="17197" y="8510"/>
                  <a:pt x="17253" y="8734"/>
                  <a:pt x="17363" y="8954"/>
                </a:cubicBezTo>
                <a:cubicBezTo>
                  <a:pt x="17429" y="9086"/>
                  <a:pt x="17536" y="9282"/>
                  <a:pt x="17636" y="9376"/>
                </a:cubicBezTo>
                <a:cubicBezTo>
                  <a:pt x="17748" y="9482"/>
                  <a:pt x="17924" y="9597"/>
                  <a:pt x="18058" y="9674"/>
                </a:cubicBezTo>
                <a:cubicBezTo>
                  <a:pt x="18257" y="9788"/>
                  <a:pt x="18510" y="9860"/>
                  <a:pt x="18728" y="9922"/>
                </a:cubicBezTo>
                <a:cubicBezTo>
                  <a:pt x="18908" y="9974"/>
                  <a:pt x="19113" y="9947"/>
                  <a:pt x="19298" y="9947"/>
                </a:cubicBezTo>
                <a:cubicBezTo>
                  <a:pt x="19593" y="9947"/>
                  <a:pt x="19861" y="9876"/>
                  <a:pt x="20141" y="9773"/>
                </a:cubicBezTo>
                <a:cubicBezTo>
                  <a:pt x="20305" y="9713"/>
                  <a:pt x="20496" y="9579"/>
                  <a:pt x="20613" y="9451"/>
                </a:cubicBezTo>
                <a:cubicBezTo>
                  <a:pt x="20774" y="9275"/>
                  <a:pt x="20854" y="9081"/>
                  <a:pt x="20910" y="8855"/>
                </a:cubicBezTo>
                <a:cubicBezTo>
                  <a:pt x="20957" y="8667"/>
                  <a:pt x="20988" y="8502"/>
                  <a:pt x="21010" y="8310"/>
                </a:cubicBezTo>
                <a:cubicBezTo>
                  <a:pt x="21031" y="8122"/>
                  <a:pt x="21014" y="7925"/>
                  <a:pt x="20960" y="7739"/>
                </a:cubicBezTo>
                <a:cubicBezTo>
                  <a:pt x="20909" y="7562"/>
                  <a:pt x="20830" y="7350"/>
                  <a:pt x="20737" y="7193"/>
                </a:cubicBezTo>
                <a:cubicBezTo>
                  <a:pt x="20618" y="6992"/>
                  <a:pt x="20473" y="6793"/>
                  <a:pt x="20290" y="6648"/>
                </a:cubicBezTo>
                <a:cubicBezTo>
                  <a:pt x="20147" y="6534"/>
                  <a:pt x="20041" y="6456"/>
                  <a:pt x="19869" y="6400"/>
                </a:cubicBezTo>
                <a:cubicBezTo>
                  <a:pt x="19701" y="6345"/>
                  <a:pt x="19505" y="6260"/>
                  <a:pt x="19323" y="6300"/>
                </a:cubicBezTo>
                <a:cubicBezTo>
                  <a:pt x="19200" y="6327"/>
                  <a:pt x="19154" y="6383"/>
                  <a:pt x="19050" y="6449"/>
                </a:cubicBezTo>
              </a:path>
              <a:path w="4292" h="3871">
                <a:moveTo>
                  <a:pt x="21034" y="8186"/>
                </a:moveTo>
                <a:cubicBezTo>
                  <a:pt x="21137" y="8280"/>
                  <a:pt x="21072" y="8239"/>
                  <a:pt x="21183" y="8260"/>
                </a:cubicBezTo>
                <a:cubicBezTo>
                  <a:pt x="21172" y="8227"/>
                  <a:pt x="21259" y="8107"/>
                  <a:pt x="21134" y="8111"/>
                </a:cubicBezTo>
                <a:cubicBezTo>
                  <a:pt x="21109" y="8112"/>
                  <a:pt x="21007" y="8140"/>
                  <a:pt x="21010" y="8186"/>
                </a:cubicBezTo>
                <a:cubicBezTo>
                  <a:pt x="21015" y="8260"/>
                  <a:pt x="21070" y="8325"/>
                  <a:pt x="21158" y="8310"/>
                </a:cubicBezTo>
                <a:cubicBezTo>
                  <a:pt x="21180" y="8266"/>
                  <a:pt x="21183" y="8254"/>
                  <a:pt x="21208" y="8235"/>
                </a:cubicBezTo>
                <a:cubicBezTo>
                  <a:pt x="21127" y="8197"/>
                  <a:pt x="21107" y="8175"/>
                  <a:pt x="21010" y="8161"/>
                </a:cubicBezTo>
                <a:cubicBezTo>
                  <a:pt x="20985" y="8161"/>
                  <a:pt x="20960" y="8161"/>
                  <a:pt x="20935" y="8161"/>
                </a:cubicBezTo>
                <a:cubicBezTo>
                  <a:pt x="20994" y="8239"/>
                  <a:pt x="21007" y="8212"/>
                  <a:pt x="21010" y="8260"/>
                </a:cubicBezTo>
                <a:cubicBezTo>
                  <a:pt x="21014" y="8325"/>
                  <a:pt x="21002" y="8378"/>
                  <a:pt x="20985" y="8434"/>
                </a:cubicBezTo>
                <a:cubicBezTo>
                  <a:pt x="20966" y="8497"/>
                  <a:pt x="20948" y="8559"/>
                  <a:pt x="20935" y="8632"/>
                </a:cubicBezTo>
                <a:cubicBezTo>
                  <a:pt x="20924" y="8694"/>
                  <a:pt x="20891" y="8800"/>
                  <a:pt x="20886" y="8855"/>
                </a:cubicBezTo>
                <a:cubicBezTo>
                  <a:pt x="20879" y="8935"/>
                  <a:pt x="20875" y="8983"/>
                  <a:pt x="20861" y="9054"/>
                </a:cubicBezTo>
                <a:cubicBezTo>
                  <a:pt x="20842" y="9149"/>
                  <a:pt x="20837" y="9210"/>
                  <a:pt x="20786" y="9302"/>
                </a:cubicBezTo>
                <a:cubicBezTo>
                  <a:pt x="20759" y="9351"/>
                  <a:pt x="20714" y="9467"/>
                  <a:pt x="20687" y="9500"/>
                </a:cubicBezTo>
                <a:cubicBezTo>
                  <a:pt x="20651" y="9544"/>
                  <a:pt x="20605" y="9563"/>
                  <a:pt x="20563" y="9599"/>
                </a:cubicBezTo>
                <a:cubicBezTo>
                  <a:pt x="20495" y="9657"/>
                  <a:pt x="20421" y="9707"/>
                  <a:pt x="20340" y="9748"/>
                </a:cubicBezTo>
                <a:cubicBezTo>
                  <a:pt x="20219" y="9809"/>
                  <a:pt x="20068" y="9857"/>
                  <a:pt x="19943" y="9897"/>
                </a:cubicBezTo>
                <a:cubicBezTo>
                  <a:pt x="19872" y="9920"/>
                  <a:pt x="19796" y="9952"/>
                  <a:pt x="19720" y="9971"/>
                </a:cubicBezTo>
                <a:cubicBezTo>
                  <a:pt x="19647" y="9989"/>
                  <a:pt x="19568" y="10005"/>
                  <a:pt x="19496" y="10021"/>
                </a:cubicBezTo>
                <a:cubicBezTo>
                  <a:pt x="19425" y="10037"/>
                  <a:pt x="19322" y="10066"/>
                  <a:pt x="19248" y="10071"/>
                </a:cubicBezTo>
                <a:cubicBezTo>
                  <a:pt x="19106" y="10081"/>
                  <a:pt x="18963" y="10073"/>
                  <a:pt x="18827" y="10046"/>
                </a:cubicBezTo>
                <a:cubicBezTo>
                  <a:pt x="18750" y="10031"/>
                  <a:pt x="18653" y="10021"/>
                  <a:pt x="18579" y="9996"/>
                </a:cubicBezTo>
                <a:cubicBezTo>
                  <a:pt x="18475" y="9962"/>
                  <a:pt x="18393" y="9909"/>
                  <a:pt x="18306" y="9847"/>
                </a:cubicBezTo>
                <a:cubicBezTo>
                  <a:pt x="18233" y="9796"/>
                  <a:pt x="18150" y="9734"/>
                  <a:pt x="18083" y="9674"/>
                </a:cubicBezTo>
                <a:cubicBezTo>
                  <a:pt x="18016" y="9615"/>
                  <a:pt x="17939" y="9539"/>
                  <a:pt x="17884" y="9475"/>
                </a:cubicBezTo>
                <a:cubicBezTo>
                  <a:pt x="17809" y="9388"/>
                  <a:pt x="17736" y="9292"/>
                  <a:pt x="17661" y="9203"/>
                </a:cubicBezTo>
                <a:cubicBezTo>
                  <a:pt x="17599" y="9129"/>
                  <a:pt x="17522" y="9056"/>
                  <a:pt x="17462" y="8979"/>
                </a:cubicBezTo>
                <a:cubicBezTo>
                  <a:pt x="17407" y="8908"/>
                  <a:pt x="17330" y="8828"/>
                  <a:pt x="17289" y="8756"/>
                </a:cubicBezTo>
                <a:cubicBezTo>
                  <a:pt x="17259" y="8704"/>
                  <a:pt x="17231" y="8632"/>
                  <a:pt x="17214" y="8582"/>
                </a:cubicBezTo>
                <a:cubicBezTo>
                  <a:pt x="17197" y="8531"/>
                  <a:pt x="17178" y="8456"/>
                  <a:pt x="17165" y="8409"/>
                </a:cubicBezTo>
                <a:cubicBezTo>
                  <a:pt x="17146" y="8339"/>
                  <a:pt x="17155" y="8321"/>
                  <a:pt x="17165" y="8260"/>
                </a:cubicBezTo>
                <a:cubicBezTo>
                  <a:pt x="17174" y="8204"/>
                  <a:pt x="17217" y="8061"/>
                  <a:pt x="17239" y="8012"/>
                </a:cubicBezTo>
                <a:cubicBezTo>
                  <a:pt x="17267" y="7950"/>
                  <a:pt x="17303" y="7894"/>
                  <a:pt x="17338" y="7838"/>
                </a:cubicBezTo>
                <a:cubicBezTo>
                  <a:pt x="17375" y="7779"/>
                  <a:pt x="17425" y="7726"/>
                  <a:pt x="17462" y="7665"/>
                </a:cubicBezTo>
                <a:cubicBezTo>
                  <a:pt x="17537" y="7543"/>
                  <a:pt x="17615" y="7424"/>
                  <a:pt x="17711" y="7317"/>
                </a:cubicBezTo>
                <a:cubicBezTo>
                  <a:pt x="17789" y="7230"/>
                  <a:pt x="17874" y="7135"/>
                  <a:pt x="17959" y="7045"/>
                </a:cubicBezTo>
                <a:cubicBezTo>
                  <a:pt x="18026" y="6974"/>
                  <a:pt x="18109" y="6877"/>
                  <a:pt x="18182" y="6821"/>
                </a:cubicBezTo>
                <a:cubicBezTo>
                  <a:pt x="18298" y="6731"/>
                  <a:pt x="18422" y="6638"/>
                  <a:pt x="18554" y="6573"/>
                </a:cubicBezTo>
                <a:cubicBezTo>
                  <a:pt x="18666" y="6518"/>
                  <a:pt x="18760" y="6463"/>
                  <a:pt x="18876" y="6424"/>
                </a:cubicBezTo>
                <a:cubicBezTo>
                  <a:pt x="18948" y="6400"/>
                  <a:pt x="19077" y="6381"/>
                  <a:pt x="19149" y="6375"/>
                </a:cubicBezTo>
                <a:cubicBezTo>
                  <a:pt x="19437" y="6351"/>
                  <a:pt x="19806" y="6374"/>
                  <a:pt x="20067" y="6499"/>
                </a:cubicBezTo>
                <a:cubicBezTo>
                  <a:pt x="20210" y="6567"/>
                  <a:pt x="20313" y="6662"/>
                  <a:pt x="20439" y="6747"/>
                </a:cubicBezTo>
                <a:cubicBezTo>
                  <a:pt x="20614" y="6865"/>
                  <a:pt x="20752" y="7010"/>
                  <a:pt x="20861" y="7193"/>
                </a:cubicBezTo>
                <a:cubicBezTo>
                  <a:pt x="20913" y="7280"/>
                  <a:pt x="20967" y="7375"/>
                  <a:pt x="21010" y="7466"/>
                </a:cubicBezTo>
                <a:cubicBezTo>
                  <a:pt x="21051" y="7552"/>
                  <a:pt x="21087" y="7657"/>
                  <a:pt x="21109" y="7739"/>
                </a:cubicBezTo>
                <a:cubicBezTo>
                  <a:pt x="21134" y="7832"/>
                  <a:pt x="21159" y="7917"/>
                  <a:pt x="21183" y="8012"/>
                </a:cubicBezTo>
                <a:cubicBezTo>
                  <a:pt x="21201" y="8084"/>
                  <a:pt x="21223" y="8183"/>
                  <a:pt x="21208" y="8260"/>
                </a:cubicBezTo>
                <a:cubicBezTo>
                  <a:pt x="21195" y="8325"/>
                  <a:pt x="21169" y="8371"/>
                  <a:pt x="21158" y="8434"/>
                </a:cubicBezTo>
                <a:cubicBezTo>
                  <a:pt x="21146" y="8505"/>
                  <a:pt x="21159" y="8572"/>
                  <a:pt x="21158" y="8632"/>
                </a:cubicBezTo>
                <a:cubicBezTo>
                  <a:pt x="21155" y="8761"/>
                  <a:pt x="21152" y="8881"/>
                  <a:pt x="21134" y="9004"/>
                </a:cubicBezTo>
                <a:cubicBezTo>
                  <a:pt x="21123" y="9079"/>
                  <a:pt x="21116" y="9209"/>
                  <a:pt x="21084" y="9277"/>
                </a:cubicBezTo>
                <a:cubicBezTo>
                  <a:pt x="21042" y="9366"/>
                  <a:pt x="20989" y="9395"/>
                  <a:pt x="20935" y="9475"/>
                </a:cubicBezTo>
                <a:cubicBezTo>
                  <a:pt x="20890" y="9542"/>
                  <a:pt x="20866" y="9588"/>
                  <a:pt x="20811" y="9649"/>
                </a:cubicBezTo>
                <a:cubicBezTo>
                  <a:pt x="20745" y="9722"/>
                  <a:pt x="20675" y="9766"/>
                  <a:pt x="20613" y="9823"/>
                </a:cubicBezTo>
                <a:cubicBezTo>
                  <a:pt x="20508" y="9919"/>
                  <a:pt x="20469" y="9906"/>
                  <a:pt x="20340" y="9971"/>
                </a:cubicBezTo>
                <a:cubicBezTo>
                  <a:pt x="20190" y="10046"/>
                  <a:pt x="20129" y="10090"/>
                  <a:pt x="19968" y="10120"/>
                </a:cubicBezTo>
                <a:cubicBezTo>
                  <a:pt x="19842" y="10144"/>
                  <a:pt x="19723" y="10163"/>
                  <a:pt x="19596" y="10170"/>
                </a:cubicBezTo>
                <a:cubicBezTo>
                  <a:pt x="19398" y="10182"/>
                  <a:pt x="19193" y="10175"/>
                  <a:pt x="19000" y="10145"/>
                </a:cubicBezTo>
                <a:cubicBezTo>
                  <a:pt x="18853" y="10122"/>
                  <a:pt x="18716" y="10069"/>
                  <a:pt x="18579" y="10021"/>
                </a:cubicBezTo>
                <a:cubicBezTo>
                  <a:pt x="18436" y="9971"/>
                  <a:pt x="18330" y="9916"/>
                  <a:pt x="18207" y="9847"/>
                </a:cubicBezTo>
                <a:cubicBezTo>
                  <a:pt x="18046" y="9758"/>
                  <a:pt x="17899" y="9644"/>
                  <a:pt x="17760" y="9525"/>
                </a:cubicBezTo>
                <a:cubicBezTo>
                  <a:pt x="17675" y="9453"/>
                  <a:pt x="17572" y="9344"/>
                  <a:pt x="17512" y="9252"/>
                </a:cubicBezTo>
                <a:cubicBezTo>
                  <a:pt x="17431" y="9130"/>
                  <a:pt x="17412" y="8991"/>
                  <a:pt x="17363" y="8855"/>
                </a:cubicBezTo>
                <a:cubicBezTo>
                  <a:pt x="17333" y="8770"/>
                  <a:pt x="17298" y="8698"/>
                  <a:pt x="17289" y="8607"/>
                </a:cubicBezTo>
                <a:cubicBezTo>
                  <a:pt x="17278" y="8494"/>
                  <a:pt x="17277" y="8398"/>
                  <a:pt x="17264" y="8285"/>
                </a:cubicBezTo>
                <a:cubicBezTo>
                  <a:pt x="17255" y="8210"/>
                  <a:pt x="17229" y="8175"/>
                  <a:pt x="17214" y="8111"/>
                </a:cubicBezTo>
                <a:cubicBezTo>
                  <a:pt x="17158" y="8142"/>
                  <a:pt x="17089" y="8102"/>
                  <a:pt x="17066" y="8186"/>
                </a:cubicBezTo>
                <a:cubicBezTo>
                  <a:pt x="17041" y="8280"/>
                  <a:pt x="17073" y="8289"/>
                  <a:pt x="17140" y="8310"/>
                </a:cubicBezTo>
                <a:cubicBezTo>
                  <a:pt x="17171" y="8320"/>
                  <a:pt x="17238" y="8319"/>
                  <a:pt x="17264" y="8260"/>
                </a:cubicBezTo>
                <a:cubicBezTo>
                  <a:pt x="17264" y="8208"/>
                  <a:pt x="17263" y="8190"/>
                  <a:pt x="17239" y="8161"/>
                </a:cubicBezTo>
                <a:cubicBezTo>
                  <a:pt x="17164" y="8180"/>
                  <a:pt x="17117" y="8174"/>
                  <a:pt x="17041" y="8210"/>
                </a:cubicBezTo>
                <a:cubicBezTo>
                  <a:pt x="16907" y="8273"/>
                  <a:pt x="16962" y="8294"/>
                  <a:pt x="16942" y="8310"/>
                </a:cubicBezTo>
                <a:cubicBezTo>
                  <a:pt x="17022" y="8352"/>
                  <a:pt x="17054" y="8411"/>
                  <a:pt x="17165" y="8384"/>
                </a:cubicBezTo>
                <a:cubicBezTo>
                  <a:pt x="17186" y="8379"/>
                  <a:pt x="17357" y="8308"/>
                  <a:pt x="17363" y="8285"/>
                </a:cubicBezTo>
                <a:cubicBezTo>
                  <a:pt x="17380" y="8218"/>
                  <a:pt x="17360" y="8208"/>
                  <a:pt x="17214" y="8235"/>
                </a:cubicBezTo>
                <a:cubicBezTo>
                  <a:pt x="17188" y="8240"/>
                  <a:pt x="17141" y="8280"/>
                  <a:pt x="17115" y="8285"/>
                </a:cubicBezTo>
                <a:cubicBezTo>
                  <a:pt x="17209" y="8294"/>
                  <a:pt x="17229" y="8369"/>
                  <a:pt x="17338" y="8285"/>
                </a:cubicBezTo>
                <a:cubicBezTo>
                  <a:pt x="17383" y="8240"/>
                  <a:pt x="17400" y="8231"/>
                  <a:pt x="17388" y="8186"/>
                </a:cubicBezTo>
                <a:cubicBezTo>
                  <a:pt x="17306" y="8186"/>
                  <a:pt x="17255" y="8133"/>
                  <a:pt x="17165" y="8186"/>
                </a:cubicBezTo>
                <a:cubicBezTo>
                  <a:pt x="17121" y="8211"/>
                  <a:pt x="17158" y="8208"/>
                  <a:pt x="17115" y="8235"/>
                </a:cubicBezTo>
              </a:path>
              <a:path w="4292" h="3871">
                <a:moveTo>
                  <a:pt x="17041" y="8285"/>
                </a:moveTo>
                <a:cubicBezTo>
                  <a:pt x="17049" y="8285"/>
                  <a:pt x="17058" y="8285"/>
                  <a:pt x="17066" y="8285"/>
                </a:cubicBezTo>
              </a:path>
              <a:path w="4292" h="3871">
                <a:moveTo>
                  <a:pt x="17041" y="8285"/>
                </a:moveTo>
                <a:cubicBezTo>
                  <a:pt x="17049" y="8285"/>
                  <a:pt x="17058" y="8285"/>
                  <a:pt x="17066" y="8285"/>
                </a:cubicBezTo>
              </a:path>
              <a:path w="4292" h="3871">
                <a:moveTo>
                  <a:pt x="17090" y="8334"/>
                </a:moveTo>
                <a:lnTo>
                  <a:pt x="17090" y="8334"/>
                </a:lnTo>
              </a:path>
              <a:path w="4292" h="3871">
                <a:moveTo>
                  <a:pt x="17090" y="8334"/>
                </a:moveTo>
                <a:cubicBezTo>
                  <a:pt x="17115" y="8351"/>
                  <a:pt x="17140" y="8367"/>
                  <a:pt x="17165" y="8384"/>
                </a:cubicBezTo>
              </a:path>
              <a:path w="4292" h="3871">
                <a:moveTo>
                  <a:pt x="17165" y="8384"/>
                </a:moveTo>
                <a:cubicBezTo>
                  <a:pt x="17165" y="8392"/>
                  <a:pt x="17165" y="8401"/>
                  <a:pt x="17165" y="8409"/>
                </a:cubicBezTo>
              </a:path>
              <a:path w="4292" h="3871">
                <a:moveTo>
                  <a:pt x="17214" y="8384"/>
                </a:moveTo>
                <a:cubicBezTo>
                  <a:pt x="17214" y="8376"/>
                  <a:pt x="17214" y="8367"/>
                  <a:pt x="17214" y="8359"/>
                </a:cubicBezTo>
              </a:path>
              <a:path w="4292" h="3871">
                <a:moveTo>
                  <a:pt x="17214" y="8384"/>
                </a:moveTo>
                <a:cubicBezTo>
                  <a:pt x="17214" y="8367"/>
                  <a:pt x="17214" y="8351"/>
                  <a:pt x="17214" y="8334"/>
                </a:cubicBezTo>
              </a:path>
              <a:path w="4292" h="3871">
                <a:moveTo>
                  <a:pt x="17239" y="8384"/>
                </a:moveTo>
                <a:cubicBezTo>
                  <a:pt x="17239" y="8359"/>
                  <a:pt x="17239" y="8335"/>
                  <a:pt x="17239" y="8310"/>
                </a:cubicBezTo>
              </a:path>
              <a:path w="4292" h="3871">
                <a:moveTo>
                  <a:pt x="17239" y="8310"/>
                </a:moveTo>
                <a:cubicBezTo>
                  <a:pt x="17239" y="8318"/>
                  <a:pt x="17239" y="8326"/>
                  <a:pt x="17239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10"/>
          <p:cNvSpPr/>
          <p:nvPr/>
        </p:nvSpPr>
        <p:spPr>
          <a:xfrm>
            <a:off x="7777080" y="1839960"/>
            <a:ext cx="403200" cy="106200"/>
          </a:xfrm>
          <a:custGeom>
            <a:avLst/>
            <a:gdLst/>
            <a:ahLst/>
            <a:rect l="l" t="t" r="r" b="b"/>
            <a:pathLst>
              <a:path w="1117" h="298">
                <a:moveTo>
                  <a:pt x="21605" y="5159"/>
                </a:moveTo>
                <a:cubicBezTo>
                  <a:pt x="21700" y="5167"/>
                  <a:pt x="21785" y="5198"/>
                  <a:pt x="21878" y="5209"/>
                </a:cubicBezTo>
                <a:cubicBezTo>
                  <a:pt x="21903" y="5209"/>
                  <a:pt x="21927" y="5209"/>
                  <a:pt x="21952" y="5209"/>
                </a:cubicBezTo>
              </a:path>
              <a:path w="1117" h="298">
                <a:moveTo>
                  <a:pt x="21605" y="5383"/>
                </a:moveTo>
                <a:cubicBezTo>
                  <a:pt x="21700" y="5406"/>
                  <a:pt x="21780" y="5407"/>
                  <a:pt x="21878" y="5407"/>
                </a:cubicBezTo>
                <a:cubicBezTo>
                  <a:pt x="21946" y="5407"/>
                  <a:pt x="21965" y="5410"/>
                  <a:pt x="22002" y="5383"/>
                </a:cubicBezTo>
              </a:path>
              <a:path w="1117" h="298">
                <a:moveTo>
                  <a:pt x="22324" y="5110"/>
                </a:moveTo>
                <a:cubicBezTo>
                  <a:pt x="22460" y="5126"/>
                  <a:pt x="22586" y="5139"/>
                  <a:pt x="22721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11"/>
          <p:cNvSpPr/>
          <p:nvPr/>
        </p:nvSpPr>
        <p:spPr>
          <a:xfrm>
            <a:off x="8331120" y="1704960"/>
            <a:ext cx="46080" cy="376200"/>
          </a:xfrm>
          <a:custGeom>
            <a:avLst/>
            <a:gdLst/>
            <a:ahLst/>
            <a:rect l="l" t="t" r="r" b="b"/>
            <a:pathLst>
              <a:path w="125" h="1042">
                <a:moveTo>
                  <a:pt x="23143" y="4738"/>
                </a:moveTo>
                <a:cubicBezTo>
                  <a:pt x="23158" y="4909"/>
                  <a:pt x="23141" y="5113"/>
                  <a:pt x="23168" y="5283"/>
                </a:cubicBezTo>
                <a:cubicBezTo>
                  <a:pt x="23182" y="5373"/>
                  <a:pt x="23207" y="5466"/>
                  <a:pt x="23217" y="5556"/>
                </a:cubicBezTo>
                <a:cubicBezTo>
                  <a:pt x="23227" y="5638"/>
                  <a:pt x="23257" y="5699"/>
                  <a:pt x="23267" y="57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12"/>
          <p:cNvSpPr/>
          <p:nvPr/>
        </p:nvSpPr>
        <p:spPr>
          <a:xfrm>
            <a:off x="3821040" y="4626000"/>
            <a:ext cx="1420920" cy="714240"/>
          </a:xfrm>
          <a:custGeom>
            <a:avLst/>
            <a:gdLst/>
            <a:ahLst/>
            <a:rect l="l" t="t" r="r" b="b"/>
            <a:pathLst>
              <a:path w="3945" h="1985">
                <a:moveTo>
                  <a:pt x="11336" y="12849"/>
                </a:moveTo>
                <a:cubicBezTo>
                  <a:pt x="11237" y="12911"/>
                  <a:pt x="11190" y="12985"/>
                  <a:pt x="11112" y="13072"/>
                </a:cubicBezTo>
                <a:cubicBezTo>
                  <a:pt x="11000" y="13197"/>
                  <a:pt x="10900" y="13341"/>
                  <a:pt x="10939" y="13519"/>
                </a:cubicBezTo>
                <a:cubicBezTo>
                  <a:pt x="10965" y="13638"/>
                  <a:pt x="11018" y="13672"/>
                  <a:pt x="11137" y="13692"/>
                </a:cubicBezTo>
                <a:cubicBezTo>
                  <a:pt x="11208" y="13704"/>
                  <a:pt x="11331" y="13697"/>
                  <a:pt x="11385" y="13643"/>
                </a:cubicBezTo>
                <a:cubicBezTo>
                  <a:pt x="11423" y="13605"/>
                  <a:pt x="11456" y="13540"/>
                  <a:pt x="11485" y="13494"/>
                </a:cubicBezTo>
                <a:cubicBezTo>
                  <a:pt x="11423" y="13457"/>
                  <a:pt x="11335" y="13477"/>
                  <a:pt x="11261" y="13494"/>
                </a:cubicBezTo>
                <a:cubicBezTo>
                  <a:pt x="11186" y="13511"/>
                  <a:pt x="11109" y="13610"/>
                  <a:pt x="11112" y="13692"/>
                </a:cubicBezTo>
                <a:cubicBezTo>
                  <a:pt x="11134" y="13759"/>
                  <a:pt x="11139" y="13777"/>
                  <a:pt x="11162" y="13816"/>
                </a:cubicBezTo>
              </a:path>
              <a:path w="3945" h="1985">
                <a:moveTo>
                  <a:pt x="10616" y="13667"/>
                </a:moveTo>
                <a:cubicBezTo>
                  <a:pt x="10743" y="13718"/>
                  <a:pt x="10878" y="13743"/>
                  <a:pt x="11013" y="13767"/>
                </a:cubicBezTo>
                <a:cubicBezTo>
                  <a:pt x="11219" y="13803"/>
                  <a:pt x="11399" y="13816"/>
                  <a:pt x="11609" y="13816"/>
                </a:cubicBezTo>
              </a:path>
              <a:path w="3945" h="1985">
                <a:moveTo>
                  <a:pt x="11013" y="13891"/>
                </a:moveTo>
                <a:cubicBezTo>
                  <a:pt x="11092" y="13935"/>
                  <a:pt x="11175" y="13982"/>
                  <a:pt x="11261" y="14015"/>
                </a:cubicBezTo>
                <a:cubicBezTo>
                  <a:pt x="11393" y="14065"/>
                  <a:pt x="11398" y="14054"/>
                  <a:pt x="11385" y="14188"/>
                </a:cubicBezTo>
                <a:cubicBezTo>
                  <a:pt x="11375" y="14289"/>
                  <a:pt x="11310" y="14255"/>
                  <a:pt x="11237" y="14288"/>
                </a:cubicBezTo>
                <a:cubicBezTo>
                  <a:pt x="11229" y="14296"/>
                  <a:pt x="11220" y="14304"/>
                  <a:pt x="11212" y="14312"/>
                </a:cubicBezTo>
                <a:cubicBezTo>
                  <a:pt x="11225" y="14419"/>
                  <a:pt x="11286" y="14424"/>
                  <a:pt x="11336" y="14511"/>
                </a:cubicBezTo>
                <a:cubicBezTo>
                  <a:pt x="11380" y="14588"/>
                  <a:pt x="11367" y="14649"/>
                  <a:pt x="11311" y="14709"/>
                </a:cubicBezTo>
                <a:cubicBezTo>
                  <a:pt x="11247" y="14778"/>
                  <a:pt x="11132" y="14820"/>
                  <a:pt x="11038" y="14833"/>
                </a:cubicBezTo>
                <a:cubicBezTo>
                  <a:pt x="10907" y="14851"/>
                  <a:pt x="10771" y="14808"/>
                  <a:pt x="10790" y="14660"/>
                </a:cubicBezTo>
                <a:cubicBezTo>
                  <a:pt x="10815" y="14559"/>
                  <a:pt x="10824" y="14526"/>
                  <a:pt x="10889" y="14486"/>
                </a:cubicBezTo>
              </a:path>
              <a:path w="3945" h="1985">
                <a:moveTo>
                  <a:pt x="12105" y="13345"/>
                </a:moveTo>
                <a:cubicBezTo>
                  <a:pt x="12261" y="13331"/>
                  <a:pt x="12399" y="13320"/>
                  <a:pt x="12551" y="13295"/>
                </a:cubicBezTo>
              </a:path>
              <a:path w="3945" h="1985">
                <a:moveTo>
                  <a:pt x="12154" y="13519"/>
                </a:moveTo>
                <a:cubicBezTo>
                  <a:pt x="12141" y="13551"/>
                  <a:pt x="11978" y="13843"/>
                  <a:pt x="12080" y="13891"/>
                </a:cubicBezTo>
                <a:cubicBezTo>
                  <a:pt x="12096" y="13891"/>
                  <a:pt x="12113" y="13891"/>
                  <a:pt x="12129" y="13891"/>
                </a:cubicBezTo>
              </a:path>
              <a:path w="3945" h="1985">
                <a:moveTo>
                  <a:pt x="12502" y="13320"/>
                </a:moveTo>
                <a:cubicBezTo>
                  <a:pt x="12481" y="13489"/>
                  <a:pt x="12431" y="13643"/>
                  <a:pt x="12427" y="13816"/>
                </a:cubicBezTo>
                <a:cubicBezTo>
                  <a:pt x="12427" y="13916"/>
                  <a:pt x="12427" y="13951"/>
                  <a:pt x="12452" y="14015"/>
                </a:cubicBezTo>
              </a:path>
              <a:path w="3945" h="1985">
                <a:moveTo>
                  <a:pt x="13221" y="14089"/>
                </a:moveTo>
                <a:cubicBezTo>
                  <a:pt x="13269" y="14065"/>
                  <a:pt x="13283" y="14057"/>
                  <a:pt x="13320" y="14064"/>
                </a:cubicBezTo>
              </a:path>
              <a:path w="3945" h="1985">
                <a:moveTo>
                  <a:pt x="12874" y="14163"/>
                </a:moveTo>
                <a:cubicBezTo>
                  <a:pt x="13029" y="14260"/>
                  <a:pt x="13094" y="14301"/>
                  <a:pt x="13271" y="14312"/>
                </a:cubicBezTo>
              </a:path>
              <a:path w="3945" h="1985">
                <a:moveTo>
                  <a:pt x="13667" y="13543"/>
                </a:moveTo>
                <a:cubicBezTo>
                  <a:pt x="13761" y="13525"/>
                  <a:pt x="13780" y="13496"/>
                  <a:pt x="13816" y="13543"/>
                </a:cubicBezTo>
                <a:cubicBezTo>
                  <a:pt x="13802" y="13639"/>
                  <a:pt x="13744" y="13636"/>
                  <a:pt x="13667" y="13692"/>
                </a:cubicBezTo>
                <a:cubicBezTo>
                  <a:pt x="13583" y="13753"/>
                  <a:pt x="13584" y="13784"/>
                  <a:pt x="13593" y="13866"/>
                </a:cubicBezTo>
                <a:cubicBezTo>
                  <a:pt x="13601" y="13936"/>
                  <a:pt x="13624" y="14024"/>
                  <a:pt x="13692" y="14064"/>
                </a:cubicBezTo>
                <a:cubicBezTo>
                  <a:pt x="13783" y="14118"/>
                  <a:pt x="13889" y="14114"/>
                  <a:pt x="13990" y="14114"/>
                </a:cubicBezTo>
              </a:path>
              <a:path w="3945" h="1985">
                <a:moveTo>
                  <a:pt x="14213" y="13593"/>
                </a:moveTo>
                <a:cubicBezTo>
                  <a:pt x="14359" y="13558"/>
                  <a:pt x="14399" y="13568"/>
                  <a:pt x="14536" y="13568"/>
                </a:cubicBezTo>
                <a:cubicBezTo>
                  <a:pt x="14544" y="13568"/>
                  <a:pt x="14552" y="13568"/>
                  <a:pt x="14560" y="13568"/>
                </a:cubicBezTo>
              </a:path>
              <a:path w="3945" h="1985">
                <a:moveTo>
                  <a:pt x="14114" y="13767"/>
                </a:moveTo>
                <a:cubicBezTo>
                  <a:pt x="14114" y="13882"/>
                  <a:pt x="14082" y="13959"/>
                  <a:pt x="14188" y="13990"/>
                </a:cubicBezTo>
              </a:path>
              <a:path w="3945" h="1985">
                <a:moveTo>
                  <a:pt x="14560" y="13643"/>
                </a:moveTo>
                <a:cubicBezTo>
                  <a:pt x="14530" y="13818"/>
                  <a:pt x="14487" y="13991"/>
                  <a:pt x="14461" y="14163"/>
                </a:cubicBezTo>
                <a:cubicBezTo>
                  <a:pt x="14461" y="14188"/>
                  <a:pt x="14461" y="14213"/>
                  <a:pt x="14461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3"/>
          <p:cNvSpPr/>
          <p:nvPr/>
        </p:nvSpPr>
        <p:spPr>
          <a:xfrm>
            <a:off x="5045040" y="1687680"/>
            <a:ext cx="492120" cy="509400"/>
          </a:xfrm>
          <a:custGeom>
            <a:avLst/>
            <a:gdLst/>
            <a:ahLst/>
            <a:rect l="l" t="t" r="r" b="b"/>
            <a:pathLst>
              <a:path w="1365" h="1415">
                <a:moveTo>
                  <a:pt x="14039" y="5358"/>
                </a:moveTo>
                <a:cubicBezTo>
                  <a:pt x="14116" y="5358"/>
                  <a:pt x="14145" y="5357"/>
                  <a:pt x="14213" y="5383"/>
                </a:cubicBezTo>
              </a:path>
              <a:path w="1365" h="1415">
                <a:moveTo>
                  <a:pt x="14015" y="5556"/>
                </a:moveTo>
                <a:cubicBezTo>
                  <a:pt x="14108" y="5580"/>
                  <a:pt x="14179" y="5602"/>
                  <a:pt x="14263" y="5581"/>
                </a:cubicBezTo>
              </a:path>
              <a:path w="1365" h="1415">
                <a:moveTo>
                  <a:pt x="14387" y="5333"/>
                </a:moveTo>
                <a:cubicBezTo>
                  <a:pt x="14464" y="5314"/>
                  <a:pt x="14533" y="5302"/>
                  <a:pt x="14610" y="5283"/>
                </a:cubicBezTo>
              </a:path>
              <a:path w="1365" h="1415">
                <a:moveTo>
                  <a:pt x="14858" y="4688"/>
                </a:moveTo>
                <a:cubicBezTo>
                  <a:pt x="14891" y="4765"/>
                  <a:pt x="14876" y="4856"/>
                  <a:pt x="14883" y="4936"/>
                </a:cubicBezTo>
                <a:cubicBezTo>
                  <a:pt x="14890" y="5019"/>
                  <a:pt x="14928" y="5078"/>
                  <a:pt x="14932" y="5159"/>
                </a:cubicBezTo>
                <a:cubicBezTo>
                  <a:pt x="14932" y="5209"/>
                  <a:pt x="14932" y="5226"/>
                  <a:pt x="14932" y="5259"/>
                </a:cubicBezTo>
              </a:path>
              <a:path w="1365" h="1415">
                <a:moveTo>
                  <a:pt x="14833" y="5482"/>
                </a:moveTo>
                <a:cubicBezTo>
                  <a:pt x="14960" y="5490"/>
                  <a:pt x="15013" y="5499"/>
                  <a:pt x="15131" y="5482"/>
                </a:cubicBezTo>
                <a:cubicBezTo>
                  <a:pt x="15147" y="5482"/>
                  <a:pt x="15164" y="5482"/>
                  <a:pt x="15180" y="5482"/>
                </a:cubicBezTo>
              </a:path>
              <a:path w="1365" h="1415">
                <a:moveTo>
                  <a:pt x="14883" y="5606"/>
                </a:moveTo>
                <a:cubicBezTo>
                  <a:pt x="14967" y="5597"/>
                  <a:pt x="15016" y="5581"/>
                  <a:pt x="15106" y="5581"/>
                </a:cubicBezTo>
                <a:cubicBezTo>
                  <a:pt x="15151" y="5581"/>
                  <a:pt x="15164" y="5577"/>
                  <a:pt x="15180" y="5606"/>
                </a:cubicBezTo>
                <a:cubicBezTo>
                  <a:pt x="15168" y="5707"/>
                  <a:pt x="15114" y="5763"/>
                  <a:pt x="15032" y="5829"/>
                </a:cubicBezTo>
                <a:cubicBezTo>
                  <a:pt x="14943" y="5901"/>
                  <a:pt x="14852" y="5963"/>
                  <a:pt x="14759" y="6028"/>
                </a:cubicBezTo>
                <a:cubicBezTo>
                  <a:pt x="14751" y="6036"/>
                  <a:pt x="14742" y="6044"/>
                  <a:pt x="14734" y="6052"/>
                </a:cubicBezTo>
                <a:cubicBezTo>
                  <a:pt x="14811" y="6129"/>
                  <a:pt x="14821" y="6089"/>
                  <a:pt x="14932" y="6077"/>
                </a:cubicBezTo>
                <a:cubicBezTo>
                  <a:pt x="15057" y="6064"/>
                  <a:pt x="15177" y="6052"/>
                  <a:pt x="15304" y="6052"/>
                </a:cubicBezTo>
                <a:cubicBezTo>
                  <a:pt x="15346" y="6052"/>
                  <a:pt x="15354" y="6052"/>
                  <a:pt x="15379" y="60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4"/>
          <p:cNvSpPr/>
          <p:nvPr/>
        </p:nvSpPr>
        <p:spPr>
          <a:xfrm>
            <a:off x="3875040" y="2608200"/>
            <a:ext cx="162000" cy="160560"/>
          </a:xfrm>
          <a:custGeom>
            <a:avLst/>
            <a:gdLst/>
            <a:ahLst/>
            <a:rect l="l" t="t" r="r" b="b"/>
            <a:pathLst>
              <a:path w="448" h="447">
                <a:moveTo>
                  <a:pt x="10864" y="7367"/>
                </a:moveTo>
                <a:cubicBezTo>
                  <a:pt x="10936" y="7367"/>
                  <a:pt x="10973" y="7388"/>
                  <a:pt x="11038" y="7392"/>
                </a:cubicBezTo>
                <a:cubicBezTo>
                  <a:pt x="11124" y="7397"/>
                  <a:pt x="11145" y="7285"/>
                  <a:pt x="11063" y="7342"/>
                </a:cubicBezTo>
                <a:cubicBezTo>
                  <a:pt x="10999" y="7387"/>
                  <a:pt x="10992" y="7413"/>
                  <a:pt x="11013" y="7466"/>
                </a:cubicBezTo>
                <a:cubicBezTo>
                  <a:pt x="11051" y="7452"/>
                  <a:pt x="11175" y="7424"/>
                  <a:pt x="11187" y="7367"/>
                </a:cubicBezTo>
                <a:cubicBezTo>
                  <a:pt x="11213" y="7243"/>
                  <a:pt x="11126" y="7241"/>
                  <a:pt x="11038" y="7268"/>
                </a:cubicBezTo>
                <a:cubicBezTo>
                  <a:pt x="10938" y="7299"/>
                  <a:pt x="10853" y="7356"/>
                  <a:pt x="10790" y="7441"/>
                </a:cubicBezTo>
                <a:cubicBezTo>
                  <a:pt x="10675" y="7597"/>
                  <a:pt x="10932" y="7515"/>
                  <a:pt x="10988" y="7491"/>
                </a:cubicBezTo>
                <a:cubicBezTo>
                  <a:pt x="10999" y="7477"/>
                  <a:pt x="11105" y="7331"/>
                  <a:pt x="11063" y="7317"/>
                </a:cubicBezTo>
                <a:cubicBezTo>
                  <a:pt x="11046" y="7325"/>
                  <a:pt x="11030" y="7334"/>
                  <a:pt x="11013" y="7342"/>
                </a:cubicBezTo>
                <a:cubicBezTo>
                  <a:pt x="10980" y="7371"/>
                  <a:pt x="10751" y="7506"/>
                  <a:pt x="10815" y="7590"/>
                </a:cubicBezTo>
                <a:cubicBezTo>
                  <a:pt x="10873" y="7666"/>
                  <a:pt x="10962" y="7595"/>
                  <a:pt x="11013" y="7565"/>
                </a:cubicBezTo>
                <a:cubicBezTo>
                  <a:pt x="11087" y="7521"/>
                  <a:pt x="11187" y="7473"/>
                  <a:pt x="11187" y="7367"/>
                </a:cubicBezTo>
                <a:cubicBezTo>
                  <a:pt x="11187" y="7283"/>
                  <a:pt x="11016" y="7415"/>
                  <a:pt x="11013" y="7417"/>
                </a:cubicBezTo>
                <a:cubicBezTo>
                  <a:pt x="10954" y="7499"/>
                  <a:pt x="10893" y="7479"/>
                  <a:pt x="10964" y="7565"/>
                </a:cubicBezTo>
                <a:cubicBezTo>
                  <a:pt x="11004" y="7606"/>
                  <a:pt x="11034" y="7609"/>
                  <a:pt x="11088" y="7565"/>
                </a:cubicBezTo>
                <a:cubicBezTo>
                  <a:pt x="11161" y="7538"/>
                  <a:pt x="11244" y="7527"/>
                  <a:pt x="11212" y="7417"/>
                </a:cubicBezTo>
                <a:cubicBezTo>
                  <a:pt x="11181" y="7308"/>
                  <a:pt x="11014" y="7465"/>
                  <a:pt x="10964" y="7516"/>
                </a:cubicBezTo>
                <a:cubicBezTo>
                  <a:pt x="10900" y="7581"/>
                  <a:pt x="10984" y="7612"/>
                  <a:pt x="11038" y="7590"/>
                </a:cubicBezTo>
                <a:cubicBezTo>
                  <a:pt x="11088" y="7565"/>
                  <a:pt x="11104" y="7557"/>
                  <a:pt x="11112" y="7516"/>
                </a:cubicBezTo>
                <a:cubicBezTo>
                  <a:pt x="11104" y="7452"/>
                  <a:pt x="11079" y="7367"/>
                  <a:pt x="10988" y="7417"/>
                </a:cubicBezTo>
                <a:cubicBezTo>
                  <a:pt x="10918" y="7455"/>
                  <a:pt x="10810" y="7514"/>
                  <a:pt x="10815" y="7615"/>
                </a:cubicBezTo>
                <a:cubicBezTo>
                  <a:pt x="10821" y="7737"/>
                  <a:pt x="10991" y="7673"/>
                  <a:pt x="11038" y="7665"/>
                </a:cubicBezTo>
                <a:cubicBezTo>
                  <a:pt x="11135" y="7649"/>
                  <a:pt x="11128" y="7614"/>
                  <a:pt x="11137" y="7516"/>
                </a:cubicBezTo>
                <a:cubicBezTo>
                  <a:pt x="11150" y="7485"/>
                  <a:pt x="11144" y="7375"/>
                  <a:pt x="11063" y="7417"/>
                </a:cubicBezTo>
                <a:cubicBezTo>
                  <a:pt x="11034" y="7432"/>
                  <a:pt x="10960" y="7509"/>
                  <a:pt x="10939" y="7541"/>
                </a:cubicBezTo>
                <a:cubicBezTo>
                  <a:pt x="10897" y="7606"/>
                  <a:pt x="10945" y="7627"/>
                  <a:pt x="10988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Use a calculator to evaluate the expression. Round to four decimal places.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3.  Sin 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/4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47.  cos (-1.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4"/>
          <p:cNvSpPr/>
          <p:nvPr/>
        </p:nvSpPr>
        <p:spPr>
          <a:xfrm>
            <a:off x="1419120" y="2963880"/>
            <a:ext cx="1054080" cy="465120"/>
          </a:xfrm>
          <a:custGeom>
            <a:avLst/>
            <a:gdLst/>
            <a:ahLst/>
            <a:rect l="l" t="t" r="r" b="b"/>
            <a:pathLst>
              <a:path w="2928" h="1291">
                <a:moveTo>
                  <a:pt x="4018" y="9153"/>
                </a:moveTo>
                <a:cubicBezTo>
                  <a:pt x="3989" y="9183"/>
                  <a:pt x="3978" y="9197"/>
                  <a:pt x="3969" y="9227"/>
                </a:cubicBezTo>
                <a:cubicBezTo>
                  <a:pt x="4062" y="9264"/>
                  <a:pt x="4070" y="9140"/>
                  <a:pt x="4018" y="9128"/>
                </a:cubicBezTo>
                <a:cubicBezTo>
                  <a:pt x="3986" y="9121"/>
                  <a:pt x="3931" y="9159"/>
                  <a:pt x="3969" y="9178"/>
                </a:cubicBezTo>
              </a:path>
              <a:path w="2928" h="1291">
                <a:moveTo>
                  <a:pt x="4266" y="8260"/>
                </a:moveTo>
                <a:cubicBezTo>
                  <a:pt x="4267" y="8209"/>
                  <a:pt x="4443" y="8235"/>
                  <a:pt x="4539" y="8235"/>
                </a:cubicBezTo>
                <a:cubicBezTo>
                  <a:pt x="4651" y="8235"/>
                  <a:pt x="4820" y="8204"/>
                  <a:pt x="4911" y="8260"/>
                </a:cubicBezTo>
                <a:cubicBezTo>
                  <a:pt x="4876" y="8323"/>
                  <a:pt x="4852" y="8343"/>
                  <a:pt x="4837" y="8409"/>
                </a:cubicBezTo>
                <a:cubicBezTo>
                  <a:pt x="4813" y="8515"/>
                  <a:pt x="4787" y="8573"/>
                  <a:pt x="4787" y="8682"/>
                </a:cubicBezTo>
                <a:cubicBezTo>
                  <a:pt x="4787" y="8779"/>
                  <a:pt x="4807" y="8863"/>
                  <a:pt x="4812" y="8954"/>
                </a:cubicBezTo>
                <a:cubicBezTo>
                  <a:pt x="4815" y="9006"/>
                  <a:pt x="4782" y="9127"/>
                  <a:pt x="4787" y="9153"/>
                </a:cubicBezTo>
                <a:cubicBezTo>
                  <a:pt x="4810" y="9176"/>
                  <a:pt x="4814" y="9184"/>
                  <a:pt x="4837" y="9178"/>
                </a:cubicBezTo>
              </a:path>
              <a:path w="2928" h="1291">
                <a:moveTo>
                  <a:pt x="5308" y="8508"/>
                </a:moveTo>
                <a:cubicBezTo>
                  <a:pt x="5380" y="8598"/>
                  <a:pt x="5327" y="8606"/>
                  <a:pt x="5308" y="8731"/>
                </a:cubicBezTo>
                <a:cubicBezTo>
                  <a:pt x="5295" y="8815"/>
                  <a:pt x="5283" y="8892"/>
                  <a:pt x="5283" y="8979"/>
                </a:cubicBezTo>
                <a:cubicBezTo>
                  <a:pt x="5283" y="9046"/>
                  <a:pt x="5297" y="9146"/>
                  <a:pt x="5333" y="9203"/>
                </a:cubicBezTo>
                <a:cubicBezTo>
                  <a:pt x="5359" y="9245"/>
                  <a:pt x="5459" y="9292"/>
                  <a:pt x="5507" y="9277"/>
                </a:cubicBezTo>
                <a:cubicBezTo>
                  <a:pt x="5581" y="9254"/>
                  <a:pt x="5632" y="9207"/>
                  <a:pt x="5680" y="9153"/>
                </a:cubicBezTo>
                <a:cubicBezTo>
                  <a:pt x="5738" y="9087"/>
                  <a:pt x="5788" y="9026"/>
                  <a:pt x="5779" y="8930"/>
                </a:cubicBezTo>
                <a:cubicBezTo>
                  <a:pt x="5772" y="8862"/>
                  <a:pt x="5738" y="8691"/>
                  <a:pt x="5680" y="8632"/>
                </a:cubicBezTo>
                <a:cubicBezTo>
                  <a:pt x="5625" y="8577"/>
                  <a:pt x="5520" y="8547"/>
                  <a:pt x="5457" y="8508"/>
                </a:cubicBezTo>
                <a:cubicBezTo>
                  <a:pt x="5423" y="8487"/>
                  <a:pt x="5421" y="8468"/>
                  <a:pt x="5383" y="8458"/>
                </a:cubicBezTo>
              </a:path>
              <a:path w="2928" h="1291">
                <a:moveTo>
                  <a:pt x="5631" y="8359"/>
                </a:moveTo>
                <a:cubicBezTo>
                  <a:pt x="5733" y="8347"/>
                  <a:pt x="5779" y="8344"/>
                  <a:pt x="5879" y="8359"/>
                </a:cubicBezTo>
                <a:cubicBezTo>
                  <a:pt x="5968" y="8372"/>
                  <a:pt x="6065" y="8360"/>
                  <a:pt x="6152" y="8384"/>
                </a:cubicBezTo>
                <a:cubicBezTo>
                  <a:pt x="6190" y="8394"/>
                  <a:pt x="6286" y="8408"/>
                  <a:pt x="6300" y="8458"/>
                </a:cubicBezTo>
                <a:cubicBezTo>
                  <a:pt x="6308" y="8485"/>
                  <a:pt x="6284" y="8602"/>
                  <a:pt x="6276" y="8632"/>
                </a:cubicBezTo>
                <a:cubicBezTo>
                  <a:pt x="6257" y="8700"/>
                  <a:pt x="6266" y="8762"/>
                  <a:pt x="6251" y="8830"/>
                </a:cubicBezTo>
                <a:cubicBezTo>
                  <a:pt x="6231" y="8920"/>
                  <a:pt x="6226" y="8985"/>
                  <a:pt x="6226" y="9079"/>
                </a:cubicBezTo>
                <a:cubicBezTo>
                  <a:pt x="6226" y="9138"/>
                  <a:pt x="6236" y="9270"/>
                  <a:pt x="6251" y="9327"/>
                </a:cubicBezTo>
                <a:cubicBezTo>
                  <a:pt x="6276" y="9351"/>
                  <a:pt x="6284" y="9359"/>
                  <a:pt x="6300" y="9327"/>
                </a:cubicBezTo>
              </a:path>
              <a:path w="2928" h="1291">
                <a:moveTo>
                  <a:pt x="6846" y="8359"/>
                </a:moveTo>
                <a:cubicBezTo>
                  <a:pt x="6899" y="8341"/>
                  <a:pt x="6871" y="8460"/>
                  <a:pt x="6871" y="8533"/>
                </a:cubicBezTo>
                <a:cubicBezTo>
                  <a:pt x="6871" y="8652"/>
                  <a:pt x="6850" y="8763"/>
                  <a:pt x="6846" y="8880"/>
                </a:cubicBezTo>
                <a:cubicBezTo>
                  <a:pt x="6842" y="9018"/>
                  <a:pt x="6859" y="9143"/>
                  <a:pt x="6871" y="9277"/>
                </a:cubicBezTo>
                <a:cubicBezTo>
                  <a:pt x="6878" y="9358"/>
                  <a:pt x="6871" y="9443"/>
                  <a:pt x="6871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5"/>
          <p:cNvSpPr/>
          <p:nvPr/>
        </p:nvSpPr>
        <p:spPr>
          <a:xfrm>
            <a:off x="4599000" y="3224160"/>
            <a:ext cx="303120" cy="150840"/>
          </a:xfrm>
          <a:custGeom>
            <a:avLst/>
            <a:gdLst/>
            <a:ahLst/>
            <a:rect l="l" t="t" r="r" b="b"/>
            <a:pathLst>
              <a:path w="845" h="423">
                <a:moveTo>
                  <a:pt x="12774" y="8954"/>
                </a:moveTo>
                <a:cubicBezTo>
                  <a:pt x="12866" y="8966"/>
                  <a:pt x="12949" y="8979"/>
                  <a:pt x="13047" y="8979"/>
                </a:cubicBezTo>
                <a:cubicBezTo>
                  <a:pt x="13148" y="8979"/>
                  <a:pt x="13228" y="8969"/>
                  <a:pt x="13320" y="8954"/>
                </a:cubicBezTo>
                <a:cubicBezTo>
                  <a:pt x="13359" y="8948"/>
                  <a:pt x="13404" y="8954"/>
                  <a:pt x="13444" y="8954"/>
                </a:cubicBezTo>
              </a:path>
              <a:path w="845" h="423">
                <a:moveTo>
                  <a:pt x="13593" y="9327"/>
                </a:moveTo>
                <a:cubicBezTo>
                  <a:pt x="13601" y="9343"/>
                  <a:pt x="13610" y="9360"/>
                  <a:pt x="13618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6"/>
          <p:cNvSpPr/>
          <p:nvPr/>
        </p:nvSpPr>
        <p:spPr>
          <a:xfrm>
            <a:off x="5089680" y="3054240"/>
            <a:ext cx="804600" cy="347760"/>
          </a:xfrm>
          <a:custGeom>
            <a:avLst/>
            <a:gdLst/>
            <a:ahLst/>
            <a:rect l="l" t="t" r="r" b="b"/>
            <a:pathLst>
              <a:path w="2233" h="969">
                <a:moveTo>
                  <a:pt x="14139" y="8533"/>
                </a:moveTo>
                <a:cubicBezTo>
                  <a:pt x="14146" y="8629"/>
                  <a:pt x="14163" y="8709"/>
                  <a:pt x="14163" y="8806"/>
                </a:cubicBezTo>
                <a:cubicBezTo>
                  <a:pt x="14163" y="8937"/>
                  <a:pt x="14188" y="9046"/>
                  <a:pt x="14188" y="9178"/>
                </a:cubicBezTo>
                <a:cubicBezTo>
                  <a:pt x="14188" y="9264"/>
                  <a:pt x="14188" y="9508"/>
                  <a:pt x="14213" y="9426"/>
                </a:cubicBezTo>
                <a:cubicBezTo>
                  <a:pt x="14213" y="9401"/>
                  <a:pt x="14213" y="9376"/>
                  <a:pt x="14213" y="9351"/>
                </a:cubicBezTo>
              </a:path>
              <a:path w="2233" h="969">
                <a:moveTo>
                  <a:pt x="14412" y="8632"/>
                </a:moveTo>
                <a:cubicBezTo>
                  <a:pt x="14455" y="8583"/>
                  <a:pt x="14508" y="8496"/>
                  <a:pt x="14585" y="8508"/>
                </a:cubicBezTo>
                <a:cubicBezTo>
                  <a:pt x="14643" y="8517"/>
                  <a:pt x="14735" y="8607"/>
                  <a:pt x="14759" y="8657"/>
                </a:cubicBezTo>
                <a:cubicBezTo>
                  <a:pt x="14809" y="8760"/>
                  <a:pt x="14824" y="8891"/>
                  <a:pt x="14808" y="9004"/>
                </a:cubicBezTo>
                <a:cubicBezTo>
                  <a:pt x="14795" y="9096"/>
                  <a:pt x="14790" y="9170"/>
                  <a:pt x="14709" y="9227"/>
                </a:cubicBezTo>
                <a:cubicBezTo>
                  <a:pt x="14682" y="9246"/>
                  <a:pt x="14570" y="9306"/>
                  <a:pt x="14536" y="9302"/>
                </a:cubicBezTo>
                <a:cubicBezTo>
                  <a:pt x="14493" y="9297"/>
                  <a:pt x="14444" y="9253"/>
                  <a:pt x="14412" y="9227"/>
                </a:cubicBezTo>
                <a:cubicBezTo>
                  <a:pt x="14501" y="9149"/>
                  <a:pt x="14566" y="9141"/>
                  <a:pt x="14684" y="9178"/>
                </a:cubicBezTo>
                <a:cubicBezTo>
                  <a:pt x="14770" y="9205"/>
                  <a:pt x="14889" y="9246"/>
                  <a:pt x="14957" y="9302"/>
                </a:cubicBezTo>
                <a:cubicBezTo>
                  <a:pt x="15028" y="9360"/>
                  <a:pt x="15064" y="9312"/>
                  <a:pt x="15106" y="9252"/>
                </a:cubicBezTo>
              </a:path>
              <a:path w="2233" h="969">
                <a:moveTo>
                  <a:pt x="15652" y="8607"/>
                </a:moveTo>
                <a:cubicBezTo>
                  <a:pt x="15534" y="8590"/>
                  <a:pt x="15439" y="8570"/>
                  <a:pt x="15329" y="8607"/>
                </a:cubicBezTo>
                <a:cubicBezTo>
                  <a:pt x="15286" y="8621"/>
                  <a:pt x="15176" y="8669"/>
                  <a:pt x="15180" y="8731"/>
                </a:cubicBezTo>
                <a:cubicBezTo>
                  <a:pt x="15185" y="8811"/>
                  <a:pt x="15252" y="8894"/>
                  <a:pt x="15304" y="8954"/>
                </a:cubicBezTo>
                <a:cubicBezTo>
                  <a:pt x="15377" y="9039"/>
                  <a:pt x="15432" y="9170"/>
                  <a:pt x="15478" y="9277"/>
                </a:cubicBezTo>
                <a:cubicBezTo>
                  <a:pt x="15498" y="9337"/>
                  <a:pt x="15517" y="9352"/>
                  <a:pt x="15478" y="9376"/>
                </a:cubicBezTo>
                <a:cubicBezTo>
                  <a:pt x="15407" y="9369"/>
                  <a:pt x="15349" y="9364"/>
                  <a:pt x="15329" y="9277"/>
                </a:cubicBezTo>
                <a:cubicBezTo>
                  <a:pt x="15313" y="9211"/>
                  <a:pt x="15310" y="9174"/>
                  <a:pt x="15329" y="9103"/>
                </a:cubicBezTo>
                <a:cubicBezTo>
                  <a:pt x="15360" y="8986"/>
                  <a:pt x="15508" y="8842"/>
                  <a:pt x="15602" y="8756"/>
                </a:cubicBezTo>
                <a:cubicBezTo>
                  <a:pt x="15627" y="8739"/>
                  <a:pt x="15652" y="8723"/>
                  <a:pt x="15677" y="8706"/>
                </a:cubicBezTo>
              </a:path>
              <a:path w="2233" h="969">
                <a:moveTo>
                  <a:pt x="16197" y="8582"/>
                </a:moveTo>
                <a:cubicBezTo>
                  <a:pt x="16164" y="8629"/>
                  <a:pt x="16125" y="8673"/>
                  <a:pt x="16073" y="8706"/>
                </a:cubicBezTo>
                <a:cubicBezTo>
                  <a:pt x="15959" y="8780"/>
                  <a:pt x="15950" y="8817"/>
                  <a:pt x="16024" y="8930"/>
                </a:cubicBezTo>
                <a:cubicBezTo>
                  <a:pt x="16130" y="9092"/>
                  <a:pt x="16230" y="9195"/>
                  <a:pt x="16321" y="9351"/>
                </a:cubicBezTo>
                <a:cubicBezTo>
                  <a:pt x="16351" y="9402"/>
                  <a:pt x="16352" y="9400"/>
                  <a:pt x="16321" y="9451"/>
                </a:cubicBezTo>
                <a:cubicBezTo>
                  <a:pt x="16212" y="9409"/>
                  <a:pt x="16158" y="9401"/>
                  <a:pt x="16123" y="9302"/>
                </a:cubicBezTo>
                <a:cubicBezTo>
                  <a:pt x="16089" y="9206"/>
                  <a:pt x="16062" y="9135"/>
                  <a:pt x="16098" y="9029"/>
                </a:cubicBezTo>
                <a:cubicBezTo>
                  <a:pt x="16119" y="8968"/>
                  <a:pt x="16195" y="8870"/>
                  <a:pt x="16247" y="8830"/>
                </a:cubicBezTo>
                <a:cubicBezTo>
                  <a:pt x="16319" y="8775"/>
                  <a:pt x="16316" y="8742"/>
                  <a:pt x="16346" y="8657"/>
                </a:cubicBezTo>
                <a:cubicBezTo>
                  <a:pt x="16373" y="8579"/>
                  <a:pt x="16380" y="8550"/>
                  <a:pt x="16346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Unit%20Circle%20Blank"/>
          <p:cNvPicPr/>
          <p:nvPr/>
        </p:nvPicPr>
        <p:blipFill>
          <a:blip r:embed="rId1"/>
          <a:stretch/>
        </p:blipFill>
        <p:spPr>
          <a:xfrm>
            <a:off x="685800" y="-1523880"/>
            <a:ext cx="7753320" cy="8985240"/>
          </a:xfrm>
          <a:prstGeom prst="rect">
            <a:avLst/>
          </a:prstGeom>
          <a:ln w="0">
            <a:noFill/>
          </a:ln>
        </p:spPr>
      </p:pic>
      <p:sp>
        <p:nvSpPr>
          <p:cNvPr id="124" name="Ink 5"/>
          <p:cNvSpPr/>
          <p:nvPr/>
        </p:nvSpPr>
        <p:spPr>
          <a:xfrm>
            <a:off x="6143760" y="177840"/>
            <a:ext cx="500040" cy="420480"/>
          </a:xfrm>
          <a:custGeom>
            <a:avLst/>
            <a:gdLst/>
            <a:ahLst/>
            <a:rect l="l" t="t" r="r" b="b"/>
            <a:pathLst>
              <a:path w="1390" h="1167">
                <a:moveTo>
                  <a:pt x="17066" y="1389"/>
                </a:moveTo>
                <a:cubicBezTo>
                  <a:pt x="17118" y="1336"/>
                  <a:pt x="17141" y="1294"/>
                  <a:pt x="17214" y="1290"/>
                </a:cubicBezTo>
                <a:cubicBezTo>
                  <a:pt x="17291" y="1285"/>
                  <a:pt x="17317" y="1330"/>
                  <a:pt x="17289" y="1389"/>
                </a:cubicBezTo>
                <a:cubicBezTo>
                  <a:pt x="17262" y="1447"/>
                  <a:pt x="17219" y="1482"/>
                  <a:pt x="17190" y="1538"/>
                </a:cubicBezTo>
                <a:cubicBezTo>
                  <a:pt x="17166" y="1583"/>
                  <a:pt x="17150" y="1602"/>
                  <a:pt x="17115" y="1637"/>
                </a:cubicBezTo>
                <a:cubicBezTo>
                  <a:pt x="17198" y="1637"/>
                  <a:pt x="17280" y="1637"/>
                  <a:pt x="17363" y="1637"/>
                </a:cubicBezTo>
              </a:path>
              <a:path w="1390" h="1167">
                <a:moveTo>
                  <a:pt x="17959" y="1364"/>
                </a:moveTo>
                <a:cubicBezTo>
                  <a:pt x="18008" y="1314"/>
                  <a:pt x="18059" y="1300"/>
                  <a:pt x="18132" y="1290"/>
                </a:cubicBezTo>
                <a:cubicBezTo>
                  <a:pt x="18176" y="1284"/>
                  <a:pt x="18264" y="1281"/>
                  <a:pt x="18281" y="1339"/>
                </a:cubicBezTo>
                <a:cubicBezTo>
                  <a:pt x="18299" y="1402"/>
                  <a:pt x="18220" y="1450"/>
                  <a:pt x="18182" y="1488"/>
                </a:cubicBezTo>
                <a:cubicBezTo>
                  <a:pt x="18142" y="1528"/>
                  <a:pt x="18120" y="1571"/>
                  <a:pt x="18083" y="1612"/>
                </a:cubicBezTo>
                <a:cubicBezTo>
                  <a:pt x="18058" y="1637"/>
                  <a:pt x="18050" y="1645"/>
                  <a:pt x="18033" y="1662"/>
                </a:cubicBezTo>
                <a:cubicBezTo>
                  <a:pt x="18105" y="1662"/>
                  <a:pt x="18142" y="1641"/>
                  <a:pt x="18207" y="1637"/>
                </a:cubicBezTo>
                <a:cubicBezTo>
                  <a:pt x="18268" y="1633"/>
                  <a:pt x="18354" y="1557"/>
                  <a:pt x="18380" y="1612"/>
                </a:cubicBezTo>
                <a:cubicBezTo>
                  <a:pt x="18372" y="1620"/>
                  <a:pt x="18363" y="1629"/>
                  <a:pt x="18355" y="1637"/>
                </a:cubicBezTo>
              </a:path>
              <a:path w="1390" h="1167">
                <a:moveTo>
                  <a:pt x="17140" y="670"/>
                </a:moveTo>
                <a:cubicBezTo>
                  <a:pt x="17173" y="725"/>
                  <a:pt x="17165" y="775"/>
                  <a:pt x="17165" y="843"/>
                </a:cubicBezTo>
                <a:cubicBezTo>
                  <a:pt x="17165" y="915"/>
                  <a:pt x="17192" y="1034"/>
                  <a:pt x="17140" y="1017"/>
                </a:cubicBezTo>
              </a:path>
              <a:path w="1390" h="1167">
                <a:moveTo>
                  <a:pt x="18033" y="719"/>
                </a:moveTo>
                <a:cubicBezTo>
                  <a:pt x="18089" y="692"/>
                  <a:pt x="18166" y="630"/>
                  <a:pt x="18231" y="645"/>
                </a:cubicBezTo>
                <a:cubicBezTo>
                  <a:pt x="18248" y="653"/>
                  <a:pt x="18264" y="662"/>
                  <a:pt x="18281" y="670"/>
                </a:cubicBezTo>
                <a:cubicBezTo>
                  <a:pt x="18243" y="755"/>
                  <a:pt x="18223" y="784"/>
                  <a:pt x="18157" y="843"/>
                </a:cubicBezTo>
                <a:cubicBezTo>
                  <a:pt x="18131" y="866"/>
                  <a:pt x="18107" y="893"/>
                  <a:pt x="18083" y="918"/>
                </a:cubicBezTo>
                <a:cubicBezTo>
                  <a:pt x="18154" y="859"/>
                  <a:pt x="18200" y="866"/>
                  <a:pt x="18281" y="918"/>
                </a:cubicBezTo>
                <a:cubicBezTo>
                  <a:pt x="18342" y="958"/>
                  <a:pt x="18335" y="989"/>
                  <a:pt x="18306" y="1042"/>
                </a:cubicBezTo>
                <a:cubicBezTo>
                  <a:pt x="18272" y="1105"/>
                  <a:pt x="18219" y="1099"/>
                  <a:pt x="18157" y="1141"/>
                </a:cubicBezTo>
                <a:cubicBezTo>
                  <a:pt x="18079" y="1119"/>
                  <a:pt x="18061" y="1091"/>
                  <a:pt x="17959" y="1091"/>
                </a:cubicBezTo>
                <a:cubicBezTo>
                  <a:pt x="17951" y="1091"/>
                  <a:pt x="17942" y="1091"/>
                  <a:pt x="17934" y="1091"/>
                </a:cubicBezTo>
              </a:path>
              <a:path w="1390" h="1167">
                <a:moveTo>
                  <a:pt x="17909" y="719"/>
                </a:moveTo>
                <a:cubicBezTo>
                  <a:pt x="17909" y="860"/>
                  <a:pt x="17909" y="1000"/>
                  <a:pt x="17909" y="1141"/>
                </a:cubicBezTo>
                <a:cubicBezTo>
                  <a:pt x="17901" y="1047"/>
                  <a:pt x="17884" y="963"/>
                  <a:pt x="17884" y="868"/>
                </a:cubicBezTo>
                <a:cubicBezTo>
                  <a:pt x="17884" y="760"/>
                  <a:pt x="17855" y="586"/>
                  <a:pt x="17909" y="496"/>
                </a:cubicBezTo>
                <a:cubicBezTo>
                  <a:pt x="17979" y="505"/>
                  <a:pt x="18034" y="521"/>
                  <a:pt x="18107" y="521"/>
                </a:cubicBezTo>
                <a:cubicBezTo>
                  <a:pt x="18223" y="521"/>
                  <a:pt x="18339" y="521"/>
                  <a:pt x="18455" y="5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6"/>
          <p:cNvSpPr/>
          <p:nvPr/>
        </p:nvSpPr>
        <p:spPr>
          <a:xfrm>
            <a:off x="6732720" y="677880"/>
            <a:ext cx="688680" cy="438120"/>
          </a:xfrm>
          <a:custGeom>
            <a:avLst/>
            <a:gdLst/>
            <a:ahLst/>
            <a:rect l="l" t="t" r="r" b="b"/>
            <a:pathLst>
              <a:path w="1911" h="1217">
                <a:moveTo>
                  <a:pt x="18901" y="2803"/>
                </a:moveTo>
                <a:cubicBezTo>
                  <a:pt x="18956" y="2726"/>
                  <a:pt x="18980" y="2729"/>
                  <a:pt x="19075" y="2729"/>
                </a:cubicBezTo>
                <a:cubicBezTo>
                  <a:pt x="19130" y="2729"/>
                  <a:pt x="19255" y="2734"/>
                  <a:pt x="19224" y="2828"/>
                </a:cubicBezTo>
                <a:cubicBezTo>
                  <a:pt x="19200" y="2899"/>
                  <a:pt x="19127" y="2908"/>
                  <a:pt x="19075" y="2952"/>
                </a:cubicBezTo>
                <a:cubicBezTo>
                  <a:pt x="19028" y="2992"/>
                  <a:pt x="19001" y="3036"/>
                  <a:pt x="18951" y="3076"/>
                </a:cubicBezTo>
                <a:cubicBezTo>
                  <a:pt x="19036" y="3076"/>
                  <a:pt x="19096" y="3064"/>
                  <a:pt x="19174" y="3051"/>
                </a:cubicBezTo>
                <a:cubicBezTo>
                  <a:pt x="19215" y="3051"/>
                  <a:pt x="19223" y="3051"/>
                  <a:pt x="19248" y="3051"/>
                </a:cubicBezTo>
              </a:path>
              <a:path w="1911" h="1217">
                <a:moveTo>
                  <a:pt x="19968" y="2778"/>
                </a:moveTo>
                <a:cubicBezTo>
                  <a:pt x="20026" y="2710"/>
                  <a:pt x="20069" y="2729"/>
                  <a:pt x="20166" y="2729"/>
                </a:cubicBezTo>
                <a:cubicBezTo>
                  <a:pt x="20265" y="2729"/>
                  <a:pt x="20260" y="2801"/>
                  <a:pt x="20216" y="2877"/>
                </a:cubicBezTo>
                <a:cubicBezTo>
                  <a:pt x="20182" y="2937"/>
                  <a:pt x="20138" y="2929"/>
                  <a:pt x="20092" y="2952"/>
                </a:cubicBezTo>
                <a:cubicBezTo>
                  <a:pt x="20030" y="2983"/>
                  <a:pt x="20042" y="3043"/>
                  <a:pt x="20042" y="3101"/>
                </a:cubicBezTo>
                <a:cubicBezTo>
                  <a:pt x="20178" y="3101"/>
                  <a:pt x="20556" y="3145"/>
                  <a:pt x="20439" y="3076"/>
                </a:cubicBezTo>
                <a:cubicBezTo>
                  <a:pt x="20422" y="3076"/>
                  <a:pt x="20406" y="3076"/>
                  <a:pt x="20389" y="3076"/>
                </a:cubicBezTo>
              </a:path>
              <a:path w="1911" h="1217">
                <a:moveTo>
                  <a:pt x="18752" y="2183"/>
                </a:moveTo>
                <a:cubicBezTo>
                  <a:pt x="18793" y="2142"/>
                  <a:pt x="18831" y="2118"/>
                  <a:pt x="18876" y="2084"/>
                </a:cubicBezTo>
                <a:cubicBezTo>
                  <a:pt x="18952" y="2027"/>
                  <a:pt x="18992" y="2028"/>
                  <a:pt x="19075" y="2059"/>
                </a:cubicBezTo>
                <a:cubicBezTo>
                  <a:pt x="19052" y="2122"/>
                  <a:pt x="19026" y="2203"/>
                  <a:pt x="19000" y="2257"/>
                </a:cubicBezTo>
                <a:cubicBezTo>
                  <a:pt x="18983" y="2292"/>
                  <a:pt x="18925" y="2350"/>
                  <a:pt x="18901" y="2381"/>
                </a:cubicBezTo>
                <a:cubicBezTo>
                  <a:pt x="18876" y="2406"/>
                  <a:pt x="18868" y="2414"/>
                  <a:pt x="18852" y="2431"/>
                </a:cubicBezTo>
                <a:cubicBezTo>
                  <a:pt x="18897" y="2454"/>
                  <a:pt x="18975" y="2409"/>
                  <a:pt x="19050" y="2406"/>
                </a:cubicBezTo>
                <a:cubicBezTo>
                  <a:pt x="19100" y="2406"/>
                  <a:pt x="19116" y="2406"/>
                  <a:pt x="19149" y="2406"/>
                </a:cubicBezTo>
              </a:path>
              <a:path w="1911" h="1217">
                <a:moveTo>
                  <a:pt x="20042" y="2084"/>
                </a:moveTo>
                <a:cubicBezTo>
                  <a:pt x="20077" y="2063"/>
                  <a:pt x="20181" y="2027"/>
                  <a:pt x="20216" y="2084"/>
                </a:cubicBezTo>
                <a:cubicBezTo>
                  <a:pt x="20249" y="2138"/>
                  <a:pt x="20194" y="2263"/>
                  <a:pt x="20166" y="2307"/>
                </a:cubicBezTo>
                <a:cubicBezTo>
                  <a:pt x="20132" y="2359"/>
                  <a:pt x="20097" y="2373"/>
                  <a:pt x="20042" y="2381"/>
                </a:cubicBezTo>
                <a:cubicBezTo>
                  <a:pt x="20123" y="2416"/>
                  <a:pt x="20220" y="2406"/>
                  <a:pt x="20315" y="2406"/>
                </a:cubicBezTo>
                <a:cubicBezTo>
                  <a:pt x="20405" y="2406"/>
                  <a:pt x="20404" y="2376"/>
                  <a:pt x="20389" y="2406"/>
                </a:cubicBezTo>
              </a:path>
              <a:path w="1911" h="1217">
                <a:moveTo>
                  <a:pt x="18728" y="2059"/>
                </a:moveTo>
                <a:cubicBezTo>
                  <a:pt x="18718" y="2138"/>
                  <a:pt x="18703" y="2198"/>
                  <a:pt x="18703" y="2282"/>
                </a:cubicBezTo>
                <a:cubicBezTo>
                  <a:pt x="18703" y="2348"/>
                  <a:pt x="18703" y="2414"/>
                  <a:pt x="18703" y="2480"/>
                </a:cubicBezTo>
                <a:cubicBezTo>
                  <a:pt x="18745" y="2502"/>
                  <a:pt x="18703" y="2426"/>
                  <a:pt x="18703" y="2356"/>
                </a:cubicBezTo>
                <a:cubicBezTo>
                  <a:pt x="18703" y="2246"/>
                  <a:pt x="18681" y="2111"/>
                  <a:pt x="18728" y="2009"/>
                </a:cubicBezTo>
                <a:cubicBezTo>
                  <a:pt x="18757" y="1947"/>
                  <a:pt x="18786" y="1914"/>
                  <a:pt x="18852" y="1910"/>
                </a:cubicBezTo>
                <a:cubicBezTo>
                  <a:pt x="18987" y="1902"/>
                  <a:pt x="19113" y="1900"/>
                  <a:pt x="19248" y="1885"/>
                </a:cubicBezTo>
                <a:cubicBezTo>
                  <a:pt x="19296" y="1880"/>
                  <a:pt x="19349" y="1885"/>
                  <a:pt x="19397" y="1885"/>
                </a:cubicBezTo>
              </a:path>
              <a:path w="1911" h="1217">
                <a:moveTo>
                  <a:pt x="19968" y="2034"/>
                </a:moveTo>
                <a:cubicBezTo>
                  <a:pt x="19968" y="2156"/>
                  <a:pt x="19975" y="2245"/>
                  <a:pt x="19993" y="2356"/>
                </a:cubicBezTo>
                <a:cubicBezTo>
                  <a:pt x="19993" y="2415"/>
                  <a:pt x="19996" y="2441"/>
                  <a:pt x="20017" y="2480"/>
                </a:cubicBezTo>
                <a:cubicBezTo>
                  <a:pt x="20009" y="2400"/>
                  <a:pt x="19993" y="2342"/>
                  <a:pt x="19993" y="2257"/>
                </a:cubicBezTo>
                <a:cubicBezTo>
                  <a:pt x="19993" y="2188"/>
                  <a:pt x="19968" y="2139"/>
                  <a:pt x="19968" y="2059"/>
                </a:cubicBezTo>
                <a:cubicBezTo>
                  <a:pt x="19968" y="2009"/>
                  <a:pt x="19968" y="1993"/>
                  <a:pt x="19968" y="1960"/>
                </a:cubicBezTo>
                <a:cubicBezTo>
                  <a:pt x="20121" y="1960"/>
                  <a:pt x="20504" y="1891"/>
                  <a:pt x="20613" y="1935"/>
                </a:cubicBezTo>
                <a:cubicBezTo>
                  <a:pt x="20613" y="1943"/>
                  <a:pt x="20613" y="1952"/>
                  <a:pt x="20613" y="19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7"/>
          <p:cNvSpPr/>
          <p:nvPr/>
        </p:nvSpPr>
        <p:spPr>
          <a:xfrm>
            <a:off x="7180200" y="1312920"/>
            <a:ext cx="571680" cy="428400"/>
          </a:xfrm>
          <a:custGeom>
            <a:avLst/>
            <a:gdLst/>
            <a:ahLst/>
            <a:rect l="l" t="t" r="r" b="b"/>
            <a:pathLst>
              <a:path w="1588" h="1192">
                <a:moveTo>
                  <a:pt x="20092" y="4490"/>
                </a:moveTo>
                <a:cubicBezTo>
                  <a:pt x="20134" y="4456"/>
                  <a:pt x="20195" y="4424"/>
                  <a:pt x="20241" y="4415"/>
                </a:cubicBezTo>
                <a:cubicBezTo>
                  <a:pt x="20287" y="4406"/>
                  <a:pt x="20393" y="4408"/>
                  <a:pt x="20414" y="4465"/>
                </a:cubicBezTo>
                <a:cubicBezTo>
                  <a:pt x="20443" y="4546"/>
                  <a:pt x="20362" y="4579"/>
                  <a:pt x="20315" y="4614"/>
                </a:cubicBezTo>
                <a:cubicBezTo>
                  <a:pt x="20275" y="4643"/>
                  <a:pt x="20198" y="4707"/>
                  <a:pt x="20216" y="4762"/>
                </a:cubicBezTo>
                <a:cubicBezTo>
                  <a:pt x="20233" y="4814"/>
                  <a:pt x="20369" y="4787"/>
                  <a:pt x="20414" y="4787"/>
                </a:cubicBezTo>
                <a:cubicBezTo>
                  <a:pt x="20455" y="4787"/>
                  <a:pt x="20497" y="4787"/>
                  <a:pt x="20538" y="4787"/>
                </a:cubicBezTo>
              </a:path>
              <a:path w="1588" h="1192">
                <a:moveTo>
                  <a:pt x="21059" y="4514"/>
                </a:moveTo>
                <a:cubicBezTo>
                  <a:pt x="21090" y="4461"/>
                  <a:pt x="21125" y="4421"/>
                  <a:pt x="21183" y="4415"/>
                </a:cubicBezTo>
                <a:cubicBezTo>
                  <a:pt x="21245" y="4409"/>
                  <a:pt x="21424" y="4407"/>
                  <a:pt x="21406" y="4514"/>
                </a:cubicBezTo>
                <a:cubicBezTo>
                  <a:pt x="21398" y="4563"/>
                  <a:pt x="21319" y="4637"/>
                  <a:pt x="21282" y="4663"/>
                </a:cubicBezTo>
                <a:cubicBezTo>
                  <a:pt x="21215" y="4710"/>
                  <a:pt x="21195" y="4705"/>
                  <a:pt x="21183" y="4787"/>
                </a:cubicBezTo>
                <a:cubicBezTo>
                  <a:pt x="21251" y="4828"/>
                  <a:pt x="21304" y="4793"/>
                  <a:pt x="21382" y="4812"/>
                </a:cubicBezTo>
                <a:cubicBezTo>
                  <a:pt x="21438" y="4826"/>
                  <a:pt x="21526" y="4828"/>
                  <a:pt x="21530" y="4837"/>
                </a:cubicBezTo>
              </a:path>
              <a:path w="1588" h="1192">
                <a:moveTo>
                  <a:pt x="20042" y="3894"/>
                </a:moveTo>
                <a:cubicBezTo>
                  <a:pt x="20104" y="3864"/>
                  <a:pt x="20167" y="3870"/>
                  <a:pt x="20241" y="3870"/>
                </a:cubicBezTo>
                <a:cubicBezTo>
                  <a:pt x="20316" y="3870"/>
                  <a:pt x="20337" y="3866"/>
                  <a:pt x="20389" y="3919"/>
                </a:cubicBezTo>
                <a:cubicBezTo>
                  <a:pt x="20471" y="4002"/>
                  <a:pt x="20328" y="4024"/>
                  <a:pt x="20290" y="4043"/>
                </a:cubicBezTo>
                <a:cubicBezTo>
                  <a:pt x="20265" y="4056"/>
                  <a:pt x="20236" y="4098"/>
                  <a:pt x="20216" y="4118"/>
                </a:cubicBezTo>
                <a:cubicBezTo>
                  <a:pt x="20267" y="4056"/>
                  <a:pt x="20324" y="4029"/>
                  <a:pt x="20414" y="4068"/>
                </a:cubicBezTo>
                <a:cubicBezTo>
                  <a:pt x="20484" y="4099"/>
                  <a:pt x="20465" y="4180"/>
                  <a:pt x="20414" y="4217"/>
                </a:cubicBezTo>
                <a:cubicBezTo>
                  <a:pt x="20370" y="4249"/>
                  <a:pt x="20244" y="4263"/>
                  <a:pt x="20191" y="4242"/>
                </a:cubicBezTo>
                <a:cubicBezTo>
                  <a:pt x="20156" y="4229"/>
                  <a:pt x="20125" y="4212"/>
                  <a:pt x="20092" y="4192"/>
                </a:cubicBezTo>
              </a:path>
              <a:path w="1588" h="1192">
                <a:moveTo>
                  <a:pt x="21158" y="3746"/>
                </a:moveTo>
                <a:cubicBezTo>
                  <a:pt x="21194" y="3805"/>
                  <a:pt x="21183" y="3870"/>
                  <a:pt x="21183" y="3944"/>
                </a:cubicBezTo>
                <a:cubicBezTo>
                  <a:pt x="21183" y="4027"/>
                  <a:pt x="21183" y="4109"/>
                  <a:pt x="21183" y="4192"/>
                </a:cubicBezTo>
              </a:path>
              <a:path w="1588" h="1192">
                <a:moveTo>
                  <a:pt x="19943" y="3870"/>
                </a:moveTo>
                <a:cubicBezTo>
                  <a:pt x="19977" y="3959"/>
                  <a:pt x="19948" y="4025"/>
                  <a:pt x="19968" y="4118"/>
                </a:cubicBezTo>
                <a:cubicBezTo>
                  <a:pt x="19983" y="4188"/>
                  <a:pt x="19993" y="4240"/>
                  <a:pt x="19993" y="4316"/>
                </a:cubicBezTo>
                <a:cubicBezTo>
                  <a:pt x="20028" y="4256"/>
                  <a:pt x="20017" y="4191"/>
                  <a:pt x="20017" y="4118"/>
                </a:cubicBezTo>
                <a:cubicBezTo>
                  <a:pt x="20017" y="4013"/>
                  <a:pt x="20028" y="3922"/>
                  <a:pt x="20042" y="3820"/>
                </a:cubicBezTo>
                <a:cubicBezTo>
                  <a:pt x="20053" y="3737"/>
                  <a:pt x="20050" y="3720"/>
                  <a:pt x="20092" y="3646"/>
                </a:cubicBezTo>
                <a:cubicBezTo>
                  <a:pt x="20176" y="3674"/>
                  <a:pt x="20249" y="3671"/>
                  <a:pt x="20340" y="3671"/>
                </a:cubicBezTo>
                <a:cubicBezTo>
                  <a:pt x="20431" y="3671"/>
                  <a:pt x="20522" y="3671"/>
                  <a:pt x="20613" y="36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8"/>
          <p:cNvSpPr/>
          <p:nvPr/>
        </p:nvSpPr>
        <p:spPr>
          <a:xfrm>
            <a:off x="7099200" y="2840040"/>
            <a:ext cx="1133640" cy="544680"/>
          </a:xfrm>
          <a:custGeom>
            <a:avLst/>
            <a:gdLst/>
            <a:ahLst/>
            <a:rect l="l" t="t" r="r" b="b"/>
            <a:pathLst>
              <a:path w="3151" h="1514">
                <a:moveTo>
                  <a:pt x="21431" y="8086"/>
                </a:moveTo>
                <a:cubicBezTo>
                  <a:pt x="21431" y="8293"/>
                  <a:pt x="21431" y="8499"/>
                  <a:pt x="21431" y="8706"/>
                </a:cubicBezTo>
              </a:path>
              <a:path w="3151" h="1514">
                <a:moveTo>
                  <a:pt x="22597" y="8111"/>
                </a:moveTo>
                <a:cubicBezTo>
                  <a:pt x="22568" y="8160"/>
                  <a:pt x="22552" y="8204"/>
                  <a:pt x="22523" y="8260"/>
                </a:cubicBezTo>
                <a:cubicBezTo>
                  <a:pt x="22492" y="8319"/>
                  <a:pt x="22474" y="8379"/>
                  <a:pt x="22448" y="8434"/>
                </a:cubicBezTo>
                <a:cubicBezTo>
                  <a:pt x="22416" y="8502"/>
                  <a:pt x="22435" y="8518"/>
                  <a:pt x="22448" y="8582"/>
                </a:cubicBezTo>
                <a:cubicBezTo>
                  <a:pt x="22460" y="8644"/>
                  <a:pt x="22516" y="8700"/>
                  <a:pt x="22597" y="8682"/>
                </a:cubicBezTo>
                <a:cubicBezTo>
                  <a:pt x="22649" y="8670"/>
                  <a:pt x="22736" y="8655"/>
                  <a:pt x="22771" y="8607"/>
                </a:cubicBezTo>
                <a:cubicBezTo>
                  <a:pt x="22815" y="8546"/>
                  <a:pt x="22823" y="8471"/>
                  <a:pt x="22845" y="8409"/>
                </a:cubicBezTo>
                <a:cubicBezTo>
                  <a:pt x="22870" y="8338"/>
                  <a:pt x="22843" y="8277"/>
                  <a:pt x="22796" y="8210"/>
                </a:cubicBezTo>
                <a:cubicBezTo>
                  <a:pt x="22752" y="8147"/>
                  <a:pt x="22746" y="8122"/>
                  <a:pt x="22671" y="8111"/>
                </a:cubicBezTo>
              </a:path>
              <a:path w="3151" h="1514">
                <a:moveTo>
                  <a:pt x="19893" y="7913"/>
                </a:moveTo>
                <a:cubicBezTo>
                  <a:pt x="19854" y="7962"/>
                  <a:pt x="19806" y="7994"/>
                  <a:pt x="19769" y="8037"/>
                </a:cubicBezTo>
                <a:cubicBezTo>
                  <a:pt x="19705" y="8112"/>
                  <a:pt x="19732" y="8157"/>
                  <a:pt x="19745" y="8235"/>
                </a:cubicBezTo>
                <a:cubicBezTo>
                  <a:pt x="19763" y="8343"/>
                  <a:pt x="19785" y="8325"/>
                  <a:pt x="19869" y="8384"/>
                </a:cubicBezTo>
                <a:cubicBezTo>
                  <a:pt x="19922" y="8421"/>
                  <a:pt x="19977" y="8448"/>
                  <a:pt x="20042" y="8458"/>
                </a:cubicBezTo>
                <a:cubicBezTo>
                  <a:pt x="20092" y="8466"/>
                  <a:pt x="20181" y="8439"/>
                  <a:pt x="20216" y="8409"/>
                </a:cubicBezTo>
                <a:cubicBezTo>
                  <a:pt x="20284" y="8350"/>
                  <a:pt x="20314" y="8250"/>
                  <a:pt x="20290" y="8161"/>
                </a:cubicBezTo>
                <a:cubicBezTo>
                  <a:pt x="20271" y="8088"/>
                  <a:pt x="20217" y="8038"/>
                  <a:pt x="20166" y="7987"/>
                </a:cubicBezTo>
                <a:cubicBezTo>
                  <a:pt x="20095" y="7916"/>
                  <a:pt x="20072" y="7891"/>
                  <a:pt x="19968" y="7888"/>
                </a:cubicBezTo>
                <a:cubicBezTo>
                  <a:pt x="19884" y="7885"/>
                  <a:pt x="19833" y="7900"/>
                  <a:pt x="19769" y="7938"/>
                </a:cubicBezTo>
              </a:path>
              <a:path w="3151" h="1514">
                <a:moveTo>
                  <a:pt x="19968" y="9029"/>
                </a:moveTo>
                <a:cubicBezTo>
                  <a:pt x="19985" y="8998"/>
                  <a:pt x="20026" y="8917"/>
                  <a:pt x="20067" y="8905"/>
                </a:cubicBezTo>
                <a:cubicBezTo>
                  <a:pt x="20134" y="8886"/>
                  <a:pt x="20172" y="8911"/>
                  <a:pt x="20216" y="8954"/>
                </a:cubicBezTo>
                <a:cubicBezTo>
                  <a:pt x="20262" y="8999"/>
                  <a:pt x="20282" y="9089"/>
                  <a:pt x="20265" y="9153"/>
                </a:cubicBezTo>
                <a:cubicBezTo>
                  <a:pt x="20253" y="9198"/>
                  <a:pt x="20180" y="9328"/>
                  <a:pt x="20141" y="9351"/>
                </a:cubicBezTo>
                <a:cubicBezTo>
                  <a:pt x="20098" y="9376"/>
                  <a:pt x="19992" y="9311"/>
                  <a:pt x="19968" y="9277"/>
                </a:cubicBezTo>
                <a:cubicBezTo>
                  <a:pt x="19960" y="9260"/>
                  <a:pt x="19951" y="9244"/>
                  <a:pt x="19943" y="9227"/>
                </a:cubicBezTo>
                <a:cubicBezTo>
                  <a:pt x="19995" y="9165"/>
                  <a:pt x="20018" y="9164"/>
                  <a:pt x="20092" y="9203"/>
                </a:cubicBezTo>
                <a:cubicBezTo>
                  <a:pt x="20167" y="9243"/>
                  <a:pt x="20251" y="9271"/>
                  <a:pt x="20315" y="9327"/>
                </a:cubicBezTo>
                <a:cubicBezTo>
                  <a:pt x="20382" y="9386"/>
                  <a:pt x="20395" y="9345"/>
                  <a:pt x="20439" y="9302"/>
                </a:cubicBezTo>
              </a:path>
              <a:path w="3151" h="1514">
                <a:moveTo>
                  <a:pt x="20414" y="8954"/>
                </a:moveTo>
                <a:cubicBezTo>
                  <a:pt x="20479" y="8930"/>
                  <a:pt x="20566" y="8913"/>
                  <a:pt x="20638" y="8930"/>
                </a:cubicBezTo>
                <a:cubicBezTo>
                  <a:pt x="20706" y="8946"/>
                  <a:pt x="20701" y="8965"/>
                  <a:pt x="20762" y="8930"/>
                </a:cubicBezTo>
              </a:path>
              <a:path w="3151" h="1514">
                <a:moveTo>
                  <a:pt x="20588" y="8954"/>
                </a:moveTo>
                <a:cubicBezTo>
                  <a:pt x="20546" y="9032"/>
                  <a:pt x="20513" y="9107"/>
                  <a:pt x="20538" y="9203"/>
                </a:cubicBezTo>
                <a:cubicBezTo>
                  <a:pt x="20560" y="9246"/>
                  <a:pt x="20564" y="9258"/>
                  <a:pt x="20588" y="9277"/>
                </a:cubicBezTo>
              </a:path>
              <a:path w="3151" h="1514">
                <a:moveTo>
                  <a:pt x="20712" y="8954"/>
                </a:moveTo>
                <a:cubicBezTo>
                  <a:pt x="20738" y="9045"/>
                  <a:pt x="20763" y="9144"/>
                  <a:pt x="20811" y="9227"/>
                </a:cubicBezTo>
                <a:cubicBezTo>
                  <a:pt x="20851" y="9296"/>
                  <a:pt x="20855" y="9339"/>
                  <a:pt x="20886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9"/>
          <p:cNvSpPr/>
          <p:nvPr/>
        </p:nvSpPr>
        <p:spPr>
          <a:xfrm>
            <a:off x="6634080" y="1393920"/>
            <a:ext cx="322200" cy="527040"/>
          </a:xfrm>
          <a:custGeom>
            <a:avLst/>
            <a:gdLst/>
            <a:ahLst/>
            <a:rect l="l" t="t" r="r" b="b"/>
            <a:pathLst>
              <a:path w="894" h="1464">
                <a:moveTo>
                  <a:pt x="18678" y="3894"/>
                </a:moveTo>
                <a:cubicBezTo>
                  <a:pt x="18678" y="3984"/>
                  <a:pt x="18657" y="4055"/>
                  <a:pt x="18653" y="4142"/>
                </a:cubicBezTo>
                <a:cubicBezTo>
                  <a:pt x="18649" y="4217"/>
                  <a:pt x="18674" y="4270"/>
                  <a:pt x="18678" y="4341"/>
                </a:cubicBezTo>
                <a:cubicBezTo>
                  <a:pt x="18682" y="4404"/>
                  <a:pt x="18641" y="4473"/>
                  <a:pt x="18703" y="4390"/>
                </a:cubicBezTo>
              </a:path>
              <a:path w="894" h="1464">
                <a:moveTo>
                  <a:pt x="18901" y="3894"/>
                </a:moveTo>
                <a:cubicBezTo>
                  <a:pt x="18891" y="4000"/>
                  <a:pt x="18876" y="4079"/>
                  <a:pt x="18876" y="4192"/>
                </a:cubicBezTo>
                <a:cubicBezTo>
                  <a:pt x="18876" y="4262"/>
                  <a:pt x="18872" y="4353"/>
                  <a:pt x="18901" y="4415"/>
                </a:cubicBezTo>
                <a:cubicBezTo>
                  <a:pt x="18924" y="4438"/>
                  <a:pt x="18932" y="4449"/>
                  <a:pt x="18926" y="4415"/>
                </a:cubicBezTo>
              </a:path>
              <a:path w="894" h="1464">
                <a:moveTo>
                  <a:pt x="18430" y="3969"/>
                </a:moveTo>
                <a:cubicBezTo>
                  <a:pt x="18527" y="3936"/>
                  <a:pt x="18631" y="3906"/>
                  <a:pt x="18728" y="3894"/>
                </a:cubicBezTo>
                <a:cubicBezTo>
                  <a:pt x="18849" y="3879"/>
                  <a:pt x="18979" y="3874"/>
                  <a:pt x="19100" y="3870"/>
                </a:cubicBezTo>
                <a:cubicBezTo>
                  <a:pt x="19166" y="3870"/>
                  <a:pt x="19183" y="3870"/>
                  <a:pt x="19224" y="3870"/>
                </a:cubicBezTo>
              </a:path>
              <a:path w="894" h="1464">
                <a:moveTo>
                  <a:pt x="18504" y="4490"/>
                </a:moveTo>
                <a:cubicBezTo>
                  <a:pt x="18591" y="4461"/>
                  <a:pt x="18683" y="4441"/>
                  <a:pt x="18777" y="4440"/>
                </a:cubicBezTo>
                <a:cubicBezTo>
                  <a:pt x="18994" y="4437"/>
                  <a:pt x="19036" y="4430"/>
                  <a:pt x="19199" y="4415"/>
                </a:cubicBezTo>
              </a:path>
              <a:path w="894" h="1464">
                <a:moveTo>
                  <a:pt x="18951" y="4589"/>
                </a:moveTo>
                <a:cubicBezTo>
                  <a:pt x="18928" y="4699"/>
                  <a:pt x="18901" y="4758"/>
                  <a:pt x="18901" y="4862"/>
                </a:cubicBezTo>
                <a:cubicBezTo>
                  <a:pt x="18901" y="4923"/>
                  <a:pt x="18901" y="5006"/>
                  <a:pt x="18926" y="5060"/>
                </a:cubicBezTo>
                <a:cubicBezTo>
                  <a:pt x="18953" y="5118"/>
                  <a:pt x="19043" y="5145"/>
                  <a:pt x="19100" y="5135"/>
                </a:cubicBezTo>
                <a:cubicBezTo>
                  <a:pt x="19206" y="5117"/>
                  <a:pt x="19239" y="5062"/>
                  <a:pt x="19298" y="4986"/>
                </a:cubicBezTo>
                <a:cubicBezTo>
                  <a:pt x="19326" y="4958"/>
                  <a:pt x="19335" y="4944"/>
                  <a:pt x="19323" y="4911"/>
                </a:cubicBezTo>
                <a:cubicBezTo>
                  <a:pt x="19280" y="4869"/>
                  <a:pt x="19191" y="4820"/>
                  <a:pt x="19124" y="4887"/>
                </a:cubicBezTo>
                <a:cubicBezTo>
                  <a:pt x="19056" y="4955"/>
                  <a:pt x="18991" y="4998"/>
                  <a:pt x="18926" y="5085"/>
                </a:cubicBezTo>
                <a:cubicBezTo>
                  <a:pt x="18866" y="5166"/>
                  <a:pt x="18800" y="5254"/>
                  <a:pt x="18777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10"/>
          <p:cNvSpPr/>
          <p:nvPr/>
        </p:nvSpPr>
        <p:spPr>
          <a:xfrm>
            <a:off x="5769000" y="874800"/>
            <a:ext cx="625320" cy="714240"/>
          </a:xfrm>
          <a:custGeom>
            <a:avLst/>
            <a:gdLst/>
            <a:ahLst/>
            <a:rect l="l" t="t" r="r" b="b"/>
            <a:pathLst>
              <a:path w="1737" h="1985">
                <a:moveTo>
                  <a:pt x="17338" y="2555"/>
                </a:moveTo>
                <a:cubicBezTo>
                  <a:pt x="17320" y="2670"/>
                  <a:pt x="17303" y="2792"/>
                  <a:pt x="17289" y="2902"/>
                </a:cubicBezTo>
                <a:cubicBezTo>
                  <a:pt x="17286" y="2929"/>
                  <a:pt x="17287" y="3134"/>
                  <a:pt x="17314" y="3001"/>
                </a:cubicBezTo>
              </a:path>
              <a:path w="1737" h="1985">
                <a:moveTo>
                  <a:pt x="17487" y="2505"/>
                </a:moveTo>
                <a:cubicBezTo>
                  <a:pt x="17511" y="2604"/>
                  <a:pt x="17537" y="2679"/>
                  <a:pt x="17537" y="2778"/>
                </a:cubicBezTo>
                <a:cubicBezTo>
                  <a:pt x="17537" y="2814"/>
                  <a:pt x="17565" y="2993"/>
                  <a:pt x="17562" y="3001"/>
                </a:cubicBezTo>
                <a:cubicBezTo>
                  <a:pt x="17554" y="3001"/>
                  <a:pt x="17545" y="3001"/>
                  <a:pt x="17537" y="3001"/>
                </a:cubicBezTo>
              </a:path>
              <a:path w="1737" h="1985">
                <a:moveTo>
                  <a:pt x="16991" y="2555"/>
                </a:moveTo>
                <a:cubicBezTo>
                  <a:pt x="17077" y="2548"/>
                  <a:pt x="17159" y="2514"/>
                  <a:pt x="17239" y="2505"/>
                </a:cubicBezTo>
                <a:cubicBezTo>
                  <a:pt x="17346" y="2493"/>
                  <a:pt x="17455" y="2484"/>
                  <a:pt x="17562" y="2480"/>
                </a:cubicBezTo>
                <a:cubicBezTo>
                  <a:pt x="17643" y="2477"/>
                  <a:pt x="17756" y="2512"/>
                  <a:pt x="17735" y="2431"/>
                </a:cubicBezTo>
              </a:path>
              <a:path w="1737" h="1985">
                <a:moveTo>
                  <a:pt x="17239" y="3225"/>
                </a:moveTo>
                <a:cubicBezTo>
                  <a:pt x="17232" y="3282"/>
                  <a:pt x="17191" y="3364"/>
                  <a:pt x="17214" y="3423"/>
                </a:cubicBezTo>
                <a:cubicBezTo>
                  <a:pt x="17229" y="3461"/>
                  <a:pt x="17356" y="3460"/>
                  <a:pt x="17388" y="3448"/>
                </a:cubicBezTo>
                <a:cubicBezTo>
                  <a:pt x="17437" y="3429"/>
                  <a:pt x="17491" y="3426"/>
                  <a:pt x="17537" y="3398"/>
                </a:cubicBezTo>
              </a:path>
              <a:path w="1737" h="1985">
                <a:moveTo>
                  <a:pt x="17438" y="3125"/>
                </a:moveTo>
                <a:cubicBezTo>
                  <a:pt x="17425" y="3244"/>
                  <a:pt x="17438" y="3329"/>
                  <a:pt x="17438" y="3448"/>
                </a:cubicBezTo>
                <a:cubicBezTo>
                  <a:pt x="17438" y="3522"/>
                  <a:pt x="17438" y="3597"/>
                  <a:pt x="17438" y="3671"/>
                </a:cubicBezTo>
              </a:path>
              <a:path w="1737" h="1985">
                <a:moveTo>
                  <a:pt x="16024" y="3944"/>
                </a:moveTo>
                <a:cubicBezTo>
                  <a:pt x="16024" y="4041"/>
                  <a:pt x="16032" y="4134"/>
                  <a:pt x="16049" y="4217"/>
                </a:cubicBezTo>
                <a:cubicBezTo>
                  <a:pt x="16069" y="4316"/>
                  <a:pt x="16138" y="4289"/>
                  <a:pt x="16222" y="4242"/>
                </a:cubicBezTo>
                <a:cubicBezTo>
                  <a:pt x="16252" y="4212"/>
                  <a:pt x="16266" y="4201"/>
                  <a:pt x="16297" y="4192"/>
                </a:cubicBezTo>
              </a:path>
              <a:path w="1737" h="1985">
                <a:moveTo>
                  <a:pt x="16272" y="3795"/>
                </a:moveTo>
                <a:cubicBezTo>
                  <a:pt x="16252" y="3957"/>
                  <a:pt x="16266" y="4085"/>
                  <a:pt x="16272" y="4242"/>
                </a:cubicBezTo>
                <a:cubicBezTo>
                  <a:pt x="16273" y="4274"/>
                  <a:pt x="16297" y="4527"/>
                  <a:pt x="16297" y="4341"/>
                </a:cubicBezTo>
              </a:path>
              <a:path w="1737" h="1985">
                <a:moveTo>
                  <a:pt x="16421" y="3919"/>
                </a:moveTo>
                <a:cubicBezTo>
                  <a:pt x="16485" y="3882"/>
                  <a:pt x="16528" y="3874"/>
                  <a:pt x="16594" y="3845"/>
                </a:cubicBezTo>
                <a:cubicBezTo>
                  <a:pt x="16638" y="3823"/>
                  <a:pt x="16650" y="3820"/>
                  <a:pt x="16669" y="3795"/>
                </a:cubicBezTo>
              </a:path>
              <a:path w="1737" h="1985">
                <a:moveTo>
                  <a:pt x="16371" y="3969"/>
                </a:moveTo>
                <a:cubicBezTo>
                  <a:pt x="16331" y="4028"/>
                  <a:pt x="16302" y="4040"/>
                  <a:pt x="16346" y="4068"/>
                </a:cubicBezTo>
                <a:cubicBezTo>
                  <a:pt x="16426" y="4116"/>
                  <a:pt x="16430" y="4061"/>
                  <a:pt x="16520" y="4043"/>
                </a:cubicBezTo>
                <a:cubicBezTo>
                  <a:pt x="16628" y="4021"/>
                  <a:pt x="16639" y="4071"/>
                  <a:pt x="16644" y="4167"/>
                </a:cubicBezTo>
                <a:cubicBezTo>
                  <a:pt x="16646" y="4212"/>
                  <a:pt x="16665" y="4315"/>
                  <a:pt x="16619" y="4341"/>
                </a:cubicBezTo>
                <a:cubicBezTo>
                  <a:pt x="16554" y="4377"/>
                  <a:pt x="16422" y="4401"/>
                  <a:pt x="16396" y="4316"/>
                </a:cubicBezTo>
                <a:cubicBezTo>
                  <a:pt x="16396" y="4264"/>
                  <a:pt x="16397" y="4246"/>
                  <a:pt x="16421" y="4217"/>
                </a:cubicBezTo>
              </a:path>
              <a:path w="1737" h="1985">
                <a:moveTo>
                  <a:pt x="16768" y="3770"/>
                </a:moveTo>
                <a:cubicBezTo>
                  <a:pt x="16787" y="3848"/>
                  <a:pt x="16779" y="3865"/>
                  <a:pt x="16818" y="3894"/>
                </a:cubicBezTo>
                <a:cubicBezTo>
                  <a:pt x="16863" y="3856"/>
                  <a:pt x="16896" y="3795"/>
                  <a:pt x="16867" y="3721"/>
                </a:cubicBezTo>
                <a:cubicBezTo>
                  <a:pt x="16840" y="3652"/>
                  <a:pt x="16794" y="3686"/>
                  <a:pt x="16743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Ink 11"/>
          <p:cNvSpPr/>
          <p:nvPr/>
        </p:nvSpPr>
        <p:spPr>
          <a:xfrm>
            <a:off x="5599080" y="517680"/>
            <a:ext cx="250920" cy="438120"/>
          </a:xfrm>
          <a:custGeom>
            <a:avLst/>
            <a:gdLst/>
            <a:ahLst/>
            <a:rect l="l" t="t" r="r" b="b"/>
            <a:pathLst>
              <a:path w="695" h="1216">
                <a:moveTo>
                  <a:pt x="15677" y="1563"/>
                </a:moveTo>
                <a:cubicBezTo>
                  <a:pt x="15669" y="1555"/>
                  <a:pt x="15660" y="1546"/>
                  <a:pt x="15652" y="1538"/>
                </a:cubicBezTo>
                <a:cubicBezTo>
                  <a:pt x="15739" y="1505"/>
                  <a:pt x="15840" y="1520"/>
                  <a:pt x="15925" y="1488"/>
                </a:cubicBezTo>
                <a:cubicBezTo>
                  <a:pt x="15959" y="1475"/>
                  <a:pt x="15985" y="1459"/>
                  <a:pt x="15999" y="1439"/>
                </a:cubicBezTo>
              </a:path>
              <a:path w="695" h="1216">
                <a:moveTo>
                  <a:pt x="15776" y="1463"/>
                </a:moveTo>
                <a:cubicBezTo>
                  <a:pt x="15757" y="1559"/>
                  <a:pt x="15751" y="1639"/>
                  <a:pt x="15751" y="1736"/>
                </a:cubicBezTo>
                <a:cubicBezTo>
                  <a:pt x="15751" y="1820"/>
                  <a:pt x="15722" y="1879"/>
                  <a:pt x="15776" y="1860"/>
                </a:cubicBezTo>
              </a:path>
              <a:path w="695" h="1216">
                <a:moveTo>
                  <a:pt x="15875" y="1463"/>
                </a:moveTo>
                <a:cubicBezTo>
                  <a:pt x="15875" y="1569"/>
                  <a:pt x="15887" y="1657"/>
                  <a:pt x="15900" y="1761"/>
                </a:cubicBezTo>
                <a:cubicBezTo>
                  <a:pt x="15906" y="1813"/>
                  <a:pt x="15928" y="1899"/>
                  <a:pt x="15974" y="1935"/>
                </a:cubicBezTo>
                <a:cubicBezTo>
                  <a:pt x="15982" y="1935"/>
                  <a:pt x="15991" y="1935"/>
                  <a:pt x="15999" y="1935"/>
                </a:cubicBezTo>
              </a:path>
              <a:path w="695" h="1216">
                <a:moveTo>
                  <a:pt x="15553" y="2034"/>
                </a:moveTo>
                <a:cubicBezTo>
                  <a:pt x="15641" y="2026"/>
                  <a:pt x="15715" y="2010"/>
                  <a:pt x="15801" y="1984"/>
                </a:cubicBezTo>
                <a:cubicBezTo>
                  <a:pt x="15875" y="1962"/>
                  <a:pt x="15983" y="1939"/>
                  <a:pt x="16049" y="1910"/>
                </a:cubicBezTo>
                <a:cubicBezTo>
                  <a:pt x="16083" y="1895"/>
                  <a:pt x="16085" y="1869"/>
                  <a:pt x="16123" y="1860"/>
                </a:cubicBezTo>
              </a:path>
              <a:path w="695" h="1216">
                <a:moveTo>
                  <a:pt x="15850" y="2158"/>
                </a:moveTo>
                <a:cubicBezTo>
                  <a:pt x="15880" y="2128"/>
                  <a:pt x="15938" y="2049"/>
                  <a:pt x="15974" y="2034"/>
                </a:cubicBezTo>
                <a:cubicBezTo>
                  <a:pt x="16045" y="2005"/>
                  <a:pt x="16126" y="2050"/>
                  <a:pt x="16123" y="2133"/>
                </a:cubicBezTo>
                <a:cubicBezTo>
                  <a:pt x="16120" y="2198"/>
                  <a:pt x="16087" y="2301"/>
                  <a:pt x="16049" y="2356"/>
                </a:cubicBezTo>
                <a:cubicBezTo>
                  <a:pt x="16041" y="2364"/>
                  <a:pt x="16032" y="2373"/>
                  <a:pt x="16024" y="2381"/>
                </a:cubicBezTo>
                <a:cubicBezTo>
                  <a:pt x="16069" y="2302"/>
                  <a:pt x="16107" y="2294"/>
                  <a:pt x="16197" y="2332"/>
                </a:cubicBezTo>
                <a:cubicBezTo>
                  <a:pt x="16270" y="2363"/>
                  <a:pt x="16246" y="2431"/>
                  <a:pt x="16222" y="2480"/>
                </a:cubicBezTo>
                <a:cubicBezTo>
                  <a:pt x="16177" y="2570"/>
                  <a:pt x="16089" y="2595"/>
                  <a:pt x="15999" y="2629"/>
                </a:cubicBezTo>
                <a:cubicBezTo>
                  <a:pt x="15934" y="2653"/>
                  <a:pt x="15893" y="2654"/>
                  <a:pt x="15825" y="26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12"/>
          <p:cNvSpPr/>
          <p:nvPr/>
        </p:nvSpPr>
        <p:spPr>
          <a:xfrm>
            <a:off x="4697280" y="9360"/>
            <a:ext cx="81000" cy="160560"/>
          </a:xfrm>
          <a:custGeom>
            <a:avLst/>
            <a:gdLst/>
            <a:ahLst/>
            <a:rect l="l" t="t" r="r" b="b"/>
            <a:pathLst>
              <a:path w="225" h="447">
                <a:moveTo>
                  <a:pt x="13072" y="74"/>
                </a:moveTo>
                <a:cubicBezTo>
                  <a:pt x="13062" y="143"/>
                  <a:pt x="13047" y="195"/>
                  <a:pt x="13047" y="273"/>
                </a:cubicBezTo>
                <a:cubicBezTo>
                  <a:pt x="13047" y="318"/>
                  <a:pt x="13025" y="442"/>
                  <a:pt x="13072" y="471"/>
                </a:cubicBezTo>
                <a:cubicBezTo>
                  <a:pt x="13126" y="504"/>
                  <a:pt x="13186" y="456"/>
                  <a:pt x="13221" y="422"/>
                </a:cubicBezTo>
                <a:cubicBezTo>
                  <a:pt x="13281" y="363"/>
                  <a:pt x="13271" y="335"/>
                  <a:pt x="13271" y="248"/>
                </a:cubicBezTo>
                <a:cubicBezTo>
                  <a:pt x="13271" y="199"/>
                  <a:pt x="13247" y="54"/>
                  <a:pt x="13196" y="25"/>
                </a:cubicBezTo>
                <a:cubicBezTo>
                  <a:pt x="13136" y="-9"/>
                  <a:pt x="13061" y="39"/>
                  <a:pt x="13047" y="99"/>
                </a:cubicBezTo>
                <a:cubicBezTo>
                  <a:pt x="13047" y="141"/>
                  <a:pt x="13047" y="149"/>
                  <a:pt x="13047" y="1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nk 13"/>
          <p:cNvSpPr/>
          <p:nvPr/>
        </p:nvSpPr>
        <p:spPr>
          <a:xfrm>
            <a:off x="5099040" y="9360"/>
            <a:ext cx="17640" cy="150840"/>
          </a:xfrm>
          <a:custGeom>
            <a:avLst/>
            <a:gdLst/>
            <a:ahLst/>
            <a:rect l="l" t="t" r="r" b="b"/>
            <a:pathLst>
              <a:path w="51" h="422">
                <a:moveTo>
                  <a:pt x="14163" y="25"/>
                </a:moveTo>
                <a:cubicBezTo>
                  <a:pt x="14163" y="121"/>
                  <a:pt x="14174" y="209"/>
                  <a:pt x="14188" y="298"/>
                </a:cubicBezTo>
                <a:cubicBezTo>
                  <a:pt x="14197" y="355"/>
                  <a:pt x="14205" y="414"/>
                  <a:pt x="14188" y="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Ink 14"/>
          <p:cNvSpPr/>
          <p:nvPr/>
        </p:nvSpPr>
        <p:spPr>
          <a:xfrm>
            <a:off x="839880" y="2894040"/>
            <a:ext cx="249120" cy="214200"/>
          </a:xfrm>
          <a:custGeom>
            <a:avLst/>
            <a:gdLst/>
            <a:ahLst/>
            <a:rect l="l" t="t" r="r" b="b"/>
            <a:pathLst>
              <a:path w="695" h="596">
                <a:moveTo>
                  <a:pt x="2332" y="8260"/>
                </a:moveTo>
                <a:cubicBezTo>
                  <a:pt x="2409" y="8269"/>
                  <a:pt x="2476" y="8285"/>
                  <a:pt x="2555" y="8285"/>
                </a:cubicBezTo>
                <a:cubicBezTo>
                  <a:pt x="2605" y="8285"/>
                  <a:pt x="2654" y="8285"/>
                  <a:pt x="2704" y="8285"/>
                </a:cubicBezTo>
              </a:path>
              <a:path w="695" h="596">
                <a:moveTo>
                  <a:pt x="2952" y="8037"/>
                </a:moveTo>
                <a:cubicBezTo>
                  <a:pt x="2952" y="8133"/>
                  <a:pt x="2973" y="8216"/>
                  <a:pt x="2977" y="8310"/>
                </a:cubicBezTo>
                <a:cubicBezTo>
                  <a:pt x="2981" y="8387"/>
                  <a:pt x="3001" y="8452"/>
                  <a:pt x="3001" y="8533"/>
                </a:cubicBezTo>
                <a:cubicBezTo>
                  <a:pt x="3001" y="8590"/>
                  <a:pt x="2991" y="8609"/>
                  <a:pt x="3026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nk 15"/>
          <p:cNvSpPr/>
          <p:nvPr/>
        </p:nvSpPr>
        <p:spPr>
          <a:xfrm>
            <a:off x="1339920" y="2894040"/>
            <a:ext cx="152280" cy="23184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3795" y="8086"/>
                </a:moveTo>
                <a:cubicBezTo>
                  <a:pt x="3795" y="8173"/>
                  <a:pt x="3759" y="8230"/>
                  <a:pt x="3746" y="8310"/>
                </a:cubicBezTo>
                <a:cubicBezTo>
                  <a:pt x="3735" y="8376"/>
                  <a:pt x="3702" y="8463"/>
                  <a:pt x="3721" y="8533"/>
                </a:cubicBezTo>
                <a:cubicBezTo>
                  <a:pt x="3730" y="8566"/>
                  <a:pt x="3778" y="8673"/>
                  <a:pt x="3820" y="8682"/>
                </a:cubicBezTo>
                <a:cubicBezTo>
                  <a:pt x="3916" y="8703"/>
                  <a:pt x="3952" y="8650"/>
                  <a:pt x="4018" y="8607"/>
                </a:cubicBezTo>
                <a:cubicBezTo>
                  <a:pt x="4073" y="8571"/>
                  <a:pt x="4130" y="8506"/>
                  <a:pt x="4142" y="8434"/>
                </a:cubicBezTo>
                <a:cubicBezTo>
                  <a:pt x="4156" y="8352"/>
                  <a:pt x="4122" y="8269"/>
                  <a:pt x="4068" y="8210"/>
                </a:cubicBezTo>
                <a:cubicBezTo>
                  <a:pt x="4001" y="8137"/>
                  <a:pt x="3939" y="8070"/>
                  <a:pt x="3845" y="8037"/>
                </a:cubicBezTo>
                <a:cubicBezTo>
                  <a:pt x="3789" y="8017"/>
                  <a:pt x="3830" y="8076"/>
                  <a:pt x="3845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Ink 16"/>
          <p:cNvSpPr/>
          <p:nvPr/>
        </p:nvSpPr>
        <p:spPr>
          <a:xfrm>
            <a:off x="1714680" y="2919240"/>
            <a:ext cx="142560" cy="20664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4762" y="8186"/>
                </a:moveTo>
                <a:cubicBezTo>
                  <a:pt x="4894" y="8186"/>
                  <a:pt x="5027" y="8186"/>
                  <a:pt x="5159" y="8186"/>
                </a:cubicBezTo>
              </a:path>
              <a:path w="398" h="572">
                <a:moveTo>
                  <a:pt x="4936" y="8111"/>
                </a:moveTo>
                <a:cubicBezTo>
                  <a:pt x="4929" y="8215"/>
                  <a:pt x="4911" y="8281"/>
                  <a:pt x="4911" y="8384"/>
                </a:cubicBezTo>
                <a:cubicBezTo>
                  <a:pt x="4911" y="8459"/>
                  <a:pt x="4912" y="8538"/>
                  <a:pt x="4936" y="8607"/>
                </a:cubicBezTo>
                <a:cubicBezTo>
                  <a:pt x="4936" y="8599"/>
                  <a:pt x="4936" y="8590"/>
                  <a:pt x="4936" y="8582"/>
                </a:cubicBezTo>
              </a:path>
              <a:path w="398" h="572">
                <a:moveTo>
                  <a:pt x="5085" y="8210"/>
                </a:moveTo>
                <a:cubicBezTo>
                  <a:pt x="5085" y="8319"/>
                  <a:pt x="5105" y="8404"/>
                  <a:pt x="5110" y="8508"/>
                </a:cubicBezTo>
                <a:cubicBezTo>
                  <a:pt x="5114" y="8574"/>
                  <a:pt x="5133" y="8621"/>
                  <a:pt x="5159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Ink 17"/>
          <p:cNvSpPr/>
          <p:nvPr/>
        </p:nvSpPr>
        <p:spPr>
          <a:xfrm>
            <a:off x="4562640" y="6215040"/>
            <a:ext cx="125280" cy="20628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12973" y="17438"/>
                </a:moveTo>
                <a:cubicBezTo>
                  <a:pt x="12923" y="17445"/>
                  <a:pt x="12845" y="17466"/>
                  <a:pt x="12799" y="17487"/>
                </a:cubicBezTo>
                <a:cubicBezTo>
                  <a:pt x="12728" y="17520"/>
                  <a:pt x="12690" y="17584"/>
                  <a:pt x="12675" y="17661"/>
                </a:cubicBezTo>
                <a:cubicBezTo>
                  <a:pt x="12666" y="17708"/>
                  <a:pt x="12668" y="17814"/>
                  <a:pt x="12725" y="17835"/>
                </a:cubicBezTo>
                <a:cubicBezTo>
                  <a:pt x="12789" y="17858"/>
                  <a:pt x="12833" y="17827"/>
                  <a:pt x="12874" y="17785"/>
                </a:cubicBezTo>
                <a:cubicBezTo>
                  <a:pt x="12920" y="17738"/>
                  <a:pt x="12943" y="17670"/>
                  <a:pt x="12973" y="17611"/>
                </a:cubicBezTo>
                <a:cubicBezTo>
                  <a:pt x="13004" y="17549"/>
                  <a:pt x="13038" y="17433"/>
                  <a:pt x="13022" y="17363"/>
                </a:cubicBezTo>
                <a:cubicBezTo>
                  <a:pt x="13015" y="17331"/>
                  <a:pt x="12998" y="17307"/>
                  <a:pt x="12998" y="17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Ink 18"/>
          <p:cNvSpPr/>
          <p:nvPr/>
        </p:nvSpPr>
        <p:spPr>
          <a:xfrm>
            <a:off x="4902120" y="6170760"/>
            <a:ext cx="162000" cy="258480"/>
          </a:xfrm>
          <a:custGeom>
            <a:avLst/>
            <a:gdLst/>
            <a:ahLst/>
            <a:rect l="l" t="t" r="r" b="b"/>
            <a:pathLst>
              <a:path w="447" h="720">
                <a:moveTo>
                  <a:pt x="13618" y="17289"/>
                </a:moveTo>
                <a:cubicBezTo>
                  <a:pt x="13684" y="17289"/>
                  <a:pt x="13750" y="17289"/>
                  <a:pt x="13816" y="17289"/>
                </a:cubicBezTo>
              </a:path>
              <a:path w="447" h="720">
                <a:moveTo>
                  <a:pt x="14064" y="17140"/>
                </a:moveTo>
                <a:cubicBezTo>
                  <a:pt x="14033" y="17222"/>
                  <a:pt x="14049" y="17242"/>
                  <a:pt x="14064" y="17314"/>
                </a:cubicBezTo>
                <a:cubicBezTo>
                  <a:pt x="14098" y="17481"/>
                  <a:pt x="14064" y="17690"/>
                  <a:pt x="14064" y="17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Ink 19"/>
          <p:cNvSpPr/>
          <p:nvPr/>
        </p:nvSpPr>
        <p:spPr>
          <a:xfrm>
            <a:off x="2463840" y="196920"/>
            <a:ext cx="608040" cy="465120"/>
          </a:xfrm>
          <a:custGeom>
            <a:avLst/>
            <a:gdLst/>
            <a:ahLst/>
            <a:rect l="l" t="t" r="r" b="b"/>
            <a:pathLst>
              <a:path w="1688" h="1291">
                <a:moveTo>
                  <a:pt x="6846" y="1017"/>
                </a:moveTo>
                <a:cubicBezTo>
                  <a:pt x="6910" y="1017"/>
                  <a:pt x="6936" y="1014"/>
                  <a:pt x="6995" y="992"/>
                </a:cubicBezTo>
              </a:path>
              <a:path w="1688" h="1291">
                <a:moveTo>
                  <a:pt x="7218" y="571"/>
                </a:moveTo>
                <a:cubicBezTo>
                  <a:pt x="7218" y="700"/>
                  <a:pt x="7222" y="821"/>
                  <a:pt x="7243" y="943"/>
                </a:cubicBezTo>
                <a:cubicBezTo>
                  <a:pt x="7243" y="994"/>
                  <a:pt x="7242" y="1013"/>
                  <a:pt x="7218" y="1042"/>
                </a:cubicBezTo>
              </a:path>
              <a:path w="1688" h="1291">
                <a:moveTo>
                  <a:pt x="6896" y="1265"/>
                </a:moveTo>
                <a:cubicBezTo>
                  <a:pt x="6968" y="1254"/>
                  <a:pt x="7012" y="1240"/>
                  <a:pt x="7094" y="1240"/>
                </a:cubicBezTo>
                <a:cubicBezTo>
                  <a:pt x="7205" y="1240"/>
                  <a:pt x="7523" y="1247"/>
                  <a:pt x="7417" y="1215"/>
                </a:cubicBezTo>
                <a:cubicBezTo>
                  <a:pt x="7392" y="1215"/>
                  <a:pt x="7367" y="1215"/>
                  <a:pt x="7342" y="1215"/>
                </a:cubicBezTo>
              </a:path>
              <a:path w="1688" h="1291">
                <a:moveTo>
                  <a:pt x="6995" y="1439"/>
                </a:moveTo>
                <a:cubicBezTo>
                  <a:pt x="7044" y="1411"/>
                  <a:pt x="7108" y="1336"/>
                  <a:pt x="7169" y="1339"/>
                </a:cubicBezTo>
                <a:cubicBezTo>
                  <a:pt x="7245" y="1343"/>
                  <a:pt x="7259" y="1432"/>
                  <a:pt x="7243" y="1488"/>
                </a:cubicBezTo>
                <a:cubicBezTo>
                  <a:pt x="7221" y="1566"/>
                  <a:pt x="7203" y="1603"/>
                  <a:pt x="7144" y="1662"/>
                </a:cubicBezTo>
                <a:cubicBezTo>
                  <a:pt x="7103" y="1703"/>
                  <a:pt x="7075" y="1737"/>
                  <a:pt x="7045" y="1786"/>
                </a:cubicBezTo>
                <a:cubicBezTo>
                  <a:pt x="7117" y="1766"/>
                  <a:pt x="7197" y="1748"/>
                  <a:pt x="7268" y="1736"/>
                </a:cubicBezTo>
                <a:cubicBezTo>
                  <a:pt x="7331" y="1725"/>
                  <a:pt x="7387" y="1756"/>
                  <a:pt x="7417" y="1712"/>
                </a:cubicBezTo>
              </a:path>
              <a:path w="1688" h="1291">
                <a:moveTo>
                  <a:pt x="7938" y="843"/>
                </a:moveTo>
                <a:cubicBezTo>
                  <a:pt x="7909" y="950"/>
                  <a:pt x="7888" y="1031"/>
                  <a:pt x="7888" y="1141"/>
                </a:cubicBezTo>
                <a:cubicBezTo>
                  <a:pt x="7888" y="1191"/>
                  <a:pt x="7888" y="1207"/>
                  <a:pt x="7888" y="1240"/>
                </a:cubicBezTo>
                <a:cubicBezTo>
                  <a:pt x="7912" y="1181"/>
                  <a:pt x="7874" y="1107"/>
                  <a:pt x="7863" y="1042"/>
                </a:cubicBezTo>
                <a:cubicBezTo>
                  <a:pt x="7852" y="978"/>
                  <a:pt x="7842" y="907"/>
                  <a:pt x="7838" y="843"/>
                </a:cubicBezTo>
                <a:cubicBezTo>
                  <a:pt x="7834" y="769"/>
                  <a:pt x="7843" y="729"/>
                  <a:pt x="7888" y="670"/>
                </a:cubicBezTo>
                <a:cubicBezTo>
                  <a:pt x="7946" y="594"/>
                  <a:pt x="8053" y="598"/>
                  <a:pt x="8136" y="595"/>
                </a:cubicBezTo>
                <a:cubicBezTo>
                  <a:pt x="8162" y="594"/>
                  <a:pt x="8279" y="544"/>
                  <a:pt x="8285" y="546"/>
                </a:cubicBezTo>
                <a:cubicBezTo>
                  <a:pt x="8285" y="554"/>
                  <a:pt x="8285" y="563"/>
                  <a:pt x="8285" y="571"/>
                </a:cubicBezTo>
              </a:path>
              <a:path w="1688" h="1291">
                <a:moveTo>
                  <a:pt x="8062" y="843"/>
                </a:moveTo>
                <a:cubicBezTo>
                  <a:pt x="8124" y="834"/>
                  <a:pt x="8161" y="814"/>
                  <a:pt x="8210" y="769"/>
                </a:cubicBezTo>
                <a:cubicBezTo>
                  <a:pt x="8218" y="761"/>
                  <a:pt x="8227" y="752"/>
                  <a:pt x="8235" y="744"/>
                </a:cubicBezTo>
                <a:cubicBezTo>
                  <a:pt x="8311" y="807"/>
                  <a:pt x="8285" y="830"/>
                  <a:pt x="8235" y="918"/>
                </a:cubicBezTo>
                <a:cubicBezTo>
                  <a:pt x="8198" y="983"/>
                  <a:pt x="8195" y="999"/>
                  <a:pt x="8136" y="1042"/>
                </a:cubicBezTo>
                <a:cubicBezTo>
                  <a:pt x="8187" y="991"/>
                  <a:pt x="8219" y="969"/>
                  <a:pt x="8285" y="1017"/>
                </a:cubicBezTo>
                <a:cubicBezTo>
                  <a:pt x="8347" y="1062"/>
                  <a:pt x="8340" y="1137"/>
                  <a:pt x="8285" y="1191"/>
                </a:cubicBezTo>
                <a:cubicBezTo>
                  <a:pt x="8236" y="1239"/>
                  <a:pt x="8123" y="1215"/>
                  <a:pt x="8062" y="1215"/>
                </a:cubicBezTo>
                <a:cubicBezTo>
                  <a:pt x="8045" y="1215"/>
                  <a:pt x="8029" y="1215"/>
                  <a:pt x="8012" y="1215"/>
                </a:cubicBezTo>
              </a:path>
              <a:path w="1688" h="1291">
                <a:moveTo>
                  <a:pt x="7813" y="1315"/>
                </a:moveTo>
                <a:cubicBezTo>
                  <a:pt x="7919" y="1315"/>
                  <a:pt x="8007" y="1303"/>
                  <a:pt x="8111" y="1290"/>
                </a:cubicBezTo>
                <a:cubicBezTo>
                  <a:pt x="8156" y="1284"/>
                  <a:pt x="8351" y="1290"/>
                  <a:pt x="8310" y="1290"/>
                </a:cubicBezTo>
              </a:path>
              <a:path w="1688" h="1291">
                <a:moveTo>
                  <a:pt x="7863" y="1488"/>
                </a:moveTo>
                <a:cubicBezTo>
                  <a:pt x="7936" y="1481"/>
                  <a:pt x="7974" y="1451"/>
                  <a:pt x="8037" y="1439"/>
                </a:cubicBezTo>
                <a:cubicBezTo>
                  <a:pt x="8102" y="1426"/>
                  <a:pt x="8183" y="1376"/>
                  <a:pt x="8210" y="1463"/>
                </a:cubicBezTo>
                <a:cubicBezTo>
                  <a:pt x="8229" y="1526"/>
                  <a:pt x="8197" y="1589"/>
                  <a:pt x="8161" y="1637"/>
                </a:cubicBezTo>
                <a:cubicBezTo>
                  <a:pt x="8130" y="1678"/>
                  <a:pt x="8075" y="1699"/>
                  <a:pt x="8037" y="1736"/>
                </a:cubicBezTo>
                <a:cubicBezTo>
                  <a:pt x="8012" y="1761"/>
                  <a:pt x="7987" y="1786"/>
                  <a:pt x="7962" y="1811"/>
                </a:cubicBezTo>
                <a:cubicBezTo>
                  <a:pt x="8120" y="1811"/>
                  <a:pt x="8363" y="1858"/>
                  <a:pt x="8508" y="1836"/>
                </a:cubicBezTo>
                <a:cubicBezTo>
                  <a:pt x="8536" y="1808"/>
                  <a:pt x="8540" y="1799"/>
                  <a:pt x="8483" y="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Ink 20"/>
          <p:cNvSpPr/>
          <p:nvPr/>
        </p:nvSpPr>
        <p:spPr>
          <a:xfrm>
            <a:off x="1366920" y="642960"/>
            <a:ext cx="963360" cy="1098360"/>
          </a:xfrm>
          <a:custGeom>
            <a:avLst/>
            <a:gdLst/>
            <a:ahLst/>
            <a:rect l="l" t="t" r="r" b="b"/>
            <a:pathLst>
              <a:path w="2680" h="3052">
                <a:moveTo>
                  <a:pt x="4738" y="2332"/>
                </a:moveTo>
                <a:cubicBezTo>
                  <a:pt x="4823" y="2332"/>
                  <a:pt x="4884" y="2336"/>
                  <a:pt x="4961" y="2307"/>
                </a:cubicBezTo>
              </a:path>
              <a:path w="2680" h="3052">
                <a:moveTo>
                  <a:pt x="5011" y="2158"/>
                </a:moveTo>
                <a:cubicBezTo>
                  <a:pt x="4986" y="2274"/>
                  <a:pt x="5005" y="2300"/>
                  <a:pt x="5011" y="2406"/>
                </a:cubicBezTo>
                <a:cubicBezTo>
                  <a:pt x="5015" y="2469"/>
                  <a:pt x="5013" y="2496"/>
                  <a:pt x="5035" y="2555"/>
                </a:cubicBezTo>
                <a:cubicBezTo>
                  <a:pt x="5010" y="2485"/>
                  <a:pt x="5011" y="2432"/>
                  <a:pt x="5011" y="2356"/>
                </a:cubicBezTo>
                <a:cubicBezTo>
                  <a:pt x="5011" y="2266"/>
                  <a:pt x="5000" y="2192"/>
                  <a:pt x="4986" y="2108"/>
                </a:cubicBezTo>
                <a:cubicBezTo>
                  <a:pt x="4980" y="2074"/>
                  <a:pt x="4988" y="1929"/>
                  <a:pt x="5011" y="1910"/>
                </a:cubicBezTo>
                <a:cubicBezTo>
                  <a:pt x="5077" y="1856"/>
                  <a:pt x="5186" y="1857"/>
                  <a:pt x="5259" y="1836"/>
                </a:cubicBezTo>
                <a:cubicBezTo>
                  <a:pt x="5315" y="1820"/>
                  <a:pt x="5368" y="1781"/>
                  <a:pt x="5383" y="1811"/>
                </a:cubicBezTo>
              </a:path>
              <a:path w="2680" h="3052">
                <a:moveTo>
                  <a:pt x="5159" y="2183"/>
                </a:moveTo>
                <a:cubicBezTo>
                  <a:pt x="5199" y="2143"/>
                  <a:pt x="5257" y="2096"/>
                  <a:pt x="5308" y="2084"/>
                </a:cubicBezTo>
                <a:cubicBezTo>
                  <a:pt x="5325" y="2084"/>
                  <a:pt x="5341" y="2084"/>
                  <a:pt x="5358" y="2084"/>
                </a:cubicBezTo>
                <a:cubicBezTo>
                  <a:pt x="5407" y="2163"/>
                  <a:pt x="5373" y="2248"/>
                  <a:pt x="5333" y="2332"/>
                </a:cubicBezTo>
                <a:cubicBezTo>
                  <a:pt x="5303" y="2396"/>
                  <a:pt x="5236" y="2429"/>
                  <a:pt x="5184" y="2480"/>
                </a:cubicBezTo>
                <a:cubicBezTo>
                  <a:pt x="5261" y="2519"/>
                  <a:pt x="5310" y="2494"/>
                  <a:pt x="5383" y="2480"/>
                </a:cubicBezTo>
                <a:cubicBezTo>
                  <a:pt x="5424" y="2480"/>
                  <a:pt x="5440" y="2488"/>
                  <a:pt x="5432" y="2456"/>
                </a:cubicBezTo>
              </a:path>
              <a:path w="2680" h="3052">
                <a:moveTo>
                  <a:pt x="4887" y="2729"/>
                </a:moveTo>
                <a:cubicBezTo>
                  <a:pt x="5001" y="2729"/>
                  <a:pt x="5103" y="2722"/>
                  <a:pt x="5209" y="2704"/>
                </a:cubicBezTo>
                <a:cubicBezTo>
                  <a:pt x="5254" y="2696"/>
                  <a:pt x="5601" y="2704"/>
                  <a:pt x="5407" y="2704"/>
                </a:cubicBezTo>
              </a:path>
              <a:path w="2680" h="3052">
                <a:moveTo>
                  <a:pt x="5011" y="2902"/>
                </a:moveTo>
                <a:cubicBezTo>
                  <a:pt x="5090" y="2868"/>
                  <a:pt x="5234" y="2791"/>
                  <a:pt x="5234" y="2877"/>
                </a:cubicBezTo>
                <a:cubicBezTo>
                  <a:pt x="5234" y="2941"/>
                  <a:pt x="5201" y="3029"/>
                  <a:pt x="5159" y="3076"/>
                </a:cubicBezTo>
                <a:cubicBezTo>
                  <a:pt x="5121" y="3120"/>
                  <a:pt x="5076" y="3159"/>
                  <a:pt x="5035" y="3200"/>
                </a:cubicBezTo>
                <a:cubicBezTo>
                  <a:pt x="5133" y="3242"/>
                  <a:pt x="5147" y="3211"/>
                  <a:pt x="5234" y="3175"/>
                </a:cubicBezTo>
                <a:cubicBezTo>
                  <a:pt x="5312" y="3143"/>
                  <a:pt x="5359" y="3140"/>
                  <a:pt x="5432" y="3101"/>
                </a:cubicBezTo>
                <a:cubicBezTo>
                  <a:pt x="5449" y="3093"/>
                  <a:pt x="5465" y="3084"/>
                  <a:pt x="5482" y="3076"/>
                </a:cubicBezTo>
              </a:path>
              <a:path w="2680" h="3052">
                <a:moveTo>
                  <a:pt x="5904" y="2381"/>
                </a:moveTo>
                <a:cubicBezTo>
                  <a:pt x="5921" y="2463"/>
                  <a:pt x="5940" y="2550"/>
                  <a:pt x="5953" y="2629"/>
                </a:cubicBezTo>
                <a:cubicBezTo>
                  <a:pt x="5974" y="2757"/>
                  <a:pt x="5973" y="2672"/>
                  <a:pt x="5953" y="2580"/>
                </a:cubicBezTo>
                <a:cubicBezTo>
                  <a:pt x="5935" y="2499"/>
                  <a:pt x="5928" y="2440"/>
                  <a:pt x="5928" y="2356"/>
                </a:cubicBezTo>
                <a:cubicBezTo>
                  <a:pt x="5928" y="2274"/>
                  <a:pt x="5920" y="2220"/>
                  <a:pt x="5978" y="2158"/>
                </a:cubicBezTo>
                <a:cubicBezTo>
                  <a:pt x="6011" y="2123"/>
                  <a:pt x="6109" y="2023"/>
                  <a:pt x="6152" y="2009"/>
                </a:cubicBezTo>
                <a:cubicBezTo>
                  <a:pt x="6195" y="1994"/>
                  <a:pt x="6361" y="1971"/>
                  <a:pt x="6325" y="1935"/>
                </a:cubicBezTo>
              </a:path>
              <a:path w="2680" h="3052">
                <a:moveTo>
                  <a:pt x="6028" y="2208"/>
                </a:moveTo>
                <a:cubicBezTo>
                  <a:pt x="6087" y="2178"/>
                  <a:pt x="6189" y="2126"/>
                  <a:pt x="6251" y="2133"/>
                </a:cubicBezTo>
                <a:cubicBezTo>
                  <a:pt x="6333" y="2142"/>
                  <a:pt x="6344" y="2246"/>
                  <a:pt x="6325" y="2307"/>
                </a:cubicBezTo>
                <a:cubicBezTo>
                  <a:pt x="6310" y="2356"/>
                  <a:pt x="6270" y="2442"/>
                  <a:pt x="6226" y="2480"/>
                </a:cubicBezTo>
                <a:cubicBezTo>
                  <a:pt x="6199" y="2503"/>
                  <a:pt x="6157" y="2522"/>
                  <a:pt x="6127" y="2530"/>
                </a:cubicBezTo>
                <a:cubicBezTo>
                  <a:pt x="6207" y="2570"/>
                  <a:pt x="6261" y="2535"/>
                  <a:pt x="6350" y="2530"/>
                </a:cubicBezTo>
                <a:cubicBezTo>
                  <a:pt x="6411" y="2527"/>
                  <a:pt x="6408" y="2522"/>
                  <a:pt x="6449" y="2480"/>
                </a:cubicBezTo>
              </a:path>
              <a:path w="2680" h="3052">
                <a:moveTo>
                  <a:pt x="5879" y="2679"/>
                </a:moveTo>
                <a:cubicBezTo>
                  <a:pt x="5991" y="2722"/>
                  <a:pt x="6049" y="2669"/>
                  <a:pt x="6176" y="2654"/>
                </a:cubicBezTo>
                <a:cubicBezTo>
                  <a:pt x="6219" y="2649"/>
                  <a:pt x="6370" y="2600"/>
                  <a:pt x="6400" y="2604"/>
                </a:cubicBezTo>
                <a:cubicBezTo>
                  <a:pt x="6400" y="2612"/>
                  <a:pt x="6400" y="2621"/>
                  <a:pt x="6400" y="2629"/>
                </a:cubicBezTo>
              </a:path>
              <a:path w="2680" h="3052">
                <a:moveTo>
                  <a:pt x="5978" y="2877"/>
                </a:moveTo>
                <a:cubicBezTo>
                  <a:pt x="6089" y="2846"/>
                  <a:pt x="6167" y="2806"/>
                  <a:pt x="6276" y="2828"/>
                </a:cubicBezTo>
                <a:cubicBezTo>
                  <a:pt x="6306" y="2890"/>
                  <a:pt x="6253" y="2907"/>
                  <a:pt x="6201" y="2952"/>
                </a:cubicBezTo>
                <a:cubicBezTo>
                  <a:pt x="6150" y="2997"/>
                  <a:pt x="6126" y="3054"/>
                  <a:pt x="6077" y="3101"/>
                </a:cubicBezTo>
                <a:cubicBezTo>
                  <a:pt x="6069" y="3109"/>
                  <a:pt x="6060" y="3117"/>
                  <a:pt x="6052" y="3125"/>
                </a:cubicBezTo>
                <a:cubicBezTo>
                  <a:pt x="6140" y="3125"/>
                  <a:pt x="6219" y="3111"/>
                  <a:pt x="6300" y="3101"/>
                </a:cubicBezTo>
                <a:cubicBezTo>
                  <a:pt x="6369" y="3093"/>
                  <a:pt x="6516" y="3095"/>
                  <a:pt x="6449" y="3076"/>
                </a:cubicBezTo>
                <a:cubicBezTo>
                  <a:pt x="6433" y="3076"/>
                  <a:pt x="6416" y="3076"/>
                  <a:pt x="6400" y="3076"/>
                </a:cubicBezTo>
              </a:path>
              <a:path w="2680" h="3052">
                <a:moveTo>
                  <a:pt x="3795" y="4118"/>
                </a:moveTo>
                <a:cubicBezTo>
                  <a:pt x="3847" y="4125"/>
                  <a:pt x="3912" y="4163"/>
                  <a:pt x="3969" y="4142"/>
                </a:cubicBezTo>
                <a:cubicBezTo>
                  <a:pt x="3977" y="4134"/>
                  <a:pt x="3986" y="4126"/>
                  <a:pt x="3994" y="4118"/>
                </a:cubicBezTo>
              </a:path>
              <a:path w="2680" h="3052">
                <a:moveTo>
                  <a:pt x="4192" y="3522"/>
                </a:moveTo>
                <a:cubicBezTo>
                  <a:pt x="4181" y="3659"/>
                  <a:pt x="4192" y="3741"/>
                  <a:pt x="4192" y="3870"/>
                </a:cubicBezTo>
                <a:cubicBezTo>
                  <a:pt x="4192" y="3939"/>
                  <a:pt x="4217" y="3995"/>
                  <a:pt x="4217" y="4068"/>
                </a:cubicBezTo>
                <a:cubicBezTo>
                  <a:pt x="4217" y="4076"/>
                  <a:pt x="4217" y="4085"/>
                  <a:pt x="4217" y="4093"/>
                </a:cubicBezTo>
              </a:path>
              <a:path w="2680" h="3052">
                <a:moveTo>
                  <a:pt x="3919" y="4316"/>
                </a:moveTo>
                <a:cubicBezTo>
                  <a:pt x="3998" y="4299"/>
                  <a:pt x="4074" y="4289"/>
                  <a:pt x="4142" y="4266"/>
                </a:cubicBezTo>
                <a:cubicBezTo>
                  <a:pt x="4200" y="4246"/>
                  <a:pt x="4256" y="4229"/>
                  <a:pt x="4316" y="4217"/>
                </a:cubicBezTo>
              </a:path>
              <a:path w="2680" h="3052">
                <a:moveTo>
                  <a:pt x="3994" y="4465"/>
                </a:moveTo>
                <a:cubicBezTo>
                  <a:pt x="4053" y="4435"/>
                  <a:pt x="4135" y="4373"/>
                  <a:pt x="4192" y="4440"/>
                </a:cubicBezTo>
                <a:cubicBezTo>
                  <a:pt x="4240" y="4497"/>
                  <a:pt x="4177" y="4585"/>
                  <a:pt x="4142" y="4638"/>
                </a:cubicBezTo>
                <a:cubicBezTo>
                  <a:pt x="4090" y="4716"/>
                  <a:pt x="4012" y="4760"/>
                  <a:pt x="4043" y="4837"/>
                </a:cubicBezTo>
                <a:cubicBezTo>
                  <a:pt x="4140" y="4825"/>
                  <a:pt x="4221" y="4800"/>
                  <a:pt x="4316" y="4762"/>
                </a:cubicBezTo>
                <a:cubicBezTo>
                  <a:pt x="4366" y="4742"/>
                  <a:pt x="4398" y="4738"/>
                  <a:pt x="4440" y="4713"/>
                </a:cubicBezTo>
              </a:path>
              <a:path w="2680" h="3052">
                <a:moveTo>
                  <a:pt x="4936" y="3919"/>
                </a:moveTo>
                <a:cubicBezTo>
                  <a:pt x="4942" y="4008"/>
                  <a:pt x="4961" y="4078"/>
                  <a:pt x="4961" y="4167"/>
                </a:cubicBezTo>
                <a:cubicBezTo>
                  <a:pt x="4953" y="4085"/>
                  <a:pt x="4924" y="4022"/>
                  <a:pt x="4911" y="3944"/>
                </a:cubicBezTo>
                <a:cubicBezTo>
                  <a:pt x="4898" y="3869"/>
                  <a:pt x="4914" y="3766"/>
                  <a:pt x="4936" y="3696"/>
                </a:cubicBezTo>
                <a:cubicBezTo>
                  <a:pt x="4965" y="3604"/>
                  <a:pt x="5042" y="3595"/>
                  <a:pt x="5110" y="3547"/>
                </a:cubicBezTo>
                <a:cubicBezTo>
                  <a:pt x="5169" y="3506"/>
                  <a:pt x="5163" y="3479"/>
                  <a:pt x="5234" y="3522"/>
                </a:cubicBezTo>
              </a:path>
              <a:path w="2680" h="3052">
                <a:moveTo>
                  <a:pt x="4986" y="3820"/>
                </a:moveTo>
                <a:cubicBezTo>
                  <a:pt x="5045" y="3814"/>
                  <a:pt x="5138" y="3766"/>
                  <a:pt x="5184" y="3820"/>
                </a:cubicBezTo>
                <a:cubicBezTo>
                  <a:pt x="5229" y="3873"/>
                  <a:pt x="5184" y="3946"/>
                  <a:pt x="5159" y="3994"/>
                </a:cubicBezTo>
                <a:cubicBezTo>
                  <a:pt x="5138" y="4034"/>
                  <a:pt x="4998" y="4118"/>
                  <a:pt x="5110" y="4043"/>
                </a:cubicBezTo>
                <a:cubicBezTo>
                  <a:pt x="5144" y="4029"/>
                  <a:pt x="5237" y="4031"/>
                  <a:pt x="5259" y="4093"/>
                </a:cubicBezTo>
                <a:cubicBezTo>
                  <a:pt x="5285" y="4165"/>
                  <a:pt x="5185" y="4207"/>
                  <a:pt x="5135" y="4217"/>
                </a:cubicBezTo>
                <a:cubicBezTo>
                  <a:pt x="5081" y="4228"/>
                  <a:pt x="5016" y="4217"/>
                  <a:pt x="4961" y="4217"/>
                </a:cubicBezTo>
              </a:path>
              <a:path w="2680" h="3052">
                <a:moveTo>
                  <a:pt x="4911" y="4341"/>
                </a:moveTo>
                <a:cubicBezTo>
                  <a:pt x="5016" y="4341"/>
                  <a:pt x="5088" y="4321"/>
                  <a:pt x="5184" y="4316"/>
                </a:cubicBezTo>
                <a:cubicBezTo>
                  <a:pt x="5253" y="4312"/>
                  <a:pt x="5314" y="4286"/>
                  <a:pt x="5383" y="4266"/>
                </a:cubicBezTo>
              </a:path>
              <a:path w="2680" h="3052">
                <a:moveTo>
                  <a:pt x="5011" y="4465"/>
                </a:moveTo>
                <a:cubicBezTo>
                  <a:pt x="5050" y="4485"/>
                  <a:pt x="5095" y="4465"/>
                  <a:pt x="5159" y="4465"/>
                </a:cubicBezTo>
                <a:cubicBezTo>
                  <a:pt x="5184" y="4465"/>
                  <a:pt x="5286" y="4494"/>
                  <a:pt x="5283" y="4539"/>
                </a:cubicBezTo>
                <a:cubicBezTo>
                  <a:pt x="5280" y="4590"/>
                  <a:pt x="5217" y="4677"/>
                  <a:pt x="5184" y="4713"/>
                </a:cubicBezTo>
                <a:cubicBezTo>
                  <a:pt x="5145" y="4755"/>
                  <a:pt x="5103" y="4777"/>
                  <a:pt x="5060" y="4812"/>
                </a:cubicBezTo>
                <a:cubicBezTo>
                  <a:pt x="5127" y="4852"/>
                  <a:pt x="5147" y="4824"/>
                  <a:pt x="5209" y="4812"/>
                </a:cubicBezTo>
                <a:cubicBezTo>
                  <a:pt x="5280" y="4798"/>
                  <a:pt x="5323" y="4833"/>
                  <a:pt x="5358" y="4762"/>
                </a:cubicBezTo>
              </a:path>
              <a:path w="2680" h="3052">
                <a:moveTo>
                  <a:pt x="4018" y="3621"/>
                </a:moveTo>
                <a:cubicBezTo>
                  <a:pt x="4070" y="3591"/>
                  <a:pt x="4138" y="3597"/>
                  <a:pt x="4192" y="3572"/>
                </a:cubicBezTo>
                <a:cubicBezTo>
                  <a:pt x="4260" y="3541"/>
                  <a:pt x="4277" y="3546"/>
                  <a:pt x="4341" y="3597"/>
                </a:cubicBezTo>
                <a:cubicBezTo>
                  <a:pt x="4300" y="3661"/>
                  <a:pt x="4267" y="3739"/>
                  <a:pt x="4217" y="3795"/>
                </a:cubicBezTo>
                <a:cubicBezTo>
                  <a:pt x="4193" y="3821"/>
                  <a:pt x="4080" y="3917"/>
                  <a:pt x="4118" y="3845"/>
                </a:cubicBezTo>
                <a:cubicBezTo>
                  <a:pt x="4207" y="3800"/>
                  <a:pt x="4223" y="3826"/>
                  <a:pt x="4291" y="3894"/>
                </a:cubicBezTo>
                <a:cubicBezTo>
                  <a:pt x="4339" y="3942"/>
                  <a:pt x="4317" y="3995"/>
                  <a:pt x="4291" y="4043"/>
                </a:cubicBezTo>
                <a:cubicBezTo>
                  <a:pt x="4270" y="4081"/>
                  <a:pt x="4235" y="4146"/>
                  <a:pt x="4192" y="4167"/>
                </a:cubicBezTo>
                <a:cubicBezTo>
                  <a:pt x="4099" y="4211"/>
                  <a:pt x="4056" y="4182"/>
                  <a:pt x="3969" y="4167"/>
                </a:cubicBezTo>
                <a:cubicBezTo>
                  <a:pt x="3856" y="4148"/>
                  <a:pt x="3971" y="4117"/>
                  <a:pt x="4018" y="4093"/>
                </a:cubicBezTo>
              </a:path>
              <a:path w="2680" h="3052">
                <a:moveTo>
                  <a:pt x="5085" y="3671"/>
                </a:moveTo>
                <a:cubicBezTo>
                  <a:pt x="5085" y="3371"/>
                  <a:pt x="5108" y="3750"/>
                  <a:pt x="5110" y="3820"/>
                </a:cubicBezTo>
                <a:cubicBezTo>
                  <a:pt x="5113" y="3931"/>
                  <a:pt x="5103" y="4248"/>
                  <a:pt x="5135" y="4142"/>
                </a:cubicBezTo>
                <a:cubicBezTo>
                  <a:pt x="5155" y="4077"/>
                  <a:pt x="5124" y="3955"/>
                  <a:pt x="5110" y="3894"/>
                </a:cubicBezTo>
                <a:cubicBezTo>
                  <a:pt x="5082" y="3776"/>
                  <a:pt x="5071" y="3441"/>
                  <a:pt x="5011" y="3547"/>
                </a:cubicBezTo>
                <a:cubicBezTo>
                  <a:pt x="4947" y="3660"/>
                  <a:pt x="4991" y="4047"/>
                  <a:pt x="5035" y="4167"/>
                </a:cubicBezTo>
                <a:cubicBezTo>
                  <a:pt x="5059" y="4288"/>
                  <a:pt x="5060" y="4131"/>
                  <a:pt x="5060" y="4093"/>
                </a:cubicBezTo>
                <a:cubicBezTo>
                  <a:pt x="5060" y="3973"/>
                  <a:pt x="5023" y="3863"/>
                  <a:pt x="5011" y="3746"/>
                </a:cubicBezTo>
                <a:cubicBezTo>
                  <a:pt x="5008" y="3715"/>
                  <a:pt x="5011" y="3477"/>
                  <a:pt x="5011" y="3721"/>
                </a:cubicBezTo>
                <a:cubicBezTo>
                  <a:pt x="5026" y="3866"/>
                  <a:pt x="5035" y="3998"/>
                  <a:pt x="5035" y="4142"/>
                </a:cubicBezTo>
                <a:cubicBezTo>
                  <a:pt x="5035" y="4276"/>
                  <a:pt x="5059" y="4038"/>
                  <a:pt x="5060" y="4018"/>
                </a:cubicBezTo>
                <a:cubicBezTo>
                  <a:pt x="5062" y="3964"/>
                  <a:pt x="5064" y="3587"/>
                  <a:pt x="5085" y="3597"/>
                </a:cubicBezTo>
                <a:cubicBezTo>
                  <a:pt x="5169" y="3638"/>
                  <a:pt x="5135" y="3903"/>
                  <a:pt x="5135" y="3969"/>
                </a:cubicBezTo>
                <a:cubicBezTo>
                  <a:pt x="5135" y="3994"/>
                  <a:pt x="5135" y="4262"/>
                  <a:pt x="5135" y="4068"/>
                </a:cubicBezTo>
                <a:cubicBezTo>
                  <a:pt x="5146" y="3961"/>
                  <a:pt x="5138" y="3879"/>
                  <a:pt x="5135" y="3770"/>
                </a:cubicBezTo>
                <a:cubicBezTo>
                  <a:pt x="5134" y="3736"/>
                  <a:pt x="5115" y="3416"/>
                  <a:pt x="5110" y="3671"/>
                </a:cubicBezTo>
                <a:cubicBezTo>
                  <a:pt x="5109" y="3717"/>
                  <a:pt x="5148" y="4234"/>
                  <a:pt x="5110" y="4068"/>
                </a:cubicBezTo>
                <a:cubicBezTo>
                  <a:pt x="5082" y="3948"/>
                  <a:pt x="5051" y="3818"/>
                  <a:pt x="5035" y="3696"/>
                </a:cubicBezTo>
                <a:cubicBezTo>
                  <a:pt x="5008" y="3496"/>
                  <a:pt x="5000" y="3693"/>
                  <a:pt x="5011" y="3770"/>
                </a:cubicBezTo>
                <a:cubicBezTo>
                  <a:pt x="5026" y="3881"/>
                  <a:pt x="5035" y="3980"/>
                  <a:pt x="5035" y="4093"/>
                </a:cubicBezTo>
                <a:cubicBezTo>
                  <a:pt x="5035" y="4150"/>
                  <a:pt x="5035" y="4158"/>
                  <a:pt x="5035" y="4068"/>
                </a:cubicBezTo>
                <a:cubicBezTo>
                  <a:pt x="5023" y="3968"/>
                  <a:pt x="5011" y="3877"/>
                  <a:pt x="5011" y="3770"/>
                </a:cubicBezTo>
                <a:cubicBezTo>
                  <a:pt x="5011" y="3737"/>
                  <a:pt x="5011" y="3704"/>
                  <a:pt x="5011" y="3671"/>
                </a:cubicBezTo>
                <a:cubicBezTo>
                  <a:pt x="5011" y="3476"/>
                  <a:pt x="5018" y="3600"/>
                  <a:pt x="5035" y="3721"/>
                </a:cubicBezTo>
                <a:cubicBezTo>
                  <a:pt x="5053" y="3848"/>
                  <a:pt x="4976" y="4161"/>
                  <a:pt x="5085" y="4093"/>
                </a:cubicBezTo>
                <a:cubicBezTo>
                  <a:pt x="5117" y="4073"/>
                  <a:pt x="5132" y="3871"/>
                  <a:pt x="5135" y="3845"/>
                </a:cubicBezTo>
                <a:cubicBezTo>
                  <a:pt x="5140" y="3799"/>
                  <a:pt x="5163" y="3541"/>
                  <a:pt x="5135" y="3646"/>
                </a:cubicBezTo>
                <a:cubicBezTo>
                  <a:pt x="5104" y="3763"/>
                  <a:pt x="5110" y="3872"/>
                  <a:pt x="5110" y="3994"/>
                </a:cubicBezTo>
                <a:cubicBezTo>
                  <a:pt x="5110" y="4057"/>
                  <a:pt x="5113" y="4084"/>
                  <a:pt x="5135" y="4142"/>
                </a:cubicBezTo>
              </a:path>
              <a:path w="2680" h="3052">
                <a:moveTo>
                  <a:pt x="4118" y="3870"/>
                </a:moveTo>
                <a:cubicBezTo>
                  <a:pt x="4110" y="3853"/>
                  <a:pt x="4101" y="3837"/>
                  <a:pt x="4093" y="3820"/>
                </a:cubicBezTo>
                <a:cubicBezTo>
                  <a:pt x="4065" y="3893"/>
                  <a:pt x="4059" y="3966"/>
                  <a:pt x="4043" y="4043"/>
                </a:cubicBezTo>
                <a:cubicBezTo>
                  <a:pt x="4027" y="4120"/>
                  <a:pt x="4017" y="4341"/>
                  <a:pt x="4043" y="4266"/>
                </a:cubicBezTo>
                <a:cubicBezTo>
                  <a:pt x="4072" y="4181"/>
                  <a:pt x="3981" y="4027"/>
                  <a:pt x="3969" y="3944"/>
                </a:cubicBezTo>
                <a:cubicBezTo>
                  <a:pt x="3957" y="3862"/>
                  <a:pt x="3931" y="3586"/>
                  <a:pt x="3994" y="3522"/>
                </a:cubicBezTo>
                <a:cubicBezTo>
                  <a:pt x="4045" y="3470"/>
                  <a:pt x="4150" y="3456"/>
                  <a:pt x="4217" y="3448"/>
                </a:cubicBezTo>
                <a:cubicBezTo>
                  <a:pt x="4315" y="3437"/>
                  <a:pt x="4416" y="3427"/>
                  <a:pt x="4514" y="3423"/>
                </a:cubicBezTo>
                <a:cubicBezTo>
                  <a:pt x="4596" y="3420"/>
                  <a:pt x="4662" y="3401"/>
                  <a:pt x="4738" y="3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Ink 21"/>
          <p:cNvSpPr/>
          <p:nvPr/>
        </p:nvSpPr>
        <p:spPr>
          <a:xfrm>
            <a:off x="1143000" y="4500720"/>
            <a:ext cx="1893960" cy="1758960"/>
          </a:xfrm>
          <a:custGeom>
            <a:avLst/>
            <a:gdLst/>
            <a:ahLst/>
            <a:rect l="l" t="t" r="r" b="b"/>
            <a:pathLst>
              <a:path w="5260" h="4887">
                <a:moveTo>
                  <a:pt x="3175" y="12898"/>
                </a:moveTo>
                <a:cubicBezTo>
                  <a:pt x="3255" y="12938"/>
                  <a:pt x="3333" y="12994"/>
                  <a:pt x="3423" y="12998"/>
                </a:cubicBezTo>
                <a:cubicBezTo>
                  <a:pt x="3498" y="13001"/>
                  <a:pt x="3531" y="12998"/>
                  <a:pt x="3597" y="12973"/>
                </a:cubicBezTo>
              </a:path>
              <a:path w="5260" h="4887">
                <a:moveTo>
                  <a:pt x="3795" y="12923"/>
                </a:moveTo>
                <a:cubicBezTo>
                  <a:pt x="3807" y="13006"/>
                  <a:pt x="3791" y="13190"/>
                  <a:pt x="3820" y="13271"/>
                </a:cubicBezTo>
                <a:cubicBezTo>
                  <a:pt x="3845" y="13295"/>
                  <a:pt x="3854" y="13303"/>
                  <a:pt x="3870" y="13320"/>
                </a:cubicBezTo>
                <a:cubicBezTo>
                  <a:pt x="3870" y="13241"/>
                  <a:pt x="3890" y="13174"/>
                  <a:pt x="3894" y="13097"/>
                </a:cubicBezTo>
                <a:cubicBezTo>
                  <a:pt x="3900" y="12970"/>
                  <a:pt x="3904" y="12848"/>
                  <a:pt x="3919" y="12725"/>
                </a:cubicBezTo>
                <a:cubicBezTo>
                  <a:pt x="3928" y="12653"/>
                  <a:pt x="3903" y="12592"/>
                  <a:pt x="3944" y="12526"/>
                </a:cubicBezTo>
                <a:cubicBezTo>
                  <a:pt x="3991" y="12450"/>
                  <a:pt x="4107" y="12516"/>
                  <a:pt x="4167" y="12526"/>
                </a:cubicBezTo>
                <a:cubicBezTo>
                  <a:pt x="4230" y="12536"/>
                  <a:pt x="4280" y="12564"/>
                  <a:pt x="4341" y="12576"/>
                </a:cubicBezTo>
              </a:path>
              <a:path w="5260" h="4887">
                <a:moveTo>
                  <a:pt x="4068" y="12725"/>
                </a:moveTo>
                <a:cubicBezTo>
                  <a:pt x="4123" y="12758"/>
                  <a:pt x="4153" y="12760"/>
                  <a:pt x="4192" y="12824"/>
                </a:cubicBezTo>
                <a:cubicBezTo>
                  <a:pt x="4249" y="12919"/>
                  <a:pt x="4269" y="12932"/>
                  <a:pt x="4167" y="13022"/>
                </a:cubicBezTo>
                <a:cubicBezTo>
                  <a:pt x="4096" y="13084"/>
                  <a:pt x="4054" y="13072"/>
                  <a:pt x="3969" y="13072"/>
                </a:cubicBezTo>
                <a:cubicBezTo>
                  <a:pt x="4021" y="13104"/>
                  <a:pt x="4087" y="13097"/>
                  <a:pt x="4142" y="13122"/>
                </a:cubicBezTo>
                <a:cubicBezTo>
                  <a:pt x="4185" y="13142"/>
                  <a:pt x="4229" y="13234"/>
                  <a:pt x="4266" y="13271"/>
                </a:cubicBezTo>
                <a:cubicBezTo>
                  <a:pt x="4341" y="13345"/>
                  <a:pt x="4245" y="13376"/>
                  <a:pt x="4192" y="13419"/>
                </a:cubicBezTo>
                <a:cubicBezTo>
                  <a:pt x="4156" y="13447"/>
                  <a:pt x="4066" y="13463"/>
                  <a:pt x="4018" y="13444"/>
                </a:cubicBezTo>
                <a:cubicBezTo>
                  <a:pt x="3971" y="13426"/>
                  <a:pt x="3934" y="13411"/>
                  <a:pt x="3894" y="13370"/>
                </a:cubicBezTo>
                <a:cubicBezTo>
                  <a:pt x="3886" y="13362"/>
                  <a:pt x="3878" y="13353"/>
                  <a:pt x="3870" y="13345"/>
                </a:cubicBezTo>
              </a:path>
              <a:path w="5260" h="4887">
                <a:moveTo>
                  <a:pt x="3671" y="13419"/>
                </a:moveTo>
                <a:cubicBezTo>
                  <a:pt x="3778" y="13438"/>
                  <a:pt x="3890" y="13424"/>
                  <a:pt x="3994" y="13444"/>
                </a:cubicBezTo>
                <a:cubicBezTo>
                  <a:pt x="4084" y="13461"/>
                  <a:pt x="4153" y="13454"/>
                  <a:pt x="4242" y="13469"/>
                </a:cubicBezTo>
                <a:cubicBezTo>
                  <a:pt x="4258" y="13469"/>
                  <a:pt x="4275" y="13469"/>
                  <a:pt x="4291" y="13469"/>
                </a:cubicBezTo>
              </a:path>
              <a:path w="5260" h="4887">
                <a:moveTo>
                  <a:pt x="3994" y="13692"/>
                </a:moveTo>
                <a:cubicBezTo>
                  <a:pt x="4015" y="13698"/>
                  <a:pt x="4171" y="13716"/>
                  <a:pt x="4167" y="13767"/>
                </a:cubicBezTo>
                <a:cubicBezTo>
                  <a:pt x="4161" y="13848"/>
                  <a:pt x="4053" y="13886"/>
                  <a:pt x="3994" y="13915"/>
                </a:cubicBezTo>
                <a:cubicBezTo>
                  <a:pt x="3924" y="13950"/>
                  <a:pt x="3876" y="13984"/>
                  <a:pt x="3919" y="14064"/>
                </a:cubicBezTo>
                <a:cubicBezTo>
                  <a:pt x="3948" y="14117"/>
                  <a:pt x="4054" y="14192"/>
                  <a:pt x="4118" y="14188"/>
                </a:cubicBezTo>
                <a:cubicBezTo>
                  <a:pt x="4189" y="14183"/>
                  <a:pt x="4298" y="14102"/>
                  <a:pt x="4366" y="14064"/>
                </a:cubicBezTo>
              </a:path>
              <a:path w="5260" h="4887">
                <a:moveTo>
                  <a:pt x="4638" y="13171"/>
                </a:moveTo>
                <a:cubicBezTo>
                  <a:pt x="4745" y="13156"/>
                  <a:pt x="4862" y="13158"/>
                  <a:pt x="4961" y="13122"/>
                </a:cubicBezTo>
              </a:path>
              <a:path w="5260" h="4887">
                <a:moveTo>
                  <a:pt x="5159" y="12650"/>
                </a:moveTo>
                <a:cubicBezTo>
                  <a:pt x="5151" y="12736"/>
                  <a:pt x="5153" y="12839"/>
                  <a:pt x="5135" y="12923"/>
                </a:cubicBezTo>
                <a:cubicBezTo>
                  <a:pt x="5114" y="13024"/>
                  <a:pt x="5131" y="13050"/>
                  <a:pt x="5135" y="13146"/>
                </a:cubicBezTo>
                <a:cubicBezTo>
                  <a:pt x="5135" y="13171"/>
                  <a:pt x="5135" y="13196"/>
                  <a:pt x="5135" y="13221"/>
                </a:cubicBezTo>
              </a:path>
              <a:path w="5260" h="4887">
                <a:moveTo>
                  <a:pt x="4961" y="13295"/>
                </a:moveTo>
                <a:cubicBezTo>
                  <a:pt x="5052" y="13295"/>
                  <a:pt x="5100" y="13317"/>
                  <a:pt x="5184" y="13320"/>
                </a:cubicBezTo>
                <a:cubicBezTo>
                  <a:pt x="5268" y="13323"/>
                  <a:pt x="5328" y="13305"/>
                  <a:pt x="5407" y="13295"/>
                </a:cubicBezTo>
              </a:path>
              <a:path w="5260" h="4887">
                <a:moveTo>
                  <a:pt x="5060" y="13494"/>
                </a:moveTo>
                <a:cubicBezTo>
                  <a:pt x="5109" y="13543"/>
                  <a:pt x="5137" y="13565"/>
                  <a:pt x="5209" y="13568"/>
                </a:cubicBezTo>
                <a:cubicBezTo>
                  <a:pt x="5281" y="13571"/>
                  <a:pt x="5324" y="13563"/>
                  <a:pt x="5383" y="13593"/>
                </a:cubicBezTo>
                <a:cubicBezTo>
                  <a:pt x="5302" y="13674"/>
                  <a:pt x="5291" y="13667"/>
                  <a:pt x="5184" y="13692"/>
                </a:cubicBezTo>
                <a:cubicBezTo>
                  <a:pt x="5126" y="13706"/>
                  <a:pt x="5042" y="13740"/>
                  <a:pt x="5060" y="13816"/>
                </a:cubicBezTo>
                <a:cubicBezTo>
                  <a:pt x="5079" y="13898"/>
                  <a:pt x="5211" y="13931"/>
                  <a:pt x="5283" y="13940"/>
                </a:cubicBezTo>
                <a:cubicBezTo>
                  <a:pt x="5358" y="13950"/>
                  <a:pt x="5447" y="13951"/>
                  <a:pt x="5507" y="13915"/>
                </a:cubicBezTo>
              </a:path>
              <a:path w="5260" h="4887">
                <a:moveTo>
                  <a:pt x="4366" y="14784"/>
                </a:moveTo>
                <a:cubicBezTo>
                  <a:pt x="4461" y="14773"/>
                  <a:pt x="4545" y="14736"/>
                  <a:pt x="4638" y="14709"/>
                </a:cubicBezTo>
              </a:path>
              <a:path w="5260" h="4887">
                <a:moveTo>
                  <a:pt x="4862" y="14610"/>
                </a:moveTo>
                <a:cubicBezTo>
                  <a:pt x="4885" y="14741"/>
                  <a:pt x="4868" y="14768"/>
                  <a:pt x="4862" y="14883"/>
                </a:cubicBezTo>
                <a:cubicBezTo>
                  <a:pt x="4862" y="14932"/>
                  <a:pt x="4862" y="14949"/>
                  <a:pt x="4862" y="14982"/>
                </a:cubicBezTo>
                <a:cubicBezTo>
                  <a:pt x="4862" y="14888"/>
                  <a:pt x="4883" y="14821"/>
                  <a:pt x="4887" y="14734"/>
                </a:cubicBezTo>
                <a:cubicBezTo>
                  <a:pt x="4891" y="14642"/>
                  <a:pt x="4891" y="14549"/>
                  <a:pt x="4911" y="14461"/>
                </a:cubicBezTo>
                <a:cubicBezTo>
                  <a:pt x="4922" y="14412"/>
                  <a:pt x="4948" y="14281"/>
                  <a:pt x="5011" y="14263"/>
                </a:cubicBezTo>
                <a:cubicBezTo>
                  <a:pt x="5086" y="14241"/>
                  <a:pt x="5196" y="14274"/>
                  <a:pt x="5259" y="14312"/>
                </a:cubicBezTo>
                <a:cubicBezTo>
                  <a:pt x="5281" y="14335"/>
                  <a:pt x="5286" y="14343"/>
                  <a:pt x="5308" y="14337"/>
                </a:cubicBezTo>
              </a:path>
              <a:path w="5260" h="4887">
                <a:moveTo>
                  <a:pt x="5060" y="14486"/>
                </a:moveTo>
                <a:cubicBezTo>
                  <a:pt x="5141" y="14551"/>
                  <a:pt x="5130" y="14492"/>
                  <a:pt x="5209" y="14511"/>
                </a:cubicBezTo>
                <a:cubicBezTo>
                  <a:pt x="5257" y="14535"/>
                  <a:pt x="5271" y="14543"/>
                  <a:pt x="5308" y="14536"/>
                </a:cubicBezTo>
                <a:cubicBezTo>
                  <a:pt x="5293" y="14669"/>
                  <a:pt x="5276" y="14664"/>
                  <a:pt x="5184" y="14734"/>
                </a:cubicBezTo>
                <a:cubicBezTo>
                  <a:pt x="5145" y="14764"/>
                  <a:pt x="5026" y="14831"/>
                  <a:pt x="5011" y="14883"/>
                </a:cubicBezTo>
                <a:cubicBezTo>
                  <a:pt x="4986" y="14972"/>
                  <a:pt x="5078" y="14980"/>
                  <a:pt x="5135" y="14982"/>
                </a:cubicBezTo>
                <a:cubicBezTo>
                  <a:pt x="5201" y="14982"/>
                  <a:pt x="5218" y="14982"/>
                  <a:pt x="5259" y="14982"/>
                </a:cubicBezTo>
              </a:path>
              <a:path w="5260" h="4887">
                <a:moveTo>
                  <a:pt x="5383" y="15032"/>
                </a:moveTo>
                <a:cubicBezTo>
                  <a:pt x="5246" y="15070"/>
                  <a:pt x="5119" y="15111"/>
                  <a:pt x="4986" y="15156"/>
                </a:cubicBezTo>
                <a:cubicBezTo>
                  <a:pt x="4902" y="15185"/>
                  <a:pt x="4815" y="15180"/>
                  <a:pt x="4738" y="15230"/>
                </a:cubicBezTo>
                <a:cubicBezTo>
                  <a:pt x="4690" y="15261"/>
                  <a:pt x="4694" y="15267"/>
                  <a:pt x="4713" y="15304"/>
                </a:cubicBezTo>
              </a:path>
              <a:path w="5260" h="4887">
                <a:moveTo>
                  <a:pt x="4911" y="15379"/>
                </a:moveTo>
                <a:cubicBezTo>
                  <a:pt x="5004" y="15396"/>
                  <a:pt x="5133" y="15396"/>
                  <a:pt x="5209" y="15453"/>
                </a:cubicBezTo>
                <a:cubicBezTo>
                  <a:pt x="5217" y="15461"/>
                  <a:pt x="5226" y="15470"/>
                  <a:pt x="5234" y="15478"/>
                </a:cubicBezTo>
                <a:cubicBezTo>
                  <a:pt x="5164" y="15548"/>
                  <a:pt x="5139" y="15540"/>
                  <a:pt x="5060" y="15577"/>
                </a:cubicBezTo>
                <a:cubicBezTo>
                  <a:pt x="5036" y="15588"/>
                  <a:pt x="4943" y="15645"/>
                  <a:pt x="4936" y="15677"/>
                </a:cubicBezTo>
                <a:cubicBezTo>
                  <a:pt x="4922" y="15745"/>
                  <a:pt x="4987" y="15833"/>
                  <a:pt x="5035" y="15875"/>
                </a:cubicBezTo>
                <a:cubicBezTo>
                  <a:pt x="5094" y="15926"/>
                  <a:pt x="5211" y="15949"/>
                  <a:pt x="5283" y="15925"/>
                </a:cubicBezTo>
                <a:cubicBezTo>
                  <a:pt x="5316" y="15908"/>
                  <a:pt x="5350" y="15892"/>
                  <a:pt x="5383" y="15875"/>
                </a:cubicBezTo>
              </a:path>
              <a:path w="5260" h="4887">
                <a:moveTo>
                  <a:pt x="5755" y="14759"/>
                </a:moveTo>
                <a:cubicBezTo>
                  <a:pt x="5885" y="14782"/>
                  <a:pt x="5908" y="14779"/>
                  <a:pt x="6028" y="14759"/>
                </a:cubicBezTo>
              </a:path>
              <a:path w="5260" h="4887">
                <a:moveTo>
                  <a:pt x="6077" y="14784"/>
                </a:moveTo>
                <a:cubicBezTo>
                  <a:pt x="6077" y="14859"/>
                  <a:pt x="6075" y="14919"/>
                  <a:pt x="6102" y="14982"/>
                </a:cubicBezTo>
                <a:cubicBezTo>
                  <a:pt x="6155" y="14929"/>
                  <a:pt x="6152" y="14909"/>
                  <a:pt x="6152" y="14833"/>
                </a:cubicBezTo>
                <a:cubicBezTo>
                  <a:pt x="6152" y="14706"/>
                  <a:pt x="6121" y="14529"/>
                  <a:pt x="6176" y="14412"/>
                </a:cubicBezTo>
                <a:cubicBezTo>
                  <a:pt x="6201" y="14359"/>
                  <a:pt x="6312" y="14400"/>
                  <a:pt x="6350" y="14412"/>
                </a:cubicBezTo>
                <a:cubicBezTo>
                  <a:pt x="6424" y="14436"/>
                  <a:pt x="6484" y="14486"/>
                  <a:pt x="6548" y="14511"/>
                </a:cubicBezTo>
                <a:cubicBezTo>
                  <a:pt x="6565" y="14519"/>
                  <a:pt x="6581" y="14528"/>
                  <a:pt x="6598" y="14536"/>
                </a:cubicBezTo>
              </a:path>
              <a:path w="5260" h="4887">
                <a:moveTo>
                  <a:pt x="6300" y="14734"/>
                </a:moveTo>
                <a:cubicBezTo>
                  <a:pt x="6377" y="14726"/>
                  <a:pt x="6424" y="14694"/>
                  <a:pt x="6499" y="14684"/>
                </a:cubicBezTo>
                <a:cubicBezTo>
                  <a:pt x="6602" y="14670"/>
                  <a:pt x="6590" y="14701"/>
                  <a:pt x="6623" y="14784"/>
                </a:cubicBezTo>
                <a:cubicBezTo>
                  <a:pt x="6559" y="14821"/>
                  <a:pt x="6497" y="14848"/>
                  <a:pt x="6424" y="14883"/>
                </a:cubicBezTo>
                <a:cubicBezTo>
                  <a:pt x="6379" y="14904"/>
                  <a:pt x="6359" y="14923"/>
                  <a:pt x="6325" y="14957"/>
                </a:cubicBezTo>
                <a:cubicBezTo>
                  <a:pt x="6403" y="15067"/>
                  <a:pt x="6466" y="15029"/>
                  <a:pt x="6598" y="15007"/>
                </a:cubicBezTo>
              </a:path>
              <a:path w="5260" h="4887">
                <a:moveTo>
                  <a:pt x="6697" y="15032"/>
                </a:moveTo>
                <a:cubicBezTo>
                  <a:pt x="6608" y="15073"/>
                  <a:pt x="6497" y="15136"/>
                  <a:pt x="6400" y="15156"/>
                </a:cubicBezTo>
                <a:cubicBezTo>
                  <a:pt x="6328" y="15171"/>
                  <a:pt x="6241" y="15165"/>
                  <a:pt x="6176" y="15205"/>
                </a:cubicBezTo>
                <a:cubicBezTo>
                  <a:pt x="6154" y="15228"/>
                  <a:pt x="6149" y="15236"/>
                  <a:pt x="6127" y="15230"/>
                </a:cubicBezTo>
              </a:path>
              <a:path w="5260" h="4887">
                <a:moveTo>
                  <a:pt x="6176" y="15304"/>
                </a:moveTo>
                <a:cubicBezTo>
                  <a:pt x="6260" y="15304"/>
                  <a:pt x="6356" y="15318"/>
                  <a:pt x="6424" y="15329"/>
                </a:cubicBezTo>
                <a:cubicBezTo>
                  <a:pt x="6469" y="15329"/>
                  <a:pt x="6482" y="15326"/>
                  <a:pt x="6499" y="15354"/>
                </a:cubicBezTo>
                <a:cubicBezTo>
                  <a:pt x="6456" y="15414"/>
                  <a:pt x="6417" y="15443"/>
                  <a:pt x="6350" y="15478"/>
                </a:cubicBezTo>
                <a:cubicBezTo>
                  <a:pt x="6311" y="15499"/>
                  <a:pt x="6198" y="15545"/>
                  <a:pt x="6201" y="15602"/>
                </a:cubicBezTo>
                <a:cubicBezTo>
                  <a:pt x="6207" y="15724"/>
                  <a:pt x="6285" y="15737"/>
                  <a:pt x="6375" y="15776"/>
                </a:cubicBezTo>
                <a:cubicBezTo>
                  <a:pt x="6460" y="15813"/>
                  <a:pt x="6503" y="15819"/>
                  <a:pt x="6598" y="15825"/>
                </a:cubicBezTo>
              </a:path>
              <a:path w="5260" h="4887">
                <a:moveTo>
                  <a:pt x="6598" y="16297"/>
                </a:moveTo>
                <a:cubicBezTo>
                  <a:pt x="6688" y="16297"/>
                  <a:pt x="6762" y="16300"/>
                  <a:pt x="6846" y="16272"/>
                </a:cubicBezTo>
                <a:cubicBezTo>
                  <a:pt x="6924" y="16246"/>
                  <a:pt x="6952" y="16236"/>
                  <a:pt x="6995" y="16197"/>
                </a:cubicBezTo>
              </a:path>
              <a:path w="5260" h="4887">
                <a:moveTo>
                  <a:pt x="7020" y="15875"/>
                </a:moveTo>
                <a:cubicBezTo>
                  <a:pt x="7044" y="15970"/>
                  <a:pt x="7059" y="16072"/>
                  <a:pt x="7045" y="16173"/>
                </a:cubicBezTo>
                <a:cubicBezTo>
                  <a:pt x="7031" y="16272"/>
                  <a:pt x="7020" y="16347"/>
                  <a:pt x="7020" y="16446"/>
                </a:cubicBezTo>
              </a:path>
              <a:path w="5260" h="4887">
                <a:moveTo>
                  <a:pt x="7243" y="16396"/>
                </a:moveTo>
                <a:cubicBezTo>
                  <a:pt x="7163" y="16426"/>
                  <a:pt x="7078" y="16436"/>
                  <a:pt x="6995" y="16470"/>
                </a:cubicBezTo>
                <a:cubicBezTo>
                  <a:pt x="6921" y="16500"/>
                  <a:pt x="6837" y="16507"/>
                  <a:pt x="6772" y="16545"/>
                </a:cubicBezTo>
                <a:cubicBezTo>
                  <a:pt x="6723" y="16573"/>
                  <a:pt x="6663" y="16587"/>
                  <a:pt x="6623" y="16619"/>
                </a:cubicBezTo>
                <a:cubicBezTo>
                  <a:pt x="6615" y="16627"/>
                  <a:pt x="6606" y="16636"/>
                  <a:pt x="6598" y="16644"/>
                </a:cubicBezTo>
              </a:path>
              <a:path w="5260" h="4887">
                <a:moveTo>
                  <a:pt x="6821" y="16694"/>
                </a:moveTo>
                <a:cubicBezTo>
                  <a:pt x="6852" y="16699"/>
                  <a:pt x="7031" y="16700"/>
                  <a:pt x="7045" y="16768"/>
                </a:cubicBezTo>
                <a:cubicBezTo>
                  <a:pt x="7067" y="16870"/>
                  <a:pt x="6976" y="16911"/>
                  <a:pt x="6896" y="16942"/>
                </a:cubicBezTo>
                <a:cubicBezTo>
                  <a:pt x="6838" y="16964"/>
                  <a:pt x="6740" y="16991"/>
                  <a:pt x="6697" y="17041"/>
                </a:cubicBezTo>
                <a:cubicBezTo>
                  <a:pt x="6651" y="17094"/>
                  <a:pt x="6673" y="17194"/>
                  <a:pt x="6722" y="17239"/>
                </a:cubicBezTo>
                <a:cubicBezTo>
                  <a:pt x="6793" y="17305"/>
                  <a:pt x="6878" y="17289"/>
                  <a:pt x="6970" y="17289"/>
                </a:cubicBezTo>
                <a:cubicBezTo>
                  <a:pt x="7003" y="17289"/>
                  <a:pt x="7036" y="17289"/>
                  <a:pt x="7069" y="17289"/>
                </a:cubicBezTo>
              </a:path>
              <a:path w="5260" h="4887">
                <a:moveTo>
                  <a:pt x="7491" y="16247"/>
                </a:moveTo>
                <a:cubicBezTo>
                  <a:pt x="7584" y="16254"/>
                  <a:pt x="7670" y="16272"/>
                  <a:pt x="7764" y="16272"/>
                </a:cubicBezTo>
              </a:path>
              <a:path w="5260" h="4887">
                <a:moveTo>
                  <a:pt x="7938" y="16098"/>
                </a:moveTo>
                <a:cubicBezTo>
                  <a:pt x="7902" y="16204"/>
                  <a:pt x="7863" y="16533"/>
                  <a:pt x="7863" y="16421"/>
                </a:cubicBezTo>
                <a:cubicBezTo>
                  <a:pt x="7863" y="16325"/>
                  <a:pt x="7884" y="16242"/>
                  <a:pt x="7888" y="16148"/>
                </a:cubicBezTo>
                <a:cubicBezTo>
                  <a:pt x="7891" y="16057"/>
                  <a:pt x="7906" y="15961"/>
                  <a:pt x="7938" y="15875"/>
                </a:cubicBezTo>
                <a:cubicBezTo>
                  <a:pt x="7961" y="15814"/>
                  <a:pt x="7964" y="15720"/>
                  <a:pt x="8062" y="15751"/>
                </a:cubicBezTo>
                <a:cubicBezTo>
                  <a:pt x="8142" y="15776"/>
                  <a:pt x="8191" y="15810"/>
                  <a:pt x="8260" y="15875"/>
                </a:cubicBezTo>
                <a:cubicBezTo>
                  <a:pt x="8268" y="15883"/>
                  <a:pt x="8277" y="15892"/>
                  <a:pt x="8285" y="15900"/>
                </a:cubicBezTo>
              </a:path>
              <a:path w="5260" h="4887">
                <a:moveTo>
                  <a:pt x="8161" y="16098"/>
                </a:moveTo>
                <a:cubicBezTo>
                  <a:pt x="8234" y="16147"/>
                  <a:pt x="8272" y="16134"/>
                  <a:pt x="8285" y="16222"/>
                </a:cubicBezTo>
                <a:cubicBezTo>
                  <a:pt x="8217" y="16263"/>
                  <a:pt x="8178" y="16242"/>
                  <a:pt x="8111" y="16197"/>
                </a:cubicBezTo>
                <a:cubicBezTo>
                  <a:pt x="8139" y="16225"/>
                  <a:pt x="8247" y="16296"/>
                  <a:pt x="8260" y="16321"/>
                </a:cubicBezTo>
                <a:cubicBezTo>
                  <a:pt x="8300" y="16400"/>
                  <a:pt x="8227" y="16466"/>
                  <a:pt x="8161" y="16470"/>
                </a:cubicBezTo>
                <a:cubicBezTo>
                  <a:pt x="8090" y="16474"/>
                  <a:pt x="8059" y="16443"/>
                  <a:pt x="8012" y="16396"/>
                </a:cubicBezTo>
                <a:cubicBezTo>
                  <a:pt x="7969" y="16353"/>
                  <a:pt x="7963" y="16368"/>
                  <a:pt x="7987" y="16321"/>
                </a:cubicBezTo>
              </a:path>
              <a:path w="5260" h="4887">
                <a:moveTo>
                  <a:pt x="8434" y="16470"/>
                </a:moveTo>
                <a:cubicBezTo>
                  <a:pt x="8302" y="16536"/>
                  <a:pt x="8190" y="16631"/>
                  <a:pt x="8062" y="16694"/>
                </a:cubicBezTo>
                <a:cubicBezTo>
                  <a:pt x="7990" y="16730"/>
                  <a:pt x="7911" y="16756"/>
                  <a:pt x="7838" y="16793"/>
                </a:cubicBezTo>
                <a:cubicBezTo>
                  <a:pt x="7798" y="16813"/>
                  <a:pt x="7778" y="16833"/>
                  <a:pt x="7739" y="16842"/>
                </a:cubicBezTo>
              </a:path>
              <a:path w="5260" h="4887">
                <a:moveTo>
                  <a:pt x="8111" y="16793"/>
                </a:moveTo>
                <a:cubicBezTo>
                  <a:pt x="8183" y="16840"/>
                  <a:pt x="8204" y="16855"/>
                  <a:pt x="8260" y="16867"/>
                </a:cubicBezTo>
                <a:cubicBezTo>
                  <a:pt x="8180" y="16920"/>
                  <a:pt x="8114" y="16938"/>
                  <a:pt x="8012" y="16942"/>
                </a:cubicBezTo>
                <a:cubicBezTo>
                  <a:pt x="7944" y="16945"/>
                  <a:pt x="7857" y="16966"/>
                  <a:pt x="7888" y="17066"/>
                </a:cubicBezTo>
                <a:cubicBezTo>
                  <a:pt x="7899" y="17103"/>
                  <a:pt x="7984" y="17243"/>
                  <a:pt x="8012" y="17264"/>
                </a:cubicBezTo>
                <a:cubicBezTo>
                  <a:pt x="8082" y="17315"/>
                  <a:pt x="8196" y="17372"/>
                  <a:pt x="8285" y="17388"/>
                </a:cubicBezTo>
                <a:cubicBezTo>
                  <a:pt x="8301" y="17388"/>
                  <a:pt x="8318" y="17388"/>
                  <a:pt x="8334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Ink 22"/>
          <p:cNvSpPr/>
          <p:nvPr/>
        </p:nvSpPr>
        <p:spPr>
          <a:xfrm>
            <a:off x="6796080" y="4537080"/>
            <a:ext cx="982800" cy="1123920"/>
          </a:xfrm>
          <a:custGeom>
            <a:avLst/>
            <a:gdLst/>
            <a:ahLst/>
            <a:rect l="l" t="t" r="r" b="b"/>
            <a:pathLst>
              <a:path w="2730" h="3126">
                <a:moveTo>
                  <a:pt x="20017" y="13022"/>
                </a:moveTo>
                <a:cubicBezTo>
                  <a:pt x="20056" y="13139"/>
                  <a:pt x="20058" y="13158"/>
                  <a:pt x="20092" y="13221"/>
                </a:cubicBezTo>
                <a:cubicBezTo>
                  <a:pt x="20082" y="13152"/>
                  <a:pt x="20067" y="13100"/>
                  <a:pt x="20067" y="13022"/>
                </a:cubicBezTo>
                <a:cubicBezTo>
                  <a:pt x="20067" y="12941"/>
                  <a:pt x="20104" y="12865"/>
                  <a:pt x="20117" y="12799"/>
                </a:cubicBezTo>
                <a:cubicBezTo>
                  <a:pt x="20129" y="12739"/>
                  <a:pt x="20141" y="12628"/>
                  <a:pt x="20216" y="12601"/>
                </a:cubicBezTo>
                <a:cubicBezTo>
                  <a:pt x="20306" y="12569"/>
                  <a:pt x="20342" y="12627"/>
                  <a:pt x="20414" y="12650"/>
                </a:cubicBezTo>
                <a:cubicBezTo>
                  <a:pt x="20422" y="12650"/>
                  <a:pt x="20431" y="12650"/>
                  <a:pt x="20439" y="12650"/>
                </a:cubicBezTo>
              </a:path>
              <a:path w="2730" h="3126">
                <a:moveTo>
                  <a:pt x="20340" y="12799"/>
                </a:moveTo>
                <a:cubicBezTo>
                  <a:pt x="20380" y="12819"/>
                  <a:pt x="20482" y="12821"/>
                  <a:pt x="20513" y="12849"/>
                </a:cubicBezTo>
                <a:cubicBezTo>
                  <a:pt x="20613" y="12940"/>
                  <a:pt x="20483" y="13007"/>
                  <a:pt x="20414" y="13022"/>
                </a:cubicBezTo>
                <a:cubicBezTo>
                  <a:pt x="20370" y="13022"/>
                  <a:pt x="20356" y="13019"/>
                  <a:pt x="20340" y="13047"/>
                </a:cubicBezTo>
                <a:cubicBezTo>
                  <a:pt x="20438" y="13047"/>
                  <a:pt x="20464" y="13055"/>
                  <a:pt x="20538" y="13122"/>
                </a:cubicBezTo>
                <a:cubicBezTo>
                  <a:pt x="20595" y="13174"/>
                  <a:pt x="20549" y="13264"/>
                  <a:pt x="20513" y="13320"/>
                </a:cubicBezTo>
                <a:cubicBezTo>
                  <a:pt x="20477" y="13377"/>
                  <a:pt x="20356" y="13350"/>
                  <a:pt x="20315" y="13320"/>
                </a:cubicBezTo>
                <a:cubicBezTo>
                  <a:pt x="20290" y="13295"/>
                  <a:pt x="20282" y="13287"/>
                  <a:pt x="20265" y="13271"/>
                </a:cubicBezTo>
              </a:path>
              <a:path w="2730" h="3126">
                <a:moveTo>
                  <a:pt x="20042" y="13246"/>
                </a:moveTo>
                <a:cubicBezTo>
                  <a:pt x="20162" y="13312"/>
                  <a:pt x="20255" y="13355"/>
                  <a:pt x="20389" y="13370"/>
                </a:cubicBezTo>
                <a:cubicBezTo>
                  <a:pt x="20472" y="13379"/>
                  <a:pt x="20531" y="13374"/>
                  <a:pt x="20613" y="13395"/>
                </a:cubicBezTo>
              </a:path>
              <a:path w="2730" h="3126">
                <a:moveTo>
                  <a:pt x="20340" y="13519"/>
                </a:moveTo>
                <a:cubicBezTo>
                  <a:pt x="20395" y="13551"/>
                  <a:pt x="20446" y="13543"/>
                  <a:pt x="20513" y="13543"/>
                </a:cubicBezTo>
                <a:cubicBezTo>
                  <a:pt x="20565" y="13543"/>
                  <a:pt x="20583" y="13544"/>
                  <a:pt x="20613" y="13568"/>
                </a:cubicBezTo>
                <a:cubicBezTo>
                  <a:pt x="20606" y="13614"/>
                  <a:pt x="20589" y="13690"/>
                  <a:pt x="20538" y="13717"/>
                </a:cubicBezTo>
                <a:cubicBezTo>
                  <a:pt x="20468" y="13754"/>
                  <a:pt x="20387" y="13780"/>
                  <a:pt x="20315" y="13816"/>
                </a:cubicBezTo>
                <a:cubicBezTo>
                  <a:pt x="20343" y="13929"/>
                  <a:pt x="20371" y="13935"/>
                  <a:pt x="20489" y="13940"/>
                </a:cubicBezTo>
                <a:cubicBezTo>
                  <a:pt x="20584" y="13944"/>
                  <a:pt x="20629" y="13912"/>
                  <a:pt x="20712" y="13866"/>
                </a:cubicBezTo>
              </a:path>
              <a:path w="2730" h="3126">
                <a:moveTo>
                  <a:pt x="20910" y="13146"/>
                </a:moveTo>
                <a:cubicBezTo>
                  <a:pt x="20988" y="13133"/>
                  <a:pt x="21071" y="13129"/>
                  <a:pt x="21134" y="13097"/>
                </a:cubicBezTo>
              </a:path>
              <a:path w="2730" h="3126">
                <a:moveTo>
                  <a:pt x="21332" y="12650"/>
                </a:moveTo>
                <a:cubicBezTo>
                  <a:pt x="21332" y="12780"/>
                  <a:pt x="21312" y="12895"/>
                  <a:pt x="21307" y="13022"/>
                </a:cubicBezTo>
                <a:cubicBezTo>
                  <a:pt x="21307" y="13088"/>
                  <a:pt x="21307" y="13105"/>
                  <a:pt x="21307" y="13146"/>
                </a:cubicBezTo>
              </a:path>
              <a:path w="2730" h="3126">
                <a:moveTo>
                  <a:pt x="21158" y="13171"/>
                </a:moveTo>
                <a:cubicBezTo>
                  <a:pt x="21282" y="13171"/>
                  <a:pt x="21406" y="13171"/>
                  <a:pt x="21530" y="13171"/>
                </a:cubicBezTo>
              </a:path>
              <a:path w="2730" h="3126">
                <a:moveTo>
                  <a:pt x="21307" y="13370"/>
                </a:moveTo>
                <a:cubicBezTo>
                  <a:pt x="21368" y="13407"/>
                  <a:pt x="21441" y="13392"/>
                  <a:pt x="21506" y="13419"/>
                </a:cubicBezTo>
                <a:cubicBezTo>
                  <a:pt x="21495" y="13495"/>
                  <a:pt x="21477" y="13506"/>
                  <a:pt x="21406" y="13543"/>
                </a:cubicBezTo>
                <a:cubicBezTo>
                  <a:pt x="21361" y="13567"/>
                  <a:pt x="21326" y="13593"/>
                  <a:pt x="21282" y="13618"/>
                </a:cubicBezTo>
                <a:cubicBezTo>
                  <a:pt x="21312" y="13692"/>
                  <a:pt x="21340" y="13751"/>
                  <a:pt x="21431" y="13767"/>
                </a:cubicBezTo>
                <a:cubicBezTo>
                  <a:pt x="21491" y="13777"/>
                  <a:pt x="21545" y="13784"/>
                  <a:pt x="21605" y="13791"/>
                </a:cubicBezTo>
              </a:path>
              <a:path w="2730" h="3126">
                <a:moveTo>
                  <a:pt x="18901" y="14759"/>
                </a:moveTo>
                <a:cubicBezTo>
                  <a:pt x="18888" y="14849"/>
                  <a:pt x="18875" y="14924"/>
                  <a:pt x="18926" y="15007"/>
                </a:cubicBezTo>
                <a:cubicBezTo>
                  <a:pt x="18951" y="15032"/>
                  <a:pt x="18959" y="15040"/>
                  <a:pt x="18976" y="15056"/>
                </a:cubicBezTo>
                <a:cubicBezTo>
                  <a:pt x="19001" y="14986"/>
                  <a:pt x="19000" y="14933"/>
                  <a:pt x="19000" y="14858"/>
                </a:cubicBezTo>
                <a:cubicBezTo>
                  <a:pt x="19000" y="14716"/>
                  <a:pt x="18974" y="14546"/>
                  <a:pt x="19025" y="14412"/>
                </a:cubicBezTo>
                <a:cubicBezTo>
                  <a:pt x="19062" y="14316"/>
                  <a:pt x="19127" y="14334"/>
                  <a:pt x="19199" y="14362"/>
                </a:cubicBezTo>
                <a:cubicBezTo>
                  <a:pt x="19265" y="14388"/>
                  <a:pt x="19332" y="14408"/>
                  <a:pt x="19397" y="14436"/>
                </a:cubicBezTo>
              </a:path>
              <a:path w="2730" h="3126">
                <a:moveTo>
                  <a:pt x="19248" y="14684"/>
                </a:moveTo>
                <a:cubicBezTo>
                  <a:pt x="19215" y="14718"/>
                  <a:pt x="19182" y="14751"/>
                  <a:pt x="19149" y="14784"/>
                </a:cubicBezTo>
                <a:cubicBezTo>
                  <a:pt x="19229" y="14810"/>
                  <a:pt x="19318" y="14808"/>
                  <a:pt x="19397" y="14833"/>
                </a:cubicBezTo>
                <a:cubicBezTo>
                  <a:pt x="19419" y="14840"/>
                  <a:pt x="19549" y="14897"/>
                  <a:pt x="19546" y="14932"/>
                </a:cubicBezTo>
                <a:cubicBezTo>
                  <a:pt x="19543" y="14980"/>
                  <a:pt x="19441" y="15046"/>
                  <a:pt x="19397" y="15056"/>
                </a:cubicBezTo>
                <a:cubicBezTo>
                  <a:pt x="19337" y="15070"/>
                  <a:pt x="19292" y="15068"/>
                  <a:pt x="19323" y="15131"/>
                </a:cubicBezTo>
              </a:path>
              <a:path w="2730" h="3126">
                <a:moveTo>
                  <a:pt x="19075" y="14660"/>
                </a:moveTo>
                <a:cubicBezTo>
                  <a:pt x="19149" y="14660"/>
                  <a:pt x="19205" y="14673"/>
                  <a:pt x="19273" y="14684"/>
                </a:cubicBezTo>
                <a:cubicBezTo>
                  <a:pt x="19326" y="14693"/>
                  <a:pt x="19458" y="14652"/>
                  <a:pt x="19422" y="14759"/>
                </a:cubicBezTo>
                <a:cubicBezTo>
                  <a:pt x="19400" y="14824"/>
                  <a:pt x="19262" y="14867"/>
                  <a:pt x="19199" y="14883"/>
                </a:cubicBezTo>
                <a:cubicBezTo>
                  <a:pt x="19243" y="14910"/>
                  <a:pt x="19318" y="14923"/>
                  <a:pt x="19372" y="14932"/>
                </a:cubicBezTo>
                <a:cubicBezTo>
                  <a:pt x="19454" y="14945"/>
                  <a:pt x="19493" y="14943"/>
                  <a:pt x="19571" y="14982"/>
                </a:cubicBezTo>
                <a:cubicBezTo>
                  <a:pt x="19614" y="15004"/>
                  <a:pt x="19650" y="15023"/>
                  <a:pt x="19695" y="15032"/>
                </a:cubicBezTo>
              </a:path>
              <a:path w="2730" h="3126">
                <a:moveTo>
                  <a:pt x="19472" y="15106"/>
                </a:moveTo>
                <a:cubicBezTo>
                  <a:pt x="19317" y="15106"/>
                  <a:pt x="19172" y="15109"/>
                  <a:pt x="19025" y="15131"/>
                </a:cubicBezTo>
                <a:cubicBezTo>
                  <a:pt x="18967" y="15131"/>
                  <a:pt x="18942" y="15131"/>
                  <a:pt x="18901" y="15131"/>
                </a:cubicBezTo>
              </a:path>
              <a:path w="2730" h="3126">
                <a:moveTo>
                  <a:pt x="19323" y="15106"/>
                </a:moveTo>
                <a:cubicBezTo>
                  <a:pt x="19422" y="15187"/>
                  <a:pt x="19503" y="15200"/>
                  <a:pt x="19447" y="15304"/>
                </a:cubicBezTo>
                <a:cubicBezTo>
                  <a:pt x="19393" y="15405"/>
                  <a:pt x="19349" y="15383"/>
                  <a:pt x="19273" y="15429"/>
                </a:cubicBezTo>
                <a:cubicBezTo>
                  <a:pt x="19195" y="15476"/>
                  <a:pt x="19175" y="15515"/>
                  <a:pt x="19224" y="15602"/>
                </a:cubicBezTo>
                <a:cubicBezTo>
                  <a:pt x="19250" y="15649"/>
                  <a:pt x="19374" y="15694"/>
                  <a:pt x="19422" y="15701"/>
                </a:cubicBezTo>
                <a:cubicBezTo>
                  <a:pt x="19455" y="15701"/>
                  <a:pt x="19488" y="15701"/>
                  <a:pt x="19521" y="15701"/>
                </a:cubicBezTo>
              </a:path>
              <a:path w="2730" h="3126">
                <a:moveTo>
                  <a:pt x="19893" y="14660"/>
                </a:moveTo>
                <a:cubicBezTo>
                  <a:pt x="19977" y="14678"/>
                  <a:pt x="20057" y="14700"/>
                  <a:pt x="20141" y="14709"/>
                </a:cubicBezTo>
              </a:path>
              <a:path w="2730" h="3126">
                <a:moveTo>
                  <a:pt x="20265" y="14560"/>
                </a:moveTo>
                <a:cubicBezTo>
                  <a:pt x="20260" y="14691"/>
                  <a:pt x="20241" y="14805"/>
                  <a:pt x="20241" y="14932"/>
                </a:cubicBezTo>
                <a:cubicBezTo>
                  <a:pt x="20241" y="14949"/>
                  <a:pt x="20241" y="14965"/>
                  <a:pt x="20241" y="14982"/>
                </a:cubicBezTo>
                <a:cubicBezTo>
                  <a:pt x="20241" y="14829"/>
                  <a:pt x="20245" y="14685"/>
                  <a:pt x="20265" y="14536"/>
                </a:cubicBezTo>
                <a:cubicBezTo>
                  <a:pt x="20274" y="14464"/>
                  <a:pt x="20306" y="14409"/>
                  <a:pt x="20315" y="14337"/>
                </a:cubicBezTo>
                <a:cubicBezTo>
                  <a:pt x="20478" y="14362"/>
                  <a:pt x="20511" y="14397"/>
                  <a:pt x="20613" y="14486"/>
                </a:cubicBezTo>
                <a:cubicBezTo>
                  <a:pt x="20629" y="14494"/>
                  <a:pt x="20646" y="14503"/>
                  <a:pt x="20662" y="14511"/>
                </a:cubicBezTo>
              </a:path>
              <a:path w="2730" h="3126">
                <a:moveTo>
                  <a:pt x="20662" y="14585"/>
                </a:moveTo>
                <a:cubicBezTo>
                  <a:pt x="20662" y="14676"/>
                  <a:pt x="20662" y="14767"/>
                  <a:pt x="20662" y="14858"/>
                </a:cubicBezTo>
                <a:cubicBezTo>
                  <a:pt x="20592" y="14867"/>
                  <a:pt x="20537" y="14883"/>
                  <a:pt x="20464" y="14883"/>
                </a:cubicBezTo>
                <a:cubicBezTo>
                  <a:pt x="20447" y="14883"/>
                  <a:pt x="20431" y="14883"/>
                  <a:pt x="20414" y="14883"/>
                </a:cubicBezTo>
              </a:path>
              <a:path w="2730" h="3126">
                <a:moveTo>
                  <a:pt x="20489" y="14560"/>
                </a:moveTo>
                <a:cubicBezTo>
                  <a:pt x="20571" y="14537"/>
                  <a:pt x="20573" y="14569"/>
                  <a:pt x="20638" y="14635"/>
                </a:cubicBezTo>
                <a:cubicBezTo>
                  <a:pt x="20699" y="14697"/>
                  <a:pt x="20715" y="14728"/>
                  <a:pt x="20687" y="14808"/>
                </a:cubicBezTo>
                <a:cubicBezTo>
                  <a:pt x="20675" y="14842"/>
                  <a:pt x="20602" y="14921"/>
                  <a:pt x="20563" y="14932"/>
                </a:cubicBezTo>
                <a:cubicBezTo>
                  <a:pt x="20521" y="14944"/>
                  <a:pt x="20412" y="14928"/>
                  <a:pt x="20389" y="14883"/>
                </a:cubicBezTo>
                <a:cubicBezTo>
                  <a:pt x="20389" y="14866"/>
                  <a:pt x="20389" y="14850"/>
                  <a:pt x="20389" y="14833"/>
                </a:cubicBezTo>
                <a:cubicBezTo>
                  <a:pt x="20476" y="14789"/>
                  <a:pt x="20514" y="14815"/>
                  <a:pt x="20588" y="14883"/>
                </a:cubicBezTo>
                <a:cubicBezTo>
                  <a:pt x="20639" y="14930"/>
                  <a:pt x="20670" y="15002"/>
                  <a:pt x="20712" y="15056"/>
                </a:cubicBezTo>
                <a:cubicBezTo>
                  <a:pt x="20720" y="15064"/>
                  <a:pt x="20729" y="15073"/>
                  <a:pt x="20737" y="15081"/>
                </a:cubicBezTo>
              </a:path>
              <a:path w="2730" h="3126">
                <a:moveTo>
                  <a:pt x="20861" y="14982"/>
                </a:moveTo>
                <a:cubicBezTo>
                  <a:pt x="20792" y="15060"/>
                  <a:pt x="20752" y="15097"/>
                  <a:pt x="20662" y="15156"/>
                </a:cubicBezTo>
                <a:cubicBezTo>
                  <a:pt x="20585" y="15206"/>
                  <a:pt x="20507" y="15267"/>
                  <a:pt x="20439" y="15329"/>
                </a:cubicBezTo>
                <a:cubicBezTo>
                  <a:pt x="20413" y="15353"/>
                  <a:pt x="20389" y="15379"/>
                  <a:pt x="20365" y="15404"/>
                </a:cubicBezTo>
              </a:path>
              <a:path w="2730" h="3126">
                <a:moveTo>
                  <a:pt x="20464" y="15280"/>
                </a:moveTo>
                <a:cubicBezTo>
                  <a:pt x="20544" y="15287"/>
                  <a:pt x="20614" y="15296"/>
                  <a:pt x="20687" y="15329"/>
                </a:cubicBezTo>
                <a:cubicBezTo>
                  <a:pt x="20758" y="15361"/>
                  <a:pt x="20753" y="15384"/>
                  <a:pt x="20762" y="15453"/>
                </a:cubicBezTo>
                <a:cubicBezTo>
                  <a:pt x="20695" y="15453"/>
                  <a:pt x="20642" y="15467"/>
                  <a:pt x="20588" y="15478"/>
                </a:cubicBezTo>
                <a:cubicBezTo>
                  <a:pt x="20571" y="15478"/>
                  <a:pt x="20555" y="15478"/>
                  <a:pt x="20538" y="15478"/>
                </a:cubicBezTo>
                <a:cubicBezTo>
                  <a:pt x="20548" y="15569"/>
                  <a:pt x="20559" y="15604"/>
                  <a:pt x="20638" y="15652"/>
                </a:cubicBezTo>
                <a:cubicBezTo>
                  <a:pt x="20729" y="15707"/>
                  <a:pt x="20832" y="15718"/>
                  <a:pt x="20935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23"/>
          <p:cNvSpPr/>
          <p:nvPr/>
        </p:nvSpPr>
        <p:spPr>
          <a:xfrm>
            <a:off x="6143760" y="5661000"/>
            <a:ext cx="590400" cy="573120"/>
          </a:xfrm>
          <a:custGeom>
            <a:avLst/>
            <a:gdLst/>
            <a:ahLst/>
            <a:rect l="l" t="t" r="r" b="b"/>
            <a:pathLst>
              <a:path w="1638" h="1589">
                <a:moveTo>
                  <a:pt x="17413" y="15801"/>
                </a:moveTo>
                <a:cubicBezTo>
                  <a:pt x="17441" y="15908"/>
                  <a:pt x="17462" y="15989"/>
                  <a:pt x="17462" y="16098"/>
                </a:cubicBezTo>
                <a:cubicBezTo>
                  <a:pt x="17462" y="16173"/>
                  <a:pt x="17462" y="16197"/>
                  <a:pt x="17462" y="16247"/>
                </a:cubicBezTo>
              </a:path>
              <a:path w="1638" h="1589">
                <a:moveTo>
                  <a:pt x="17066" y="16346"/>
                </a:moveTo>
                <a:cubicBezTo>
                  <a:pt x="17138" y="16383"/>
                  <a:pt x="17250" y="16385"/>
                  <a:pt x="17338" y="16371"/>
                </a:cubicBezTo>
                <a:cubicBezTo>
                  <a:pt x="17450" y="16353"/>
                  <a:pt x="17504" y="16335"/>
                  <a:pt x="17611" y="16371"/>
                </a:cubicBezTo>
              </a:path>
              <a:path w="1638" h="1589">
                <a:moveTo>
                  <a:pt x="17314" y="16470"/>
                </a:moveTo>
                <a:cubicBezTo>
                  <a:pt x="17359" y="16516"/>
                  <a:pt x="17406" y="16559"/>
                  <a:pt x="17462" y="16570"/>
                </a:cubicBezTo>
                <a:cubicBezTo>
                  <a:pt x="17507" y="16570"/>
                  <a:pt x="17520" y="16566"/>
                  <a:pt x="17537" y="16594"/>
                </a:cubicBezTo>
                <a:cubicBezTo>
                  <a:pt x="17494" y="16680"/>
                  <a:pt x="17474" y="16700"/>
                  <a:pt x="17388" y="16743"/>
                </a:cubicBezTo>
                <a:cubicBezTo>
                  <a:pt x="17313" y="16780"/>
                  <a:pt x="17320" y="16874"/>
                  <a:pt x="17363" y="16942"/>
                </a:cubicBezTo>
                <a:cubicBezTo>
                  <a:pt x="17382" y="16972"/>
                  <a:pt x="17503" y="17042"/>
                  <a:pt x="17537" y="17041"/>
                </a:cubicBezTo>
                <a:cubicBezTo>
                  <a:pt x="17570" y="17033"/>
                  <a:pt x="17603" y="17024"/>
                  <a:pt x="17636" y="17016"/>
                </a:cubicBezTo>
              </a:path>
              <a:path w="1638" h="1589">
                <a:moveTo>
                  <a:pt x="17983" y="16049"/>
                </a:moveTo>
                <a:cubicBezTo>
                  <a:pt x="18064" y="16092"/>
                  <a:pt x="18093" y="16099"/>
                  <a:pt x="18182" y="16123"/>
                </a:cubicBezTo>
              </a:path>
              <a:path w="1638" h="1589">
                <a:moveTo>
                  <a:pt x="18256" y="15949"/>
                </a:moveTo>
                <a:cubicBezTo>
                  <a:pt x="18256" y="16073"/>
                  <a:pt x="18256" y="16197"/>
                  <a:pt x="18256" y="16321"/>
                </a:cubicBezTo>
                <a:cubicBezTo>
                  <a:pt x="18225" y="16211"/>
                  <a:pt x="18207" y="16139"/>
                  <a:pt x="18207" y="16024"/>
                </a:cubicBezTo>
                <a:cubicBezTo>
                  <a:pt x="18207" y="15953"/>
                  <a:pt x="18226" y="15881"/>
                  <a:pt x="18256" y="15825"/>
                </a:cubicBezTo>
                <a:cubicBezTo>
                  <a:pt x="18291" y="15761"/>
                  <a:pt x="18344" y="15701"/>
                  <a:pt x="18430" y="15726"/>
                </a:cubicBezTo>
                <a:cubicBezTo>
                  <a:pt x="18464" y="15736"/>
                  <a:pt x="18548" y="15786"/>
                  <a:pt x="18579" y="15801"/>
                </a:cubicBezTo>
                <a:cubicBezTo>
                  <a:pt x="18587" y="15809"/>
                  <a:pt x="18596" y="15817"/>
                  <a:pt x="18604" y="15825"/>
                </a:cubicBezTo>
              </a:path>
              <a:path w="1638" h="1589">
                <a:moveTo>
                  <a:pt x="18504" y="15900"/>
                </a:moveTo>
                <a:cubicBezTo>
                  <a:pt x="18516" y="15995"/>
                  <a:pt x="18533" y="15996"/>
                  <a:pt x="18604" y="16049"/>
                </a:cubicBezTo>
                <a:cubicBezTo>
                  <a:pt x="18628" y="16073"/>
                  <a:pt x="18637" y="16082"/>
                  <a:pt x="18653" y="16098"/>
                </a:cubicBezTo>
                <a:cubicBezTo>
                  <a:pt x="18592" y="16071"/>
                  <a:pt x="18545" y="16056"/>
                  <a:pt x="18479" y="16049"/>
                </a:cubicBezTo>
                <a:cubicBezTo>
                  <a:pt x="18495" y="16145"/>
                  <a:pt x="18558" y="16204"/>
                  <a:pt x="18579" y="16297"/>
                </a:cubicBezTo>
                <a:cubicBezTo>
                  <a:pt x="18579" y="16346"/>
                  <a:pt x="18579" y="16363"/>
                  <a:pt x="18579" y="16396"/>
                </a:cubicBezTo>
                <a:cubicBezTo>
                  <a:pt x="18526" y="16396"/>
                  <a:pt x="18411" y="16408"/>
                  <a:pt x="18380" y="16346"/>
                </a:cubicBezTo>
                <a:cubicBezTo>
                  <a:pt x="18380" y="16305"/>
                  <a:pt x="18380" y="16297"/>
                  <a:pt x="18380" y="16272"/>
                </a:cubicBezTo>
              </a:path>
              <a:path w="1638" h="1589">
                <a:moveTo>
                  <a:pt x="18653" y="16346"/>
                </a:moveTo>
                <a:cubicBezTo>
                  <a:pt x="18571" y="16416"/>
                  <a:pt x="18453" y="16568"/>
                  <a:pt x="18355" y="16619"/>
                </a:cubicBezTo>
                <a:cubicBezTo>
                  <a:pt x="18288" y="16654"/>
                  <a:pt x="18280" y="16645"/>
                  <a:pt x="18231" y="16694"/>
                </a:cubicBezTo>
              </a:path>
              <a:path w="1638" h="1589">
                <a:moveTo>
                  <a:pt x="18331" y="16644"/>
                </a:moveTo>
                <a:cubicBezTo>
                  <a:pt x="18393" y="16667"/>
                  <a:pt x="18465" y="16683"/>
                  <a:pt x="18504" y="16743"/>
                </a:cubicBezTo>
                <a:cubicBezTo>
                  <a:pt x="18539" y="16798"/>
                  <a:pt x="18510" y="16878"/>
                  <a:pt x="18455" y="16917"/>
                </a:cubicBezTo>
                <a:cubicBezTo>
                  <a:pt x="18396" y="16960"/>
                  <a:pt x="18320" y="16946"/>
                  <a:pt x="18256" y="16991"/>
                </a:cubicBezTo>
                <a:cubicBezTo>
                  <a:pt x="18199" y="17030"/>
                  <a:pt x="18234" y="17122"/>
                  <a:pt x="18256" y="17165"/>
                </a:cubicBezTo>
                <a:cubicBezTo>
                  <a:pt x="18304" y="17260"/>
                  <a:pt x="18388" y="17265"/>
                  <a:pt x="18479" y="17289"/>
                </a:cubicBezTo>
                <a:cubicBezTo>
                  <a:pt x="18576" y="17321"/>
                  <a:pt x="18624" y="17330"/>
                  <a:pt x="18703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Ink 24"/>
          <p:cNvSpPr/>
          <p:nvPr/>
        </p:nvSpPr>
        <p:spPr>
          <a:xfrm>
            <a:off x="4626000" y="268200"/>
            <a:ext cx="204840" cy="393840"/>
          </a:xfrm>
          <a:custGeom>
            <a:avLst/>
            <a:gdLst/>
            <a:ahLst/>
            <a:rect l="l" t="t" r="r" b="b"/>
            <a:pathLst>
              <a:path w="571" h="1093">
                <a:moveTo>
                  <a:pt x="12998" y="794"/>
                </a:moveTo>
                <a:cubicBezTo>
                  <a:pt x="13095" y="794"/>
                  <a:pt x="13180" y="784"/>
                  <a:pt x="13271" y="769"/>
                </a:cubicBezTo>
                <a:cubicBezTo>
                  <a:pt x="13330" y="760"/>
                  <a:pt x="13343" y="784"/>
                  <a:pt x="13370" y="744"/>
                </a:cubicBezTo>
              </a:path>
              <a:path w="571" h="1093">
                <a:moveTo>
                  <a:pt x="13047" y="794"/>
                </a:moveTo>
                <a:cubicBezTo>
                  <a:pt x="13047" y="918"/>
                  <a:pt x="13047" y="1042"/>
                  <a:pt x="13047" y="1166"/>
                </a:cubicBezTo>
              </a:path>
              <a:path w="571" h="1093">
                <a:moveTo>
                  <a:pt x="13221" y="794"/>
                </a:moveTo>
                <a:cubicBezTo>
                  <a:pt x="13232" y="878"/>
                  <a:pt x="13246" y="952"/>
                  <a:pt x="13246" y="1042"/>
                </a:cubicBezTo>
                <a:cubicBezTo>
                  <a:pt x="13246" y="1115"/>
                  <a:pt x="13263" y="1163"/>
                  <a:pt x="13221" y="1191"/>
                </a:cubicBezTo>
              </a:path>
              <a:path w="571" h="1093">
                <a:moveTo>
                  <a:pt x="12849" y="1240"/>
                </a:moveTo>
                <a:cubicBezTo>
                  <a:pt x="12928" y="1240"/>
                  <a:pt x="13395" y="1198"/>
                  <a:pt x="13345" y="1215"/>
                </a:cubicBezTo>
                <a:cubicBezTo>
                  <a:pt x="13246" y="1256"/>
                  <a:pt x="13146" y="1298"/>
                  <a:pt x="13047" y="1339"/>
                </a:cubicBezTo>
              </a:path>
              <a:path w="571" h="1093">
                <a:moveTo>
                  <a:pt x="12948" y="1439"/>
                </a:moveTo>
                <a:cubicBezTo>
                  <a:pt x="13089" y="1406"/>
                  <a:pt x="13127" y="1389"/>
                  <a:pt x="13246" y="1389"/>
                </a:cubicBezTo>
                <a:cubicBezTo>
                  <a:pt x="13009" y="1800"/>
                  <a:pt x="12872" y="1811"/>
                  <a:pt x="13271" y="1811"/>
                </a:cubicBezTo>
                <a:cubicBezTo>
                  <a:pt x="13335" y="1811"/>
                  <a:pt x="13458" y="1825"/>
                  <a:pt x="13395" y="1811"/>
                </a:cubicBezTo>
                <a:cubicBezTo>
                  <a:pt x="13354" y="1803"/>
                  <a:pt x="13312" y="1794"/>
                  <a:pt x="13271" y="1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Ink 25"/>
          <p:cNvSpPr/>
          <p:nvPr/>
        </p:nvSpPr>
        <p:spPr>
          <a:xfrm>
            <a:off x="3232080" y="527040"/>
            <a:ext cx="420840" cy="492120"/>
          </a:xfrm>
          <a:custGeom>
            <a:avLst/>
            <a:gdLst/>
            <a:ahLst/>
            <a:rect l="l" t="t" r="r" b="b"/>
            <a:pathLst>
              <a:path w="1167" h="1366">
                <a:moveTo>
                  <a:pt x="9153" y="1637"/>
                </a:moveTo>
                <a:cubicBezTo>
                  <a:pt x="9153" y="1561"/>
                  <a:pt x="9151" y="1542"/>
                  <a:pt x="9203" y="1488"/>
                </a:cubicBezTo>
                <a:cubicBezTo>
                  <a:pt x="9211" y="1480"/>
                  <a:pt x="9219" y="1471"/>
                  <a:pt x="9227" y="1463"/>
                </a:cubicBezTo>
                <a:cubicBezTo>
                  <a:pt x="9293" y="1501"/>
                  <a:pt x="9343" y="1555"/>
                  <a:pt x="9351" y="1637"/>
                </a:cubicBezTo>
                <a:cubicBezTo>
                  <a:pt x="9364" y="1765"/>
                  <a:pt x="9355" y="1829"/>
                  <a:pt x="9302" y="1935"/>
                </a:cubicBezTo>
                <a:cubicBezTo>
                  <a:pt x="9288" y="1962"/>
                  <a:pt x="9212" y="2041"/>
                  <a:pt x="9178" y="2034"/>
                </a:cubicBezTo>
                <a:cubicBezTo>
                  <a:pt x="9101" y="2017"/>
                  <a:pt x="9134" y="1923"/>
                  <a:pt x="9153" y="1885"/>
                </a:cubicBezTo>
                <a:cubicBezTo>
                  <a:pt x="9226" y="1906"/>
                  <a:pt x="9249" y="1946"/>
                  <a:pt x="9302" y="2009"/>
                </a:cubicBezTo>
                <a:cubicBezTo>
                  <a:pt x="9324" y="2031"/>
                  <a:pt x="9329" y="2040"/>
                  <a:pt x="9351" y="2034"/>
                </a:cubicBezTo>
              </a:path>
              <a:path w="1167" h="1366">
                <a:moveTo>
                  <a:pt x="9575" y="1538"/>
                </a:moveTo>
                <a:cubicBezTo>
                  <a:pt x="9570" y="1694"/>
                  <a:pt x="9550" y="1831"/>
                  <a:pt x="9550" y="1984"/>
                </a:cubicBezTo>
                <a:cubicBezTo>
                  <a:pt x="9550" y="2063"/>
                  <a:pt x="9541" y="2089"/>
                  <a:pt x="9599" y="2059"/>
                </a:cubicBezTo>
              </a:path>
              <a:path w="1167" h="1366">
                <a:moveTo>
                  <a:pt x="9773" y="1463"/>
                </a:moveTo>
                <a:cubicBezTo>
                  <a:pt x="9773" y="1568"/>
                  <a:pt x="9745" y="1719"/>
                  <a:pt x="9798" y="1811"/>
                </a:cubicBezTo>
                <a:cubicBezTo>
                  <a:pt x="9818" y="1846"/>
                  <a:pt x="9851" y="1872"/>
                  <a:pt x="9872" y="1910"/>
                </a:cubicBezTo>
              </a:path>
              <a:path w="1167" h="1366">
                <a:moveTo>
                  <a:pt x="9426" y="1612"/>
                </a:moveTo>
                <a:cubicBezTo>
                  <a:pt x="9640" y="1535"/>
                  <a:pt x="9814" y="1509"/>
                  <a:pt x="10046" y="1488"/>
                </a:cubicBezTo>
                <a:cubicBezTo>
                  <a:pt x="10096" y="1488"/>
                  <a:pt x="10112" y="1488"/>
                  <a:pt x="10145" y="1488"/>
                </a:cubicBezTo>
              </a:path>
              <a:path w="1167" h="1366">
                <a:moveTo>
                  <a:pt x="8979" y="2183"/>
                </a:moveTo>
                <a:cubicBezTo>
                  <a:pt x="9086" y="2170"/>
                  <a:pt x="9197" y="2119"/>
                  <a:pt x="9302" y="2084"/>
                </a:cubicBezTo>
                <a:cubicBezTo>
                  <a:pt x="9538" y="2004"/>
                  <a:pt x="9727" y="1953"/>
                  <a:pt x="9947" y="1910"/>
                </a:cubicBezTo>
              </a:path>
              <a:path w="1167" h="1366">
                <a:moveTo>
                  <a:pt x="9475" y="2332"/>
                </a:moveTo>
                <a:cubicBezTo>
                  <a:pt x="9522" y="2285"/>
                  <a:pt x="9574" y="2271"/>
                  <a:pt x="9624" y="2232"/>
                </a:cubicBezTo>
                <a:cubicBezTo>
                  <a:pt x="9693" y="2179"/>
                  <a:pt x="9688" y="2183"/>
                  <a:pt x="9773" y="2183"/>
                </a:cubicBezTo>
                <a:cubicBezTo>
                  <a:pt x="9762" y="2261"/>
                  <a:pt x="9710" y="2348"/>
                  <a:pt x="9649" y="2406"/>
                </a:cubicBezTo>
                <a:cubicBezTo>
                  <a:pt x="9605" y="2428"/>
                  <a:pt x="9594" y="2431"/>
                  <a:pt x="9575" y="2456"/>
                </a:cubicBezTo>
                <a:cubicBezTo>
                  <a:pt x="9712" y="2479"/>
                  <a:pt x="9856" y="2468"/>
                  <a:pt x="9847" y="2654"/>
                </a:cubicBezTo>
                <a:cubicBezTo>
                  <a:pt x="9844" y="2721"/>
                  <a:pt x="9742" y="2748"/>
                  <a:pt x="9699" y="2778"/>
                </a:cubicBezTo>
                <a:cubicBezTo>
                  <a:pt x="9602" y="2846"/>
                  <a:pt x="9526" y="2816"/>
                  <a:pt x="9426" y="28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Ink 26"/>
          <p:cNvSpPr/>
          <p:nvPr/>
        </p:nvSpPr>
        <p:spPr>
          <a:xfrm>
            <a:off x="2197080" y="847800"/>
            <a:ext cx="795240" cy="1046160"/>
          </a:xfrm>
          <a:custGeom>
            <a:avLst/>
            <a:gdLst/>
            <a:ahLst/>
            <a:rect l="l" t="t" r="r" b="b"/>
            <a:pathLst>
              <a:path w="2209" h="2904">
                <a:moveTo>
                  <a:pt x="7466" y="2629"/>
                </a:moveTo>
                <a:cubicBezTo>
                  <a:pt x="7525" y="2556"/>
                  <a:pt x="7563" y="2543"/>
                  <a:pt x="7640" y="2505"/>
                </a:cubicBezTo>
                <a:cubicBezTo>
                  <a:pt x="7687" y="2481"/>
                  <a:pt x="7678" y="2495"/>
                  <a:pt x="7739" y="2530"/>
                </a:cubicBezTo>
                <a:cubicBezTo>
                  <a:pt x="7686" y="2637"/>
                  <a:pt x="7640" y="2760"/>
                  <a:pt x="7565" y="2853"/>
                </a:cubicBezTo>
                <a:cubicBezTo>
                  <a:pt x="7603" y="2787"/>
                  <a:pt x="7624" y="2735"/>
                  <a:pt x="7714" y="2753"/>
                </a:cubicBezTo>
                <a:cubicBezTo>
                  <a:pt x="7807" y="2772"/>
                  <a:pt x="7785" y="2868"/>
                  <a:pt x="7764" y="2927"/>
                </a:cubicBezTo>
                <a:cubicBezTo>
                  <a:pt x="7744" y="2984"/>
                  <a:pt x="7677" y="3061"/>
                  <a:pt x="7615" y="3076"/>
                </a:cubicBezTo>
                <a:cubicBezTo>
                  <a:pt x="7499" y="3103"/>
                  <a:pt x="7482" y="3069"/>
                  <a:pt x="7491" y="2977"/>
                </a:cubicBezTo>
              </a:path>
              <a:path w="2209" h="2904">
                <a:moveTo>
                  <a:pt x="7987" y="2456"/>
                </a:moveTo>
                <a:cubicBezTo>
                  <a:pt x="7987" y="2612"/>
                  <a:pt x="7977" y="2724"/>
                  <a:pt x="7962" y="2877"/>
                </a:cubicBezTo>
                <a:cubicBezTo>
                  <a:pt x="7962" y="2929"/>
                  <a:pt x="7961" y="2947"/>
                  <a:pt x="7938" y="2977"/>
                </a:cubicBezTo>
              </a:path>
              <a:path w="2209" h="2904">
                <a:moveTo>
                  <a:pt x="8111" y="2356"/>
                </a:moveTo>
                <a:cubicBezTo>
                  <a:pt x="8111" y="2486"/>
                  <a:pt x="8097" y="2604"/>
                  <a:pt x="8086" y="2729"/>
                </a:cubicBezTo>
                <a:cubicBezTo>
                  <a:pt x="8077" y="2826"/>
                  <a:pt x="8096" y="2890"/>
                  <a:pt x="8111" y="2977"/>
                </a:cubicBezTo>
                <a:cubicBezTo>
                  <a:pt x="8126" y="3063"/>
                  <a:pt x="8122" y="2999"/>
                  <a:pt x="8086" y="2927"/>
                </a:cubicBezTo>
              </a:path>
              <a:path w="2209" h="2904">
                <a:moveTo>
                  <a:pt x="7789" y="2505"/>
                </a:moveTo>
                <a:cubicBezTo>
                  <a:pt x="7882" y="2505"/>
                  <a:pt x="7969" y="2484"/>
                  <a:pt x="8062" y="2480"/>
                </a:cubicBezTo>
                <a:cubicBezTo>
                  <a:pt x="8126" y="2478"/>
                  <a:pt x="8258" y="2419"/>
                  <a:pt x="8310" y="2431"/>
                </a:cubicBezTo>
                <a:cubicBezTo>
                  <a:pt x="8310" y="2439"/>
                  <a:pt x="8310" y="2448"/>
                  <a:pt x="8310" y="2456"/>
                </a:cubicBezTo>
              </a:path>
              <a:path w="2209" h="2904">
                <a:moveTo>
                  <a:pt x="7367" y="3150"/>
                </a:moveTo>
                <a:cubicBezTo>
                  <a:pt x="7499" y="3133"/>
                  <a:pt x="7633" y="3114"/>
                  <a:pt x="7764" y="3101"/>
                </a:cubicBezTo>
                <a:cubicBezTo>
                  <a:pt x="7867" y="3091"/>
                  <a:pt x="7984" y="3095"/>
                  <a:pt x="8086" y="3076"/>
                </a:cubicBezTo>
                <a:cubicBezTo>
                  <a:pt x="8151" y="3064"/>
                  <a:pt x="8206" y="3011"/>
                  <a:pt x="8186" y="3076"/>
                </a:cubicBezTo>
              </a:path>
              <a:path w="2209" h="2904">
                <a:moveTo>
                  <a:pt x="7714" y="3249"/>
                </a:moveTo>
                <a:cubicBezTo>
                  <a:pt x="7690" y="3298"/>
                  <a:pt x="7627" y="3368"/>
                  <a:pt x="7640" y="3423"/>
                </a:cubicBezTo>
                <a:cubicBezTo>
                  <a:pt x="7657" y="3497"/>
                  <a:pt x="7722" y="3515"/>
                  <a:pt x="7789" y="3497"/>
                </a:cubicBezTo>
                <a:cubicBezTo>
                  <a:pt x="7860" y="3478"/>
                  <a:pt x="7907" y="3441"/>
                  <a:pt x="7962" y="3398"/>
                </a:cubicBezTo>
              </a:path>
              <a:path w="2209" h="2904">
                <a:moveTo>
                  <a:pt x="7938" y="3225"/>
                </a:moveTo>
                <a:cubicBezTo>
                  <a:pt x="7938" y="3404"/>
                  <a:pt x="7934" y="3576"/>
                  <a:pt x="7962" y="3746"/>
                </a:cubicBezTo>
                <a:cubicBezTo>
                  <a:pt x="7969" y="3787"/>
                  <a:pt x="7962" y="3861"/>
                  <a:pt x="7962" y="3820"/>
                </a:cubicBezTo>
              </a:path>
              <a:path w="2209" h="2904">
                <a:moveTo>
                  <a:pt x="6176" y="4043"/>
                </a:moveTo>
                <a:cubicBezTo>
                  <a:pt x="6232" y="4035"/>
                  <a:pt x="6275" y="4004"/>
                  <a:pt x="6325" y="3994"/>
                </a:cubicBezTo>
                <a:cubicBezTo>
                  <a:pt x="6388" y="3982"/>
                  <a:pt x="6445" y="3960"/>
                  <a:pt x="6499" y="3944"/>
                </a:cubicBezTo>
                <a:cubicBezTo>
                  <a:pt x="6507" y="3944"/>
                  <a:pt x="6516" y="3944"/>
                  <a:pt x="6524" y="3944"/>
                </a:cubicBezTo>
              </a:path>
              <a:path w="2209" h="2904">
                <a:moveTo>
                  <a:pt x="6201" y="4043"/>
                </a:moveTo>
                <a:cubicBezTo>
                  <a:pt x="6159" y="4150"/>
                  <a:pt x="6137" y="4174"/>
                  <a:pt x="6176" y="4242"/>
                </a:cubicBezTo>
                <a:cubicBezTo>
                  <a:pt x="6218" y="4208"/>
                  <a:pt x="6268" y="4156"/>
                  <a:pt x="6325" y="4167"/>
                </a:cubicBezTo>
                <a:cubicBezTo>
                  <a:pt x="6411" y="4183"/>
                  <a:pt x="6448" y="4236"/>
                  <a:pt x="6474" y="4316"/>
                </a:cubicBezTo>
                <a:cubicBezTo>
                  <a:pt x="6498" y="4391"/>
                  <a:pt x="6526" y="4483"/>
                  <a:pt x="6449" y="4539"/>
                </a:cubicBezTo>
                <a:cubicBezTo>
                  <a:pt x="6381" y="4588"/>
                  <a:pt x="6313" y="4556"/>
                  <a:pt x="6251" y="4514"/>
                </a:cubicBezTo>
                <a:cubicBezTo>
                  <a:pt x="6221" y="4485"/>
                  <a:pt x="6209" y="4471"/>
                  <a:pt x="6201" y="4440"/>
                </a:cubicBezTo>
              </a:path>
              <a:path w="2209" h="2904">
                <a:moveTo>
                  <a:pt x="6623" y="3969"/>
                </a:moveTo>
                <a:cubicBezTo>
                  <a:pt x="6640" y="4109"/>
                  <a:pt x="6672" y="4250"/>
                  <a:pt x="6672" y="4390"/>
                </a:cubicBezTo>
                <a:cubicBezTo>
                  <a:pt x="6672" y="4442"/>
                  <a:pt x="6673" y="4460"/>
                  <a:pt x="6697" y="4490"/>
                </a:cubicBezTo>
              </a:path>
              <a:path w="2209" h="2904">
                <a:moveTo>
                  <a:pt x="6846" y="3894"/>
                </a:moveTo>
                <a:cubicBezTo>
                  <a:pt x="6846" y="4015"/>
                  <a:pt x="6861" y="4121"/>
                  <a:pt x="6871" y="4242"/>
                </a:cubicBezTo>
                <a:cubicBezTo>
                  <a:pt x="6877" y="4314"/>
                  <a:pt x="6862" y="4335"/>
                  <a:pt x="6896" y="4390"/>
                </a:cubicBezTo>
              </a:path>
              <a:path w="2209" h="2904">
                <a:moveTo>
                  <a:pt x="6499" y="4018"/>
                </a:moveTo>
                <a:cubicBezTo>
                  <a:pt x="6596" y="3983"/>
                  <a:pt x="6695" y="3956"/>
                  <a:pt x="6796" y="3919"/>
                </a:cubicBezTo>
                <a:cubicBezTo>
                  <a:pt x="6874" y="3890"/>
                  <a:pt x="6973" y="3861"/>
                  <a:pt x="7045" y="3820"/>
                </a:cubicBezTo>
                <a:cubicBezTo>
                  <a:pt x="7082" y="3799"/>
                  <a:pt x="7107" y="3792"/>
                  <a:pt x="7144" y="3770"/>
                </a:cubicBezTo>
              </a:path>
              <a:path w="2209" h="2904">
                <a:moveTo>
                  <a:pt x="6102" y="4688"/>
                </a:moveTo>
                <a:cubicBezTo>
                  <a:pt x="6250" y="4630"/>
                  <a:pt x="6397" y="4560"/>
                  <a:pt x="6548" y="4514"/>
                </a:cubicBezTo>
                <a:cubicBezTo>
                  <a:pt x="6656" y="4481"/>
                  <a:pt x="6768" y="4462"/>
                  <a:pt x="6871" y="4415"/>
                </a:cubicBezTo>
                <a:cubicBezTo>
                  <a:pt x="6929" y="4389"/>
                  <a:pt x="6958" y="4373"/>
                  <a:pt x="7020" y="4366"/>
                </a:cubicBezTo>
              </a:path>
              <a:path w="2209" h="2904">
                <a:moveTo>
                  <a:pt x="6672" y="4564"/>
                </a:moveTo>
                <a:cubicBezTo>
                  <a:pt x="6644" y="4660"/>
                  <a:pt x="6580" y="4806"/>
                  <a:pt x="6598" y="4911"/>
                </a:cubicBezTo>
                <a:cubicBezTo>
                  <a:pt x="6611" y="4991"/>
                  <a:pt x="6643" y="5056"/>
                  <a:pt x="6722" y="5060"/>
                </a:cubicBezTo>
                <a:cubicBezTo>
                  <a:pt x="6802" y="5064"/>
                  <a:pt x="6858" y="5063"/>
                  <a:pt x="6921" y="5011"/>
                </a:cubicBezTo>
                <a:cubicBezTo>
                  <a:pt x="6981" y="4962"/>
                  <a:pt x="7051" y="4919"/>
                  <a:pt x="7069" y="4837"/>
                </a:cubicBezTo>
                <a:cubicBezTo>
                  <a:pt x="7086" y="4757"/>
                  <a:pt x="7074" y="4717"/>
                  <a:pt x="6995" y="4713"/>
                </a:cubicBezTo>
                <a:cubicBezTo>
                  <a:pt x="6887" y="4708"/>
                  <a:pt x="6873" y="4772"/>
                  <a:pt x="6821" y="4862"/>
                </a:cubicBezTo>
                <a:cubicBezTo>
                  <a:pt x="6784" y="4927"/>
                  <a:pt x="6734" y="5037"/>
                  <a:pt x="6722" y="5110"/>
                </a:cubicBezTo>
                <a:cubicBezTo>
                  <a:pt x="6713" y="5164"/>
                  <a:pt x="6707" y="5207"/>
                  <a:pt x="6697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Ink 27"/>
          <p:cNvSpPr/>
          <p:nvPr/>
        </p:nvSpPr>
        <p:spPr>
          <a:xfrm>
            <a:off x="1928880" y="4062240"/>
            <a:ext cx="393480" cy="546120"/>
          </a:xfrm>
          <a:custGeom>
            <a:avLst/>
            <a:gdLst/>
            <a:ahLst/>
            <a:rect l="l" t="t" r="r" b="b"/>
            <a:pathLst>
              <a:path w="1092" h="1514">
                <a:moveTo>
                  <a:pt x="5358" y="11286"/>
                </a:moveTo>
                <a:cubicBezTo>
                  <a:pt x="5411" y="11293"/>
                  <a:pt x="5507" y="11292"/>
                  <a:pt x="5556" y="11311"/>
                </a:cubicBezTo>
                <a:cubicBezTo>
                  <a:pt x="5604" y="11330"/>
                  <a:pt x="5672" y="11335"/>
                  <a:pt x="5655" y="11410"/>
                </a:cubicBezTo>
                <a:cubicBezTo>
                  <a:pt x="5624" y="11546"/>
                  <a:pt x="5582" y="11696"/>
                  <a:pt x="5556" y="11832"/>
                </a:cubicBezTo>
                <a:cubicBezTo>
                  <a:pt x="5543" y="11900"/>
                  <a:pt x="5463" y="12016"/>
                  <a:pt x="5531" y="12030"/>
                </a:cubicBezTo>
                <a:cubicBezTo>
                  <a:pt x="5548" y="12022"/>
                  <a:pt x="5564" y="12013"/>
                  <a:pt x="5581" y="12005"/>
                </a:cubicBezTo>
              </a:path>
              <a:path w="1092" h="1514">
                <a:moveTo>
                  <a:pt x="5854" y="11410"/>
                </a:moveTo>
                <a:cubicBezTo>
                  <a:pt x="5854" y="11574"/>
                  <a:pt x="5818" y="11798"/>
                  <a:pt x="5879" y="11956"/>
                </a:cubicBezTo>
                <a:cubicBezTo>
                  <a:pt x="5887" y="11972"/>
                  <a:pt x="5896" y="11989"/>
                  <a:pt x="5904" y="12005"/>
                </a:cubicBezTo>
              </a:path>
              <a:path w="1092" h="1514">
                <a:moveTo>
                  <a:pt x="6127" y="11311"/>
                </a:moveTo>
                <a:cubicBezTo>
                  <a:pt x="6127" y="11422"/>
                  <a:pt x="6140" y="11525"/>
                  <a:pt x="6152" y="11633"/>
                </a:cubicBezTo>
                <a:cubicBezTo>
                  <a:pt x="6160" y="11710"/>
                  <a:pt x="6150" y="11860"/>
                  <a:pt x="6176" y="11931"/>
                </a:cubicBezTo>
                <a:cubicBezTo>
                  <a:pt x="6184" y="11931"/>
                  <a:pt x="6193" y="11931"/>
                  <a:pt x="6201" y="11931"/>
                </a:cubicBezTo>
              </a:path>
              <a:path w="1092" h="1514">
                <a:moveTo>
                  <a:pt x="6325" y="11311"/>
                </a:moveTo>
                <a:cubicBezTo>
                  <a:pt x="6199" y="11293"/>
                  <a:pt x="6152" y="11317"/>
                  <a:pt x="6028" y="11361"/>
                </a:cubicBezTo>
                <a:cubicBezTo>
                  <a:pt x="5941" y="11392"/>
                  <a:pt x="5845" y="11422"/>
                  <a:pt x="5755" y="11435"/>
                </a:cubicBezTo>
                <a:cubicBezTo>
                  <a:pt x="5696" y="11444"/>
                  <a:pt x="5678" y="11446"/>
                  <a:pt x="5631" y="11485"/>
                </a:cubicBezTo>
              </a:path>
              <a:path w="1092" h="1514">
                <a:moveTo>
                  <a:pt x="6449" y="11782"/>
                </a:moveTo>
                <a:cubicBezTo>
                  <a:pt x="6399" y="11833"/>
                  <a:pt x="6350" y="11846"/>
                  <a:pt x="6276" y="11857"/>
                </a:cubicBezTo>
                <a:cubicBezTo>
                  <a:pt x="6196" y="11869"/>
                  <a:pt x="6106" y="11858"/>
                  <a:pt x="6028" y="11881"/>
                </a:cubicBezTo>
                <a:cubicBezTo>
                  <a:pt x="5932" y="11910"/>
                  <a:pt x="5829" y="11962"/>
                  <a:pt x="5730" y="11981"/>
                </a:cubicBezTo>
                <a:cubicBezTo>
                  <a:pt x="5685" y="11981"/>
                  <a:pt x="5672" y="11977"/>
                  <a:pt x="5655" y="12005"/>
                </a:cubicBezTo>
              </a:path>
              <a:path w="1092" h="1514">
                <a:moveTo>
                  <a:pt x="5978" y="12080"/>
                </a:moveTo>
                <a:cubicBezTo>
                  <a:pt x="5921" y="12150"/>
                  <a:pt x="5884" y="12208"/>
                  <a:pt x="5829" y="12278"/>
                </a:cubicBezTo>
                <a:cubicBezTo>
                  <a:pt x="5773" y="12349"/>
                  <a:pt x="5697" y="12397"/>
                  <a:pt x="5705" y="12502"/>
                </a:cubicBezTo>
                <a:cubicBezTo>
                  <a:pt x="5711" y="12578"/>
                  <a:pt x="5786" y="12650"/>
                  <a:pt x="5854" y="12675"/>
                </a:cubicBezTo>
                <a:cubicBezTo>
                  <a:pt x="5928" y="12702"/>
                  <a:pt x="6011" y="12708"/>
                  <a:pt x="6077" y="12675"/>
                </a:cubicBezTo>
                <a:cubicBezTo>
                  <a:pt x="6116" y="12655"/>
                  <a:pt x="6167" y="12596"/>
                  <a:pt x="6152" y="12551"/>
                </a:cubicBezTo>
                <a:cubicBezTo>
                  <a:pt x="6135" y="12499"/>
                  <a:pt x="6046" y="12486"/>
                  <a:pt x="6003" y="12502"/>
                </a:cubicBezTo>
                <a:cubicBezTo>
                  <a:pt x="5903" y="12539"/>
                  <a:pt x="5875" y="12657"/>
                  <a:pt x="5804" y="12725"/>
                </a:cubicBezTo>
                <a:cubicBezTo>
                  <a:pt x="5751" y="12752"/>
                  <a:pt x="5731" y="12764"/>
                  <a:pt x="5705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Ink 28"/>
          <p:cNvSpPr/>
          <p:nvPr/>
        </p:nvSpPr>
        <p:spPr>
          <a:xfrm>
            <a:off x="2374920" y="4660920"/>
            <a:ext cx="357120" cy="546120"/>
          </a:xfrm>
          <a:custGeom>
            <a:avLst/>
            <a:gdLst/>
            <a:ahLst/>
            <a:rect l="l" t="t" r="r" b="b"/>
            <a:pathLst>
              <a:path w="993" h="1514">
                <a:moveTo>
                  <a:pt x="6722" y="13122"/>
                </a:moveTo>
                <a:cubicBezTo>
                  <a:pt x="6809" y="13134"/>
                  <a:pt x="6849" y="13135"/>
                  <a:pt x="6945" y="13122"/>
                </a:cubicBezTo>
                <a:cubicBezTo>
                  <a:pt x="6962" y="13122"/>
                  <a:pt x="6978" y="13122"/>
                  <a:pt x="6995" y="13122"/>
                </a:cubicBezTo>
              </a:path>
              <a:path w="993" h="1514">
                <a:moveTo>
                  <a:pt x="6648" y="13122"/>
                </a:moveTo>
                <a:cubicBezTo>
                  <a:pt x="6606" y="13190"/>
                  <a:pt x="6629" y="13205"/>
                  <a:pt x="6697" y="13246"/>
                </a:cubicBezTo>
                <a:cubicBezTo>
                  <a:pt x="6762" y="13285"/>
                  <a:pt x="6785" y="13302"/>
                  <a:pt x="6821" y="13370"/>
                </a:cubicBezTo>
                <a:cubicBezTo>
                  <a:pt x="6868" y="13458"/>
                  <a:pt x="6884" y="13495"/>
                  <a:pt x="6846" y="13593"/>
                </a:cubicBezTo>
                <a:cubicBezTo>
                  <a:pt x="6813" y="13678"/>
                  <a:pt x="6774" y="13690"/>
                  <a:pt x="6697" y="13667"/>
                </a:cubicBezTo>
                <a:cubicBezTo>
                  <a:pt x="6587" y="13634"/>
                  <a:pt x="6600" y="13587"/>
                  <a:pt x="6623" y="13494"/>
                </a:cubicBezTo>
              </a:path>
              <a:path w="993" h="1514">
                <a:moveTo>
                  <a:pt x="7119" y="13097"/>
                </a:moveTo>
                <a:cubicBezTo>
                  <a:pt x="7111" y="13210"/>
                  <a:pt x="7092" y="13307"/>
                  <a:pt x="7069" y="13419"/>
                </a:cubicBezTo>
                <a:cubicBezTo>
                  <a:pt x="7051" y="13510"/>
                  <a:pt x="7024" y="13590"/>
                  <a:pt x="7069" y="13667"/>
                </a:cubicBezTo>
              </a:path>
              <a:path w="993" h="1514">
                <a:moveTo>
                  <a:pt x="7392" y="13047"/>
                </a:moveTo>
                <a:cubicBezTo>
                  <a:pt x="7383" y="13146"/>
                  <a:pt x="7379" y="13244"/>
                  <a:pt x="7367" y="13345"/>
                </a:cubicBezTo>
                <a:cubicBezTo>
                  <a:pt x="7351" y="13478"/>
                  <a:pt x="7325" y="13568"/>
                  <a:pt x="7367" y="13692"/>
                </a:cubicBezTo>
              </a:path>
              <a:path w="993" h="1514">
                <a:moveTo>
                  <a:pt x="7541" y="12948"/>
                </a:moveTo>
                <a:cubicBezTo>
                  <a:pt x="7395" y="12983"/>
                  <a:pt x="7264" y="13069"/>
                  <a:pt x="7119" y="13097"/>
                </a:cubicBezTo>
                <a:cubicBezTo>
                  <a:pt x="7036" y="13113"/>
                  <a:pt x="6924" y="13117"/>
                  <a:pt x="6846" y="13146"/>
                </a:cubicBezTo>
                <a:cubicBezTo>
                  <a:pt x="6823" y="13155"/>
                  <a:pt x="6789" y="13203"/>
                  <a:pt x="6772" y="13221"/>
                </a:cubicBezTo>
              </a:path>
              <a:path w="993" h="1514">
                <a:moveTo>
                  <a:pt x="7590" y="13667"/>
                </a:moveTo>
                <a:cubicBezTo>
                  <a:pt x="7488" y="13693"/>
                  <a:pt x="7396" y="13676"/>
                  <a:pt x="7293" y="13692"/>
                </a:cubicBezTo>
                <a:cubicBezTo>
                  <a:pt x="7202" y="13706"/>
                  <a:pt x="7081" y="13716"/>
                  <a:pt x="6995" y="13742"/>
                </a:cubicBezTo>
                <a:cubicBezTo>
                  <a:pt x="6927" y="13762"/>
                  <a:pt x="6834" y="13762"/>
                  <a:pt x="6772" y="13791"/>
                </a:cubicBezTo>
                <a:cubicBezTo>
                  <a:pt x="6764" y="13799"/>
                  <a:pt x="6755" y="13808"/>
                  <a:pt x="6747" y="13816"/>
                </a:cubicBezTo>
              </a:path>
              <a:path w="993" h="1514">
                <a:moveTo>
                  <a:pt x="7045" y="13816"/>
                </a:moveTo>
                <a:cubicBezTo>
                  <a:pt x="7018" y="13843"/>
                  <a:pt x="6943" y="13897"/>
                  <a:pt x="6945" y="13940"/>
                </a:cubicBezTo>
                <a:cubicBezTo>
                  <a:pt x="6949" y="14033"/>
                  <a:pt x="7021" y="14099"/>
                  <a:pt x="7094" y="14139"/>
                </a:cubicBezTo>
                <a:cubicBezTo>
                  <a:pt x="7144" y="14163"/>
                  <a:pt x="7160" y="14171"/>
                  <a:pt x="7193" y="14188"/>
                </a:cubicBezTo>
              </a:path>
              <a:path w="993" h="1514">
                <a:moveTo>
                  <a:pt x="7317" y="13841"/>
                </a:moveTo>
                <a:cubicBezTo>
                  <a:pt x="7232" y="13999"/>
                  <a:pt x="7193" y="14047"/>
                  <a:pt x="7193" y="14213"/>
                </a:cubicBezTo>
                <a:cubicBezTo>
                  <a:pt x="7193" y="14259"/>
                  <a:pt x="7182" y="14340"/>
                  <a:pt x="7169" y="14387"/>
                </a:cubicBezTo>
                <a:cubicBezTo>
                  <a:pt x="7149" y="14427"/>
                  <a:pt x="7140" y="14433"/>
                  <a:pt x="7144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Ink 29"/>
          <p:cNvSpPr/>
          <p:nvPr/>
        </p:nvSpPr>
        <p:spPr>
          <a:xfrm>
            <a:off x="4062240" y="4394160"/>
            <a:ext cx="474840" cy="901800"/>
          </a:xfrm>
          <a:custGeom>
            <a:avLst/>
            <a:gdLst/>
            <a:ahLst/>
            <a:rect l="l" t="t" r="r" b="b"/>
            <a:pathLst>
              <a:path w="1316" h="2506">
                <a:moveTo>
                  <a:pt x="11683" y="13568"/>
                </a:moveTo>
                <a:cubicBezTo>
                  <a:pt x="11622" y="13417"/>
                  <a:pt x="11575" y="13425"/>
                  <a:pt x="11385" y="13469"/>
                </a:cubicBezTo>
                <a:cubicBezTo>
                  <a:pt x="11337" y="13480"/>
                  <a:pt x="11273" y="13539"/>
                  <a:pt x="11286" y="13593"/>
                </a:cubicBezTo>
                <a:cubicBezTo>
                  <a:pt x="11305" y="13675"/>
                  <a:pt x="11394" y="13689"/>
                  <a:pt x="11460" y="13692"/>
                </a:cubicBezTo>
                <a:cubicBezTo>
                  <a:pt x="11518" y="13695"/>
                  <a:pt x="11541" y="13677"/>
                  <a:pt x="11584" y="13643"/>
                </a:cubicBezTo>
                <a:cubicBezTo>
                  <a:pt x="11584" y="13731"/>
                  <a:pt x="11569" y="13810"/>
                  <a:pt x="11559" y="13891"/>
                </a:cubicBezTo>
                <a:cubicBezTo>
                  <a:pt x="11547" y="13987"/>
                  <a:pt x="11559" y="14091"/>
                  <a:pt x="11559" y="14188"/>
                </a:cubicBezTo>
              </a:path>
              <a:path w="1316" h="2506">
                <a:moveTo>
                  <a:pt x="11782" y="13494"/>
                </a:moveTo>
                <a:cubicBezTo>
                  <a:pt x="11867" y="13514"/>
                  <a:pt x="11948" y="13552"/>
                  <a:pt x="12030" y="13568"/>
                </a:cubicBezTo>
              </a:path>
              <a:path w="1316" h="2506">
                <a:moveTo>
                  <a:pt x="11807" y="13742"/>
                </a:moveTo>
                <a:cubicBezTo>
                  <a:pt x="11807" y="13833"/>
                  <a:pt x="11807" y="13924"/>
                  <a:pt x="11807" y="14015"/>
                </a:cubicBezTo>
              </a:path>
              <a:path w="1316" h="2506">
                <a:moveTo>
                  <a:pt x="11981" y="13494"/>
                </a:moveTo>
                <a:cubicBezTo>
                  <a:pt x="11953" y="13612"/>
                  <a:pt x="11976" y="13723"/>
                  <a:pt x="11956" y="13841"/>
                </a:cubicBezTo>
                <a:cubicBezTo>
                  <a:pt x="11931" y="13915"/>
                  <a:pt x="11922" y="13940"/>
                  <a:pt x="11906" y="13990"/>
                </a:cubicBezTo>
              </a:path>
              <a:path w="1316" h="2506">
                <a:moveTo>
                  <a:pt x="12303" y="13494"/>
                </a:moveTo>
                <a:cubicBezTo>
                  <a:pt x="12176" y="13741"/>
                  <a:pt x="12066" y="13991"/>
                  <a:pt x="11956" y="14238"/>
                </a:cubicBezTo>
                <a:cubicBezTo>
                  <a:pt x="11915" y="14331"/>
                  <a:pt x="11853" y="14415"/>
                  <a:pt x="11782" y="14486"/>
                </a:cubicBezTo>
                <a:cubicBezTo>
                  <a:pt x="11759" y="14509"/>
                  <a:pt x="11751" y="14520"/>
                  <a:pt x="11757" y="14486"/>
                </a:cubicBezTo>
              </a:path>
              <a:path w="1316" h="2506">
                <a:moveTo>
                  <a:pt x="12105" y="14114"/>
                </a:moveTo>
                <a:cubicBezTo>
                  <a:pt x="12037" y="14228"/>
                  <a:pt x="11963" y="14304"/>
                  <a:pt x="12005" y="14436"/>
                </a:cubicBezTo>
                <a:cubicBezTo>
                  <a:pt x="12021" y="14487"/>
                  <a:pt x="12096" y="14562"/>
                  <a:pt x="12154" y="14560"/>
                </a:cubicBezTo>
                <a:cubicBezTo>
                  <a:pt x="12201" y="14558"/>
                  <a:pt x="12341" y="14493"/>
                  <a:pt x="12353" y="14436"/>
                </a:cubicBezTo>
                <a:cubicBezTo>
                  <a:pt x="12373" y="14341"/>
                  <a:pt x="12286" y="14294"/>
                  <a:pt x="12204" y="14337"/>
                </a:cubicBezTo>
                <a:cubicBezTo>
                  <a:pt x="12146" y="14368"/>
                  <a:pt x="12052" y="14474"/>
                  <a:pt x="12030" y="14536"/>
                </a:cubicBezTo>
                <a:cubicBezTo>
                  <a:pt x="12007" y="14627"/>
                  <a:pt x="12001" y="14652"/>
                  <a:pt x="11981" y="14709"/>
                </a:cubicBezTo>
              </a:path>
              <a:path w="1316" h="2506">
                <a:moveTo>
                  <a:pt x="11807" y="12204"/>
                </a:moveTo>
                <a:cubicBezTo>
                  <a:pt x="11749" y="12319"/>
                  <a:pt x="11657" y="12346"/>
                  <a:pt x="11584" y="12452"/>
                </a:cubicBezTo>
                <a:cubicBezTo>
                  <a:pt x="11538" y="12519"/>
                  <a:pt x="11555" y="12610"/>
                  <a:pt x="11584" y="12675"/>
                </a:cubicBezTo>
                <a:cubicBezTo>
                  <a:pt x="11616" y="12746"/>
                  <a:pt x="11658" y="12762"/>
                  <a:pt x="11733" y="12774"/>
                </a:cubicBezTo>
                <a:cubicBezTo>
                  <a:pt x="11774" y="12781"/>
                  <a:pt x="11909" y="12738"/>
                  <a:pt x="11931" y="12700"/>
                </a:cubicBezTo>
                <a:cubicBezTo>
                  <a:pt x="11997" y="12583"/>
                  <a:pt x="11758" y="12748"/>
                  <a:pt x="11757" y="12750"/>
                </a:cubicBezTo>
              </a:path>
              <a:path w="1316" h="2506">
                <a:moveTo>
                  <a:pt x="12129" y="12328"/>
                </a:moveTo>
                <a:cubicBezTo>
                  <a:pt x="12206" y="12347"/>
                  <a:pt x="12278" y="12363"/>
                  <a:pt x="12353" y="12378"/>
                </a:cubicBezTo>
              </a:path>
              <a:path w="1316" h="2506">
                <a:moveTo>
                  <a:pt x="12229" y="12378"/>
                </a:moveTo>
                <a:cubicBezTo>
                  <a:pt x="12159" y="12497"/>
                  <a:pt x="12143" y="12555"/>
                  <a:pt x="12105" y="12675"/>
                </a:cubicBezTo>
                <a:cubicBezTo>
                  <a:pt x="12083" y="12719"/>
                  <a:pt x="12070" y="12731"/>
                  <a:pt x="12105" y="12750"/>
                </a:cubicBezTo>
              </a:path>
              <a:path w="1316" h="2506">
                <a:moveTo>
                  <a:pt x="12353" y="12328"/>
                </a:moveTo>
                <a:cubicBezTo>
                  <a:pt x="12334" y="12444"/>
                  <a:pt x="12313" y="12567"/>
                  <a:pt x="12278" y="12675"/>
                </a:cubicBezTo>
                <a:cubicBezTo>
                  <a:pt x="12270" y="12692"/>
                  <a:pt x="12262" y="12708"/>
                  <a:pt x="12254" y="12725"/>
                </a:cubicBezTo>
              </a:path>
              <a:path w="1316" h="2506">
                <a:moveTo>
                  <a:pt x="12452" y="12502"/>
                </a:moveTo>
                <a:cubicBezTo>
                  <a:pt x="12349" y="12745"/>
                  <a:pt x="12257" y="12859"/>
                  <a:pt x="12105" y="13072"/>
                </a:cubicBezTo>
                <a:cubicBezTo>
                  <a:pt x="12069" y="13122"/>
                  <a:pt x="12030" y="13218"/>
                  <a:pt x="12005" y="13122"/>
                </a:cubicBezTo>
              </a:path>
              <a:path w="1316" h="2506">
                <a:moveTo>
                  <a:pt x="12328" y="12948"/>
                </a:moveTo>
                <a:cubicBezTo>
                  <a:pt x="12328" y="12993"/>
                  <a:pt x="12303" y="13183"/>
                  <a:pt x="12378" y="13221"/>
                </a:cubicBezTo>
                <a:cubicBezTo>
                  <a:pt x="12443" y="13254"/>
                  <a:pt x="12472" y="13207"/>
                  <a:pt x="12502" y="13171"/>
                </a:cubicBezTo>
              </a:path>
              <a:path w="1316" h="2506">
                <a:moveTo>
                  <a:pt x="12601" y="12923"/>
                </a:moveTo>
                <a:cubicBezTo>
                  <a:pt x="12549" y="13059"/>
                  <a:pt x="12469" y="13222"/>
                  <a:pt x="12452" y="13370"/>
                </a:cubicBezTo>
                <a:cubicBezTo>
                  <a:pt x="12452" y="13453"/>
                  <a:pt x="12452" y="13469"/>
                  <a:pt x="12452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Ink 30"/>
          <p:cNvSpPr/>
          <p:nvPr/>
        </p:nvSpPr>
        <p:spPr>
          <a:xfrm>
            <a:off x="4152960" y="5510160"/>
            <a:ext cx="320760" cy="606600"/>
          </a:xfrm>
          <a:custGeom>
            <a:avLst/>
            <a:gdLst/>
            <a:ahLst/>
            <a:rect l="l" t="t" r="r" b="b"/>
            <a:pathLst>
              <a:path w="894" h="1688">
                <a:moveTo>
                  <a:pt x="11708" y="15379"/>
                </a:moveTo>
                <a:cubicBezTo>
                  <a:pt x="11768" y="15387"/>
                  <a:pt x="11835" y="15393"/>
                  <a:pt x="11881" y="15429"/>
                </a:cubicBezTo>
                <a:cubicBezTo>
                  <a:pt x="11906" y="15453"/>
                  <a:pt x="11915" y="15461"/>
                  <a:pt x="11931" y="15478"/>
                </a:cubicBezTo>
                <a:cubicBezTo>
                  <a:pt x="11875" y="15523"/>
                  <a:pt x="11829" y="15549"/>
                  <a:pt x="11757" y="15553"/>
                </a:cubicBezTo>
                <a:cubicBezTo>
                  <a:pt x="11741" y="15553"/>
                  <a:pt x="11724" y="15553"/>
                  <a:pt x="11708" y="15553"/>
                </a:cubicBezTo>
                <a:cubicBezTo>
                  <a:pt x="11800" y="15643"/>
                  <a:pt x="11847" y="15691"/>
                  <a:pt x="11881" y="15850"/>
                </a:cubicBezTo>
                <a:cubicBezTo>
                  <a:pt x="11907" y="15970"/>
                  <a:pt x="11699" y="15988"/>
                  <a:pt x="11633" y="15974"/>
                </a:cubicBezTo>
                <a:cubicBezTo>
                  <a:pt x="11565" y="15960"/>
                  <a:pt x="11537" y="15908"/>
                  <a:pt x="11534" y="15850"/>
                </a:cubicBezTo>
                <a:cubicBezTo>
                  <a:pt x="11534" y="15834"/>
                  <a:pt x="11534" y="15817"/>
                  <a:pt x="11534" y="15801"/>
                </a:cubicBezTo>
              </a:path>
              <a:path w="894" h="1688">
                <a:moveTo>
                  <a:pt x="12105" y="15453"/>
                </a:moveTo>
                <a:cubicBezTo>
                  <a:pt x="12097" y="15562"/>
                  <a:pt x="12061" y="15668"/>
                  <a:pt x="12055" y="15776"/>
                </a:cubicBezTo>
                <a:cubicBezTo>
                  <a:pt x="12053" y="15815"/>
                  <a:pt x="12000" y="16093"/>
                  <a:pt x="12055" y="16148"/>
                </a:cubicBezTo>
                <a:cubicBezTo>
                  <a:pt x="12063" y="16148"/>
                  <a:pt x="12072" y="16148"/>
                  <a:pt x="12080" y="16148"/>
                </a:cubicBezTo>
              </a:path>
              <a:path w="894" h="1688">
                <a:moveTo>
                  <a:pt x="12353" y="15478"/>
                </a:moveTo>
                <a:cubicBezTo>
                  <a:pt x="12398" y="15463"/>
                  <a:pt x="12392" y="15558"/>
                  <a:pt x="12378" y="15627"/>
                </a:cubicBezTo>
                <a:cubicBezTo>
                  <a:pt x="12354" y="15748"/>
                  <a:pt x="12340" y="15875"/>
                  <a:pt x="12328" y="15999"/>
                </a:cubicBezTo>
                <a:cubicBezTo>
                  <a:pt x="12320" y="16076"/>
                  <a:pt x="12342" y="16134"/>
                  <a:pt x="12303" y="16197"/>
                </a:cubicBezTo>
              </a:path>
              <a:path w="894" h="1688">
                <a:moveTo>
                  <a:pt x="12427" y="15404"/>
                </a:moveTo>
                <a:cubicBezTo>
                  <a:pt x="12360" y="15363"/>
                  <a:pt x="12307" y="15398"/>
                  <a:pt x="12229" y="15379"/>
                </a:cubicBezTo>
                <a:cubicBezTo>
                  <a:pt x="12135" y="15356"/>
                  <a:pt x="12024" y="15367"/>
                  <a:pt x="11931" y="15329"/>
                </a:cubicBezTo>
                <a:cubicBezTo>
                  <a:pt x="11869" y="15304"/>
                  <a:pt x="11880" y="15302"/>
                  <a:pt x="11807" y="15329"/>
                </a:cubicBezTo>
              </a:path>
              <a:path w="894" h="1688">
                <a:moveTo>
                  <a:pt x="12402" y="16098"/>
                </a:moveTo>
                <a:cubicBezTo>
                  <a:pt x="12217" y="16098"/>
                  <a:pt x="12033" y="16100"/>
                  <a:pt x="11857" y="16123"/>
                </a:cubicBezTo>
                <a:cubicBezTo>
                  <a:pt x="11780" y="16133"/>
                  <a:pt x="11736" y="16169"/>
                  <a:pt x="11658" y="16173"/>
                </a:cubicBezTo>
                <a:cubicBezTo>
                  <a:pt x="11617" y="16173"/>
                  <a:pt x="11601" y="16165"/>
                  <a:pt x="11609" y="16197"/>
                </a:cubicBezTo>
              </a:path>
              <a:path w="894" h="1688">
                <a:moveTo>
                  <a:pt x="11906" y="16272"/>
                </a:moveTo>
                <a:cubicBezTo>
                  <a:pt x="12007" y="16344"/>
                  <a:pt x="12110" y="16391"/>
                  <a:pt x="12179" y="16495"/>
                </a:cubicBezTo>
                <a:cubicBezTo>
                  <a:pt x="12218" y="16553"/>
                  <a:pt x="12171" y="16663"/>
                  <a:pt x="12105" y="16694"/>
                </a:cubicBezTo>
                <a:cubicBezTo>
                  <a:pt x="12041" y="16724"/>
                  <a:pt x="11929" y="16718"/>
                  <a:pt x="11857" y="16718"/>
                </a:cubicBezTo>
                <a:cubicBezTo>
                  <a:pt x="11812" y="16718"/>
                  <a:pt x="11799" y="16722"/>
                  <a:pt x="11782" y="16694"/>
                </a:cubicBezTo>
                <a:cubicBezTo>
                  <a:pt x="11792" y="16626"/>
                  <a:pt x="11814" y="16569"/>
                  <a:pt x="11906" y="16594"/>
                </a:cubicBezTo>
                <a:cubicBezTo>
                  <a:pt x="11947" y="16605"/>
                  <a:pt x="12049" y="16717"/>
                  <a:pt x="12080" y="16743"/>
                </a:cubicBezTo>
                <a:cubicBezTo>
                  <a:pt x="12157" y="16807"/>
                  <a:pt x="12142" y="16891"/>
                  <a:pt x="12229" y="16942"/>
                </a:cubicBezTo>
                <a:cubicBezTo>
                  <a:pt x="12273" y="16967"/>
                  <a:pt x="12352" y="17038"/>
                  <a:pt x="12328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Ink 31"/>
          <p:cNvSpPr/>
          <p:nvPr/>
        </p:nvSpPr>
        <p:spPr>
          <a:xfrm>
            <a:off x="6465960" y="4714920"/>
            <a:ext cx="374400" cy="519120"/>
          </a:xfrm>
          <a:custGeom>
            <a:avLst/>
            <a:gdLst/>
            <a:ahLst/>
            <a:rect l="l" t="t" r="r" b="b"/>
            <a:pathLst>
              <a:path w="1042" h="1440">
                <a:moveTo>
                  <a:pt x="17959" y="13097"/>
                </a:moveTo>
                <a:cubicBezTo>
                  <a:pt x="18023" y="13136"/>
                  <a:pt x="18084" y="13103"/>
                  <a:pt x="18157" y="13122"/>
                </a:cubicBezTo>
                <a:cubicBezTo>
                  <a:pt x="18215" y="13137"/>
                  <a:pt x="18243" y="13146"/>
                  <a:pt x="18306" y="13146"/>
                </a:cubicBezTo>
                <a:cubicBezTo>
                  <a:pt x="18297" y="13239"/>
                  <a:pt x="18267" y="13332"/>
                  <a:pt x="18256" y="13419"/>
                </a:cubicBezTo>
                <a:cubicBezTo>
                  <a:pt x="18247" y="13491"/>
                  <a:pt x="18235" y="13553"/>
                  <a:pt x="18231" y="13618"/>
                </a:cubicBezTo>
                <a:cubicBezTo>
                  <a:pt x="18231" y="13667"/>
                  <a:pt x="18231" y="13684"/>
                  <a:pt x="18231" y="13717"/>
                </a:cubicBezTo>
              </a:path>
              <a:path w="1042" h="1440">
                <a:moveTo>
                  <a:pt x="18479" y="13146"/>
                </a:moveTo>
                <a:cubicBezTo>
                  <a:pt x="18479" y="13332"/>
                  <a:pt x="18479" y="13511"/>
                  <a:pt x="18504" y="13692"/>
                </a:cubicBezTo>
                <a:cubicBezTo>
                  <a:pt x="18504" y="13737"/>
                  <a:pt x="18501" y="13750"/>
                  <a:pt x="18529" y="13767"/>
                </a:cubicBezTo>
              </a:path>
              <a:path w="1042" h="1440">
                <a:moveTo>
                  <a:pt x="18827" y="13146"/>
                </a:moveTo>
                <a:cubicBezTo>
                  <a:pt x="18821" y="13321"/>
                  <a:pt x="18802" y="13492"/>
                  <a:pt x="18802" y="13667"/>
                </a:cubicBezTo>
                <a:cubicBezTo>
                  <a:pt x="18802" y="13729"/>
                  <a:pt x="18793" y="13744"/>
                  <a:pt x="18827" y="13767"/>
                </a:cubicBezTo>
              </a:path>
              <a:path w="1042" h="1440">
                <a:moveTo>
                  <a:pt x="19000" y="13097"/>
                </a:moveTo>
                <a:cubicBezTo>
                  <a:pt x="18883" y="13097"/>
                  <a:pt x="18794" y="13132"/>
                  <a:pt x="18678" y="13146"/>
                </a:cubicBezTo>
                <a:cubicBezTo>
                  <a:pt x="18554" y="13161"/>
                  <a:pt x="18433" y="13184"/>
                  <a:pt x="18306" y="13196"/>
                </a:cubicBezTo>
                <a:cubicBezTo>
                  <a:pt x="18240" y="13202"/>
                  <a:pt x="18229" y="13192"/>
                  <a:pt x="18256" y="13246"/>
                </a:cubicBezTo>
              </a:path>
              <a:path w="1042" h="1440">
                <a:moveTo>
                  <a:pt x="18976" y="13692"/>
                </a:moveTo>
                <a:cubicBezTo>
                  <a:pt x="18861" y="13723"/>
                  <a:pt x="18744" y="13754"/>
                  <a:pt x="18628" y="13767"/>
                </a:cubicBezTo>
                <a:cubicBezTo>
                  <a:pt x="18534" y="13777"/>
                  <a:pt x="18445" y="13770"/>
                  <a:pt x="18355" y="13791"/>
                </a:cubicBezTo>
                <a:cubicBezTo>
                  <a:pt x="18287" y="13807"/>
                  <a:pt x="18059" y="13868"/>
                  <a:pt x="18083" y="13891"/>
                </a:cubicBezTo>
              </a:path>
              <a:path w="1042" h="1440">
                <a:moveTo>
                  <a:pt x="18479" y="13915"/>
                </a:moveTo>
                <a:cubicBezTo>
                  <a:pt x="18430" y="13943"/>
                  <a:pt x="18364" y="13969"/>
                  <a:pt x="18380" y="14039"/>
                </a:cubicBezTo>
                <a:cubicBezTo>
                  <a:pt x="18392" y="14092"/>
                  <a:pt x="18462" y="14160"/>
                  <a:pt x="18504" y="14188"/>
                </a:cubicBezTo>
                <a:cubicBezTo>
                  <a:pt x="18560" y="14225"/>
                  <a:pt x="18580" y="14233"/>
                  <a:pt x="18628" y="14213"/>
                </a:cubicBezTo>
              </a:path>
              <a:path w="1042" h="1440">
                <a:moveTo>
                  <a:pt x="18777" y="13891"/>
                </a:moveTo>
                <a:cubicBezTo>
                  <a:pt x="18710" y="13957"/>
                  <a:pt x="18684" y="14000"/>
                  <a:pt x="18653" y="14089"/>
                </a:cubicBezTo>
                <a:cubicBezTo>
                  <a:pt x="18616" y="14193"/>
                  <a:pt x="18602" y="14372"/>
                  <a:pt x="18554" y="14461"/>
                </a:cubicBezTo>
                <a:cubicBezTo>
                  <a:pt x="18550" y="14468"/>
                  <a:pt x="18470" y="14521"/>
                  <a:pt x="18455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Ink 32"/>
          <p:cNvSpPr/>
          <p:nvPr/>
        </p:nvSpPr>
        <p:spPr>
          <a:xfrm>
            <a:off x="2946240" y="5126040"/>
            <a:ext cx="312840" cy="500040"/>
          </a:xfrm>
          <a:custGeom>
            <a:avLst/>
            <a:gdLst/>
            <a:ahLst/>
            <a:rect l="l" t="t" r="r" b="b"/>
            <a:pathLst>
              <a:path w="869" h="1390">
                <a:moveTo>
                  <a:pt x="8310" y="14362"/>
                </a:moveTo>
                <a:cubicBezTo>
                  <a:pt x="8266" y="14416"/>
                  <a:pt x="8273" y="14418"/>
                  <a:pt x="8210" y="14436"/>
                </a:cubicBezTo>
                <a:cubicBezTo>
                  <a:pt x="8217" y="14503"/>
                  <a:pt x="8223" y="14590"/>
                  <a:pt x="8285" y="14635"/>
                </a:cubicBezTo>
                <a:cubicBezTo>
                  <a:pt x="8362" y="14691"/>
                  <a:pt x="8376" y="14676"/>
                  <a:pt x="8458" y="14635"/>
                </a:cubicBezTo>
              </a:path>
              <a:path w="869" h="1390">
                <a:moveTo>
                  <a:pt x="8508" y="14238"/>
                </a:moveTo>
                <a:cubicBezTo>
                  <a:pt x="8444" y="14334"/>
                  <a:pt x="8368" y="14425"/>
                  <a:pt x="8334" y="14536"/>
                </a:cubicBezTo>
                <a:cubicBezTo>
                  <a:pt x="8304" y="14634"/>
                  <a:pt x="8275" y="14736"/>
                  <a:pt x="8260" y="14833"/>
                </a:cubicBezTo>
                <a:cubicBezTo>
                  <a:pt x="8260" y="14875"/>
                  <a:pt x="8260" y="14883"/>
                  <a:pt x="8260" y="14908"/>
                </a:cubicBezTo>
              </a:path>
              <a:path w="869" h="1390">
                <a:moveTo>
                  <a:pt x="8682" y="14362"/>
                </a:moveTo>
                <a:cubicBezTo>
                  <a:pt x="8682" y="14468"/>
                  <a:pt x="8678" y="14539"/>
                  <a:pt x="8632" y="14635"/>
                </a:cubicBezTo>
                <a:cubicBezTo>
                  <a:pt x="8599" y="14703"/>
                  <a:pt x="8591" y="14784"/>
                  <a:pt x="8582" y="14858"/>
                </a:cubicBezTo>
              </a:path>
              <a:path w="869" h="1390">
                <a:moveTo>
                  <a:pt x="8830" y="14436"/>
                </a:moveTo>
                <a:cubicBezTo>
                  <a:pt x="8885" y="14528"/>
                  <a:pt x="8834" y="14655"/>
                  <a:pt x="8806" y="14759"/>
                </a:cubicBezTo>
                <a:cubicBezTo>
                  <a:pt x="8782" y="14846"/>
                  <a:pt x="8781" y="14918"/>
                  <a:pt x="8781" y="15007"/>
                </a:cubicBezTo>
              </a:path>
              <a:path w="869" h="1390">
                <a:moveTo>
                  <a:pt x="9054" y="14362"/>
                </a:moveTo>
                <a:cubicBezTo>
                  <a:pt x="8956" y="14369"/>
                  <a:pt x="8851" y="14389"/>
                  <a:pt x="8756" y="14412"/>
                </a:cubicBezTo>
                <a:cubicBezTo>
                  <a:pt x="8677" y="14431"/>
                  <a:pt x="8617" y="14457"/>
                  <a:pt x="8533" y="14461"/>
                </a:cubicBezTo>
                <a:cubicBezTo>
                  <a:pt x="8481" y="14463"/>
                  <a:pt x="8477" y="14475"/>
                  <a:pt x="8434" y="14486"/>
                </a:cubicBezTo>
              </a:path>
              <a:path w="869" h="1390">
                <a:moveTo>
                  <a:pt x="8905" y="14833"/>
                </a:moveTo>
                <a:cubicBezTo>
                  <a:pt x="8851" y="14941"/>
                  <a:pt x="8818" y="14933"/>
                  <a:pt x="8706" y="14982"/>
                </a:cubicBezTo>
                <a:cubicBezTo>
                  <a:pt x="8619" y="15020"/>
                  <a:pt x="8526" y="15017"/>
                  <a:pt x="8434" y="15032"/>
                </a:cubicBezTo>
                <a:cubicBezTo>
                  <a:pt x="8340" y="15047"/>
                  <a:pt x="8273" y="15088"/>
                  <a:pt x="8186" y="15106"/>
                </a:cubicBezTo>
              </a:path>
              <a:path w="869" h="1390">
                <a:moveTo>
                  <a:pt x="8508" y="15032"/>
                </a:moveTo>
                <a:cubicBezTo>
                  <a:pt x="8568" y="15061"/>
                  <a:pt x="8633" y="15086"/>
                  <a:pt x="8682" y="15131"/>
                </a:cubicBezTo>
                <a:cubicBezTo>
                  <a:pt x="8724" y="15170"/>
                  <a:pt x="8776" y="15232"/>
                  <a:pt x="8682" y="15255"/>
                </a:cubicBezTo>
                <a:cubicBezTo>
                  <a:pt x="8605" y="15274"/>
                  <a:pt x="8558" y="15230"/>
                  <a:pt x="8508" y="15255"/>
                </a:cubicBezTo>
                <a:cubicBezTo>
                  <a:pt x="8546" y="15302"/>
                  <a:pt x="8571" y="15356"/>
                  <a:pt x="8607" y="15404"/>
                </a:cubicBezTo>
                <a:cubicBezTo>
                  <a:pt x="8666" y="15483"/>
                  <a:pt x="8641" y="15542"/>
                  <a:pt x="8582" y="15602"/>
                </a:cubicBezTo>
                <a:cubicBezTo>
                  <a:pt x="8533" y="15651"/>
                  <a:pt x="8465" y="15627"/>
                  <a:pt x="8409" y="15602"/>
                </a:cubicBezTo>
                <a:cubicBezTo>
                  <a:pt x="8323" y="15564"/>
                  <a:pt x="8294" y="15543"/>
                  <a:pt x="8285" y="15453"/>
                </a:cubicBezTo>
                <a:cubicBezTo>
                  <a:pt x="8285" y="15437"/>
                  <a:pt x="8285" y="15420"/>
                  <a:pt x="8285" y="1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Ink 33"/>
          <p:cNvSpPr/>
          <p:nvPr/>
        </p:nvSpPr>
        <p:spPr>
          <a:xfrm>
            <a:off x="5956200" y="5126040"/>
            <a:ext cx="330480" cy="534960"/>
          </a:xfrm>
          <a:custGeom>
            <a:avLst/>
            <a:gdLst/>
            <a:ahLst/>
            <a:rect l="l" t="t" r="r" b="b"/>
            <a:pathLst>
              <a:path w="918" h="1489">
                <a:moveTo>
                  <a:pt x="16545" y="14238"/>
                </a:moveTo>
                <a:cubicBezTo>
                  <a:pt x="16613" y="14267"/>
                  <a:pt x="16687" y="14263"/>
                  <a:pt x="16768" y="14263"/>
                </a:cubicBezTo>
                <a:cubicBezTo>
                  <a:pt x="16776" y="14263"/>
                  <a:pt x="16785" y="14263"/>
                  <a:pt x="16793" y="14263"/>
                </a:cubicBezTo>
              </a:path>
              <a:path w="918" h="1489">
                <a:moveTo>
                  <a:pt x="16570" y="14263"/>
                </a:moveTo>
                <a:cubicBezTo>
                  <a:pt x="16552" y="14310"/>
                  <a:pt x="16511" y="14418"/>
                  <a:pt x="16570" y="14461"/>
                </a:cubicBezTo>
                <a:cubicBezTo>
                  <a:pt x="16627" y="14502"/>
                  <a:pt x="16700" y="14494"/>
                  <a:pt x="16743" y="14560"/>
                </a:cubicBezTo>
                <a:cubicBezTo>
                  <a:pt x="16765" y="14595"/>
                  <a:pt x="16836" y="14664"/>
                  <a:pt x="16818" y="14709"/>
                </a:cubicBezTo>
                <a:cubicBezTo>
                  <a:pt x="16787" y="14785"/>
                  <a:pt x="16698" y="14844"/>
                  <a:pt x="16619" y="14833"/>
                </a:cubicBezTo>
                <a:cubicBezTo>
                  <a:pt x="16555" y="14824"/>
                  <a:pt x="16549" y="14720"/>
                  <a:pt x="16545" y="14684"/>
                </a:cubicBezTo>
              </a:path>
              <a:path w="918" h="1489">
                <a:moveTo>
                  <a:pt x="16991" y="14337"/>
                </a:moveTo>
                <a:cubicBezTo>
                  <a:pt x="16991" y="14466"/>
                  <a:pt x="16970" y="14581"/>
                  <a:pt x="16966" y="14709"/>
                </a:cubicBezTo>
                <a:cubicBezTo>
                  <a:pt x="16963" y="14809"/>
                  <a:pt x="16943" y="14943"/>
                  <a:pt x="16991" y="15032"/>
                </a:cubicBezTo>
                <a:cubicBezTo>
                  <a:pt x="16999" y="15040"/>
                  <a:pt x="17008" y="15048"/>
                  <a:pt x="17016" y="15056"/>
                </a:cubicBezTo>
              </a:path>
              <a:path w="918" h="1489">
                <a:moveTo>
                  <a:pt x="17338" y="14412"/>
                </a:moveTo>
                <a:cubicBezTo>
                  <a:pt x="17302" y="14549"/>
                  <a:pt x="17259" y="14692"/>
                  <a:pt x="17239" y="14833"/>
                </a:cubicBezTo>
                <a:cubicBezTo>
                  <a:pt x="17233" y="14878"/>
                  <a:pt x="17223" y="14913"/>
                  <a:pt x="17214" y="14957"/>
                </a:cubicBezTo>
              </a:path>
              <a:path w="918" h="1489">
                <a:moveTo>
                  <a:pt x="17388" y="14263"/>
                </a:moveTo>
                <a:cubicBezTo>
                  <a:pt x="17197" y="14263"/>
                  <a:pt x="16942" y="14203"/>
                  <a:pt x="16768" y="14288"/>
                </a:cubicBezTo>
                <a:cubicBezTo>
                  <a:pt x="16760" y="14296"/>
                  <a:pt x="16751" y="14304"/>
                  <a:pt x="16743" y="14312"/>
                </a:cubicBezTo>
              </a:path>
              <a:path w="918" h="1489">
                <a:moveTo>
                  <a:pt x="17462" y="14808"/>
                </a:moveTo>
                <a:cubicBezTo>
                  <a:pt x="17387" y="14869"/>
                  <a:pt x="17355" y="14843"/>
                  <a:pt x="17264" y="14858"/>
                </a:cubicBezTo>
                <a:cubicBezTo>
                  <a:pt x="17134" y="14879"/>
                  <a:pt x="16996" y="14901"/>
                  <a:pt x="16867" y="14932"/>
                </a:cubicBezTo>
                <a:cubicBezTo>
                  <a:pt x="16781" y="14953"/>
                  <a:pt x="16727" y="15010"/>
                  <a:pt x="16644" y="15032"/>
                </a:cubicBezTo>
                <a:cubicBezTo>
                  <a:pt x="16636" y="15032"/>
                  <a:pt x="16627" y="15032"/>
                  <a:pt x="16619" y="15032"/>
                </a:cubicBezTo>
              </a:path>
              <a:path w="918" h="1489">
                <a:moveTo>
                  <a:pt x="16793" y="15032"/>
                </a:moveTo>
                <a:cubicBezTo>
                  <a:pt x="16901" y="15082"/>
                  <a:pt x="16994" y="15133"/>
                  <a:pt x="17090" y="15205"/>
                </a:cubicBezTo>
                <a:cubicBezTo>
                  <a:pt x="17115" y="15230"/>
                  <a:pt x="17123" y="15238"/>
                  <a:pt x="17140" y="15255"/>
                </a:cubicBezTo>
                <a:cubicBezTo>
                  <a:pt x="17073" y="15293"/>
                  <a:pt x="16995" y="15323"/>
                  <a:pt x="16917" y="15329"/>
                </a:cubicBezTo>
                <a:cubicBezTo>
                  <a:pt x="16884" y="15329"/>
                  <a:pt x="16867" y="15329"/>
                  <a:pt x="16842" y="15329"/>
                </a:cubicBezTo>
                <a:cubicBezTo>
                  <a:pt x="16916" y="15403"/>
                  <a:pt x="16948" y="15444"/>
                  <a:pt x="16966" y="15553"/>
                </a:cubicBezTo>
                <a:cubicBezTo>
                  <a:pt x="16972" y="15591"/>
                  <a:pt x="16933" y="15687"/>
                  <a:pt x="16892" y="15701"/>
                </a:cubicBezTo>
                <a:cubicBezTo>
                  <a:pt x="16833" y="15722"/>
                  <a:pt x="16779" y="15738"/>
                  <a:pt x="16718" y="15701"/>
                </a:cubicBezTo>
                <a:cubicBezTo>
                  <a:pt x="16677" y="15660"/>
                  <a:pt x="16652" y="15635"/>
                  <a:pt x="16619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Ink 34"/>
          <p:cNvSpPr/>
          <p:nvPr/>
        </p:nvSpPr>
        <p:spPr>
          <a:xfrm>
            <a:off x="6929280" y="4125960"/>
            <a:ext cx="304920" cy="482400"/>
          </a:xfrm>
          <a:custGeom>
            <a:avLst/>
            <a:gdLst/>
            <a:ahLst/>
            <a:rect l="l" t="t" r="r" b="b"/>
            <a:pathLst>
              <a:path w="845" h="1340">
                <a:moveTo>
                  <a:pt x="19248" y="11509"/>
                </a:moveTo>
                <a:cubicBezTo>
                  <a:pt x="19267" y="11632"/>
                  <a:pt x="19273" y="11734"/>
                  <a:pt x="19273" y="11857"/>
                </a:cubicBezTo>
                <a:cubicBezTo>
                  <a:pt x="19273" y="11898"/>
                  <a:pt x="19273" y="11906"/>
                  <a:pt x="19273" y="11931"/>
                </a:cubicBezTo>
              </a:path>
              <a:path w="845" h="1340">
                <a:moveTo>
                  <a:pt x="19472" y="11534"/>
                </a:moveTo>
                <a:cubicBezTo>
                  <a:pt x="19458" y="11702"/>
                  <a:pt x="19449" y="11762"/>
                  <a:pt x="19521" y="11906"/>
                </a:cubicBezTo>
                <a:cubicBezTo>
                  <a:pt x="19529" y="11923"/>
                  <a:pt x="19538" y="11939"/>
                  <a:pt x="19546" y="11956"/>
                </a:cubicBezTo>
              </a:path>
              <a:path w="845" h="1340">
                <a:moveTo>
                  <a:pt x="19571" y="11460"/>
                </a:moveTo>
                <a:cubicBezTo>
                  <a:pt x="19690" y="11484"/>
                  <a:pt x="19775" y="11509"/>
                  <a:pt x="19893" y="11509"/>
                </a:cubicBezTo>
              </a:path>
              <a:path w="845" h="1340">
                <a:moveTo>
                  <a:pt x="19745" y="11509"/>
                </a:moveTo>
                <a:cubicBezTo>
                  <a:pt x="19728" y="11636"/>
                  <a:pt x="19720" y="11753"/>
                  <a:pt x="19720" y="11881"/>
                </a:cubicBezTo>
              </a:path>
              <a:path w="845" h="1340">
                <a:moveTo>
                  <a:pt x="19869" y="11460"/>
                </a:moveTo>
                <a:cubicBezTo>
                  <a:pt x="19869" y="11582"/>
                  <a:pt x="19877" y="11690"/>
                  <a:pt x="19893" y="11807"/>
                </a:cubicBezTo>
                <a:cubicBezTo>
                  <a:pt x="19900" y="11856"/>
                  <a:pt x="19907" y="11864"/>
                  <a:pt x="19918" y="11906"/>
                </a:cubicBezTo>
              </a:path>
              <a:path w="845" h="1340">
                <a:moveTo>
                  <a:pt x="20092" y="11683"/>
                </a:moveTo>
                <a:cubicBezTo>
                  <a:pt x="19968" y="11801"/>
                  <a:pt x="19852" y="11900"/>
                  <a:pt x="19745" y="12030"/>
                </a:cubicBezTo>
                <a:cubicBezTo>
                  <a:pt x="19686" y="12101"/>
                  <a:pt x="19627" y="12151"/>
                  <a:pt x="19571" y="12229"/>
                </a:cubicBezTo>
                <a:cubicBezTo>
                  <a:pt x="19545" y="12265"/>
                  <a:pt x="19443" y="12280"/>
                  <a:pt x="19397" y="12303"/>
                </a:cubicBezTo>
              </a:path>
              <a:path w="845" h="1340">
                <a:moveTo>
                  <a:pt x="19621" y="12229"/>
                </a:moveTo>
                <a:cubicBezTo>
                  <a:pt x="19566" y="12323"/>
                  <a:pt x="19505" y="12412"/>
                  <a:pt x="19521" y="12526"/>
                </a:cubicBezTo>
                <a:cubicBezTo>
                  <a:pt x="19531" y="12596"/>
                  <a:pt x="19609" y="12691"/>
                  <a:pt x="19670" y="12725"/>
                </a:cubicBezTo>
                <a:cubicBezTo>
                  <a:pt x="19762" y="12777"/>
                  <a:pt x="19883" y="12755"/>
                  <a:pt x="19968" y="12700"/>
                </a:cubicBezTo>
                <a:cubicBezTo>
                  <a:pt x="20013" y="12671"/>
                  <a:pt x="20007" y="12604"/>
                  <a:pt x="19993" y="12576"/>
                </a:cubicBezTo>
                <a:cubicBezTo>
                  <a:pt x="19959" y="12507"/>
                  <a:pt x="19894" y="12457"/>
                  <a:pt x="19819" y="12526"/>
                </a:cubicBezTo>
                <a:cubicBezTo>
                  <a:pt x="19778" y="12564"/>
                  <a:pt x="19745" y="12650"/>
                  <a:pt x="19720" y="12700"/>
                </a:cubicBezTo>
                <a:cubicBezTo>
                  <a:pt x="19696" y="12748"/>
                  <a:pt x="19688" y="12762"/>
                  <a:pt x="19695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Lesson 4.2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six trigonometric function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e (Si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ine (Co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gent (Ta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tangent (Co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ant (Se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ecant (Cs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Ink 4"/>
          <p:cNvSpPr/>
          <p:nvPr/>
        </p:nvSpPr>
        <p:spPr>
          <a:xfrm>
            <a:off x="428760" y="3340080"/>
            <a:ext cx="571320" cy="490680"/>
          </a:xfrm>
          <a:custGeom>
            <a:avLst/>
            <a:gdLst/>
            <a:ahLst/>
            <a:rect l="l" t="t" r="r" b="b"/>
            <a:pathLst>
              <a:path w="1588" h="1365">
                <a:moveTo>
                  <a:pt x="1315" y="10021"/>
                </a:moveTo>
                <a:cubicBezTo>
                  <a:pt x="1290" y="10162"/>
                  <a:pt x="1288" y="10305"/>
                  <a:pt x="1240" y="10443"/>
                </a:cubicBezTo>
                <a:cubicBezTo>
                  <a:pt x="1211" y="10499"/>
                  <a:pt x="1201" y="10523"/>
                  <a:pt x="1191" y="10567"/>
                </a:cubicBezTo>
                <a:cubicBezTo>
                  <a:pt x="1220" y="10419"/>
                  <a:pt x="1234" y="10269"/>
                  <a:pt x="1265" y="10120"/>
                </a:cubicBezTo>
                <a:cubicBezTo>
                  <a:pt x="1295" y="9980"/>
                  <a:pt x="1324" y="9837"/>
                  <a:pt x="1364" y="9699"/>
                </a:cubicBezTo>
                <a:cubicBezTo>
                  <a:pt x="1384" y="9630"/>
                  <a:pt x="1410" y="9565"/>
                  <a:pt x="1439" y="9500"/>
                </a:cubicBezTo>
                <a:cubicBezTo>
                  <a:pt x="1415" y="9620"/>
                  <a:pt x="1414" y="9724"/>
                  <a:pt x="1414" y="9847"/>
                </a:cubicBezTo>
                <a:cubicBezTo>
                  <a:pt x="1414" y="9904"/>
                  <a:pt x="1454" y="9972"/>
                  <a:pt x="1488" y="10021"/>
                </a:cubicBezTo>
                <a:cubicBezTo>
                  <a:pt x="1496" y="10029"/>
                  <a:pt x="1505" y="10038"/>
                  <a:pt x="1513" y="10046"/>
                </a:cubicBezTo>
                <a:cubicBezTo>
                  <a:pt x="1524" y="9955"/>
                  <a:pt x="1553" y="9867"/>
                  <a:pt x="1563" y="9773"/>
                </a:cubicBezTo>
                <a:cubicBezTo>
                  <a:pt x="1576" y="9647"/>
                  <a:pt x="1570" y="9525"/>
                  <a:pt x="1588" y="9401"/>
                </a:cubicBezTo>
                <a:cubicBezTo>
                  <a:pt x="1596" y="9342"/>
                  <a:pt x="1599" y="9324"/>
                  <a:pt x="1637" y="9277"/>
                </a:cubicBezTo>
                <a:cubicBezTo>
                  <a:pt x="1694" y="9419"/>
                  <a:pt x="1689" y="9545"/>
                  <a:pt x="1712" y="9699"/>
                </a:cubicBezTo>
                <a:cubicBezTo>
                  <a:pt x="1731" y="9823"/>
                  <a:pt x="1736" y="9954"/>
                  <a:pt x="1786" y="10071"/>
                </a:cubicBezTo>
                <a:cubicBezTo>
                  <a:pt x="1831" y="10177"/>
                  <a:pt x="1866" y="10286"/>
                  <a:pt x="1910" y="10393"/>
                </a:cubicBezTo>
                <a:cubicBezTo>
                  <a:pt x="1917" y="10410"/>
                  <a:pt x="1977" y="10542"/>
                  <a:pt x="1984" y="10542"/>
                </a:cubicBezTo>
                <a:cubicBezTo>
                  <a:pt x="1992" y="10534"/>
                  <a:pt x="2001" y="10525"/>
                  <a:pt x="2009" y="10517"/>
                </a:cubicBezTo>
              </a:path>
              <a:path w="1588" h="1365">
                <a:moveTo>
                  <a:pt x="2158" y="10244"/>
                </a:moveTo>
                <a:cubicBezTo>
                  <a:pt x="2176" y="10338"/>
                  <a:pt x="2179" y="10530"/>
                  <a:pt x="2257" y="10616"/>
                </a:cubicBezTo>
                <a:cubicBezTo>
                  <a:pt x="2265" y="10624"/>
                  <a:pt x="2274" y="10633"/>
                  <a:pt x="2282" y="10641"/>
                </a:cubicBezTo>
                <a:cubicBezTo>
                  <a:pt x="2268" y="10521"/>
                  <a:pt x="2257" y="10420"/>
                  <a:pt x="2257" y="10294"/>
                </a:cubicBezTo>
                <a:cubicBezTo>
                  <a:pt x="2257" y="10205"/>
                  <a:pt x="2246" y="10127"/>
                  <a:pt x="2282" y="10046"/>
                </a:cubicBezTo>
                <a:cubicBezTo>
                  <a:pt x="2323" y="9953"/>
                  <a:pt x="2304" y="9928"/>
                  <a:pt x="2406" y="9897"/>
                </a:cubicBezTo>
                <a:cubicBezTo>
                  <a:pt x="2471" y="9875"/>
                  <a:pt x="2486" y="9867"/>
                  <a:pt x="2530" y="9872"/>
                </a:cubicBezTo>
              </a:path>
              <a:path w="1588" h="1365">
                <a:moveTo>
                  <a:pt x="2778" y="10641"/>
                </a:moveTo>
                <a:lnTo>
                  <a:pt x="2778" y="1064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If t is a number and (x,y) is a point on the unit circle…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 t = 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 t =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t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sc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Ink 4"/>
          <p:cNvSpPr/>
          <p:nvPr/>
        </p:nvSpPr>
        <p:spPr>
          <a:xfrm>
            <a:off x="5537160" y="4249800"/>
            <a:ext cx="214200" cy="366480"/>
          </a:xfrm>
          <a:custGeom>
            <a:avLst/>
            <a:gdLst/>
            <a:ahLst/>
            <a:rect l="l" t="t" r="r" b="b"/>
            <a:pathLst>
              <a:path w="596" h="1018">
                <a:moveTo>
                  <a:pt x="15801" y="12129"/>
                </a:moveTo>
                <a:cubicBezTo>
                  <a:pt x="15801" y="12171"/>
                  <a:pt x="15801" y="12179"/>
                  <a:pt x="15801" y="12204"/>
                </a:cubicBezTo>
              </a:path>
              <a:path w="596" h="1018">
                <a:moveTo>
                  <a:pt x="15925" y="11931"/>
                </a:moveTo>
                <a:cubicBezTo>
                  <a:pt x="15933" y="11923"/>
                  <a:pt x="15941" y="11914"/>
                  <a:pt x="15949" y="11906"/>
                </a:cubicBezTo>
                <a:cubicBezTo>
                  <a:pt x="15949" y="11974"/>
                  <a:pt x="15944" y="12043"/>
                  <a:pt x="15925" y="12105"/>
                </a:cubicBezTo>
                <a:cubicBezTo>
                  <a:pt x="15904" y="12174"/>
                  <a:pt x="15877" y="12213"/>
                  <a:pt x="15850" y="12278"/>
                </a:cubicBezTo>
                <a:cubicBezTo>
                  <a:pt x="15822" y="12347"/>
                  <a:pt x="15788" y="12431"/>
                  <a:pt x="15776" y="12502"/>
                </a:cubicBezTo>
                <a:cubicBezTo>
                  <a:pt x="15766" y="12562"/>
                  <a:pt x="15777" y="12623"/>
                  <a:pt x="15751" y="12675"/>
                </a:cubicBezTo>
                <a:cubicBezTo>
                  <a:pt x="15725" y="12726"/>
                  <a:pt x="15676" y="12747"/>
                  <a:pt x="15627" y="12750"/>
                </a:cubicBezTo>
                <a:cubicBezTo>
                  <a:pt x="15551" y="12754"/>
                  <a:pt x="15498" y="12737"/>
                  <a:pt x="15429" y="12725"/>
                </a:cubicBezTo>
                <a:cubicBezTo>
                  <a:pt x="15412" y="12725"/>
                  <a:pt x="15396" y="12725"/>
                  <a:pt x="15379" y="12725"/>
                </a:cubicBezTo>
              </a:path>
              <a:path w="596" h="1018">
                <a:moveTo>
                  <a:pt x="15949" y="11832"/>
                </a:moveTo>
                <a:cubicBezTo>
                  <a:pt x="15957" y="11824"/>
                  <a:pt x="15966" y="11815"/>
                  <a:pt x="15974" y="11807"/>
                </a:cubicBezTo>
                <a:cubicBezTo>
                  <a:pt x="15974" y="11903"/>
                  <a:pt x="15961" y="11998"/>
                  <a:pt x="15949" y="12080"/>
                </a:cubicBezTo>
                <a:cubicBezTo>
                  <a:pt x="15940" y="12142"/>
                  <a:pt x="15933" y="12226"/>
                  <a:pt x="15925" y="12278"/>
                </a:cubicBezTo>
                <a:cubicBezTo>
                  <a:pt x="15914" y="12355"/>
                  <a:pt x="15909" y="12388"/>
                  <a:pt x="15875" y="12452"/>
                </a:cubicBezTo>
                <a:cubicBezTo>
                  <a:pt x="15836" y="12525"/>
                  <a:pt x="15825" y="12602"/>
                  <a:pt x="15801" y="12675"/>
                </a:cubicBezTo>
                <a:cubicBezTo>
                  <a:pt x="15788" y="12715"/>
                  <a:pt x="15778" y="12809"/>
                  <a:pt x="15726" y="12824"/>
                </a:cubicBezTo>
                <a:cubicBezTo>
                  <a:pt x="15686" y="12836"/>
                  <a:pt x="15606" y="12797"/>
                  <a:pt x="15577" y="12774"/>
                </a:cubicBezTo>
                <a:cubicBezTo>
                  <a:pt x="15531" y="12738"/>
                  <a:pt x="15456" y="12673"/>
                  <a:pt x="15404" y="12650"/>
                </a:cubicBezTo>
                <a:cubicBezTo>
                  <a:pt x="15396" y="12650"/>
                  <a:pt x="15387" y="12650"/>
                  <a:pt x="15379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Ink 5"/>
          <p:cNvSpPr/>
          <p:nvPr/>
        </p:nvSpPr>
        <p:spPr>
          <a:xfrm>
            <a:off x="5581800" y="5742000"/>
            <a:ext cx="231480" cy="349200"/>
          </a:xfrm>
          <a:custGeom>
            <a:avLst/>
            <a:gdLst/>
            <a:ahLst/>
            <a:rect l="l" t="t" r="r" b="b"/>
            <a:pathLst>
              <a:path w="646" h="969">
                <a:moveTo>
                  <a:pt x="16073" y="15999"/>
                </a:moveTo>
                <a:cubicBezTo>
                  <a:pt x="16065" y="16066"/>
                  <a:pt x="16030" y="16133"/>
                  <a:pt x="16024" y="16197"/>
                </a:cubicBezTo>
                <a:cubicBezTo>
                  <a:pt x="16014" y="16301"/>
                  <a:pt x="16002" y="16397"/>
                  <a:pt x="15974" y="16495"/>
                </a:cubicBezTo>
                <a:cubicBezTo>
                  <a:pt x="15958" y="16551"/>
                  <a:pt x="15904" y="16646"/>
                  <a:pt x="15875" y="16694"/>
                </a:cubicBezTo>
                <a:cubicBezTo>
                  <a:pt x="15837" y="16757"/>
                  <a:pt x="15791" y="16828"/>
                  <a:pt x="15751" y="16892"/>
                </a:cubicBezTo>
                <a:cubicBezTo>
                  <a:pt x="15725" y="16933"/>
                  <a:pt x="15628" y="16934"/>
                  <a:pt x="15602" y="16892"/>
                </a:cubicBezTo>
                <a:cubicBezTo>
                  <a:pt x="15579" y="16856"/>
                  <a:pt x="15559" y="16807"/>
                  <a:pt x="15528" y="16768"/>
                </a:cubicBezTo>
              </a:path>
              <a:path w="646" h="969">
                <a:moveTo>
                  <a:pt x="16123" y="15949"/>
                </a:moveTo>
                <a:cubicBezTo>
                  <a:pt x="16154" y="16000"/>
                  <a:pt x="16146" y="16088"/>
                  <a:pt x="16123" y="16148"/>
                </a:cubicBezTo>
                <a:cubicBezTo>
                  <a:pt x="16108" y="16187"/>
                  <a:pt x="16067" y="16262"/>
                  <a:pt x="16049" y="16297"/>
                </a:cubicBezTo>
                <a:cubicBezTo>
                  <a:pt x="16025" y="16345"/>
                  <a:pt x="15997" y="16390"/>
                  <a:pt x="15974" y="16446"/>
                </a:cubicBezTo>
                <a:cubicBezTo>
                  <a:pt x="15937" y="16536"/>
                  <a:pt x="15900" y="16613"/>
                  <a:pt x="15850" y="16694"/>
                </a:cubicBezTo>
                <a:cubicBezTo>
                  <a:pt x="15817" y="16748"/>
                  <a:pt x="15798" y="16828"/>
                  <a:pt x="15726" y="16818"/>
                </a:cubicBezTo>
                <a:cubicBezTo>
                  <a:pt x="15646" y="16807"/>
                  <a:pt x="15611" y="16759"/>
                  <a:pt x="15577" y="16694"/>
                </a:cubicBezTo>
                <a:cubicBezTo>
                  <a:pt x="15546" y="16634"/>
                  <a:pt x="15572" y="16587"/>
                  <a:pt x="15503" y="165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Ink 6"/>
          <p:cNvSpPr/>
          <p:nvPr/>
        </p:nvSpPr>
        <p:spPr>
          <a:xfrm>
            <a:off x="1955880" y="1893960"/>
            <a:ext cx="1554120" cy="3678120"/>
          </a:xfrm>
          <a:custGeom>
            <a:avLst/>
            <a:gdLst/>
            <a:ahLst/>
            <a:rect l="l" t="t" r="r" b="b"/>
            <a:pathLst>
              <a:path w="4317" h="10220">
                <a:moveTo>
                  <a:pt x="9004" y="9376"/>
                </a:moveTo>
                <a:cubicBezTo>
                  <a:pt x="8936" y="9402"/>
                  <a:pt x="8896" y="9420"/>
                  <a:pt x="8830" y="9451"/>
                </a:cubicBezTo>
                <a:cubicBezTo>
                  <a:pt x="8764" y="9482"/>
                  <a:pt x="8666" y="9511"/>
                  <a:pt x="8607" y="9550"/>
                </a:cubicBezTo>
                <a:cubicBezTo>
                  <a:pt x="8449" y="9655"/>
                  <a:pt x="8384" y="9794"/>
                  <a:pt x="8260" y="9922"/>
                </a:cubicBezTo>
                <a:cubicBezTo>
                  <a:pt x="8179" y="10006"/>
                  <a:pt x="8129" y="10092"/>
                  <a:pt x="8111" y="10220"/>
                </a:cubicBezTo>
                <a:cubicBezTo>
                  <a:pt x="8096" y="10330"/>
                  <a:pt x="8087" y="10434"/>
                  <a:pt x="8111" y="10542"/>
                </a:cubicBezTo>
                <a:cubicBezTo>
                  <a:pt x="8141" y="10675"/>
                  <a:pt x="8205" y="10737"/>
                  <a:pt x="8285" y="10840"/>
                </a:cubicBezTo>
                <a:cubicBezTo>
                  <a:pt x="8368" y="10947"/>
                  <a:pt x="8435" y="10998"/>
                  <a:pt x="8533" y="11088"/>
                </a:cubicBezTo>
                <a:cubicBezTo>
                  <a:pt x="8621" y="11169"/>
                  <a:pt x="8699" y="11232"/>
                  <a:pt x="8806" y="11286"/>
                </a:cubicBezTo>
                <a:cubicBezTo>
                  <a:pt x="8909" y="11338"/>
                  <a:pt x="8842" y="11351"/>
                  <a:pt x="8880" y="11261"/>
                </a:cubicBezTo>
              </a:path>
              <a:path w="4317" h="10220">
                <a:moveTo>
                  <a:pt x="8830" y="11013"/>
                </a:moveTo>
                <a:cubicBezTo>
                  <a:pt x="8889" y="11081"/>
                  <a:pt x="8936" y="11130"/>
                  <a:pt x="9004" y="11187"/>
                </a:cubicBezTo>
                <a:cubicBezTo>
                  <a:pt x="9041" y="11218"/>
                  <a:pt x="9163" y="11299"/>
                  <a:pt x="9178" y="11336"/>
                </a:cubicBezTo>
                <a:cubicBezTo>
                  <a:pt x="9178" y="11352"/>
                  <a:pt x="9178" y="11369"/>
                  <a:pt x="9178" y="11385"/>
                </a:cubicBezTo>
                <a:cubicBezTo>
                  <a:pt x="9096" y="11385"/>
                  <a:pt x="9035" y="11407"/>
                  <a:pt x="8954" y="11410"/>
                </a:cubicBezTo>
                <a:cubicBezTo>
                  <a:pt x="8883" y="11413"/>
                  <a:pt x="8714" y="11489"/>
                  <a:pt x="8657" y="11460"/>
                </a:cubicBezTo>
                <a:cubicBezTo>
                  <a:pt x="8657" y="11452"/>
                  <a:pt x="8657" y="11443"/>
                  <a:pt x="8657" y="11435"/>
                </a:cubicBezTo>
              </a:path>
              <a:path w="4317" h="10220">
                <a:moveTo>
                  <a:pt x="8483" y="9128"/>
                </a:moveTo>
                <a:cubicBezTo>
                  <a:pt x="8571" y="9178"/>
                  <a:pt x="8657" y="9199"/>
                  <a:pt x="8756" y="9227"/>
                </a:cubicBezTo>
                <a:cubicBezTo>
                  <a:pt x="8858" y="9256"/>
                  <a:pt x="8956" y="9286"/>
                  <a:pt x="9054" y="9327"/>
                </a:cubicBezTo>
                <a:cubicBezTo>
                  <a:pt x="9157" y="9371"/>
                  <a:pt x="9129" y="9450"/>
                  <a:pt x="9054" y="9525"/>
                </a:cubicBezTo>
                <a:cubicBezTo>
                  <a:pt x="8965" y="9613"/>
                  <a:pt x="8935" y="9633"/>
                  <a:pt x="8880" y="9723"/>
                </a:cubicBezTo>
              </a:path>
              <a:path w="4317" h="10220">
                <a:moveTo>
                  <a:pt x="9302" y="7466"/>
                </a:moveTo>
                <a:cubicBezTo>
                  <a:pt x="9227" y="7485"/>
                  <a:pt x="9171" y="7510"/>
                  <a:pt x="9103" y="7541"/>
                </a:cubicBezTo>
                <a:cubicBezTo>
                  <a:pt x="9004" y="7585"/>
                  <a:pt x="8879" y="7628"/>
                  <a:pt x="8781" y="7689"/>
                </a:cubicBezTo>
                <a:cubicBezTo>
                  <a:pt x="8702" y="7738"/>
                  <a:pt x="8636" y="7814"/>
                  <a:pt x="8558" y="7863"/>
                </a:cubicBezTo>
                <a:cubicBezTo>
                  <a:pt x="8449" y="7932"/>
                  <a:pt x="8351" y="7991"/>
                  <a:pt x="8260" y="8086"/>
                </a:cubicBezTo>
                <a:cubicBezTo>
                  <a:pt x="8144" y="8206"/>
                  <a:pt x="8026" y="8334"/>
                  <a:pt x="7913" y="8458"/>
                </a:cubicBezTo>
                <a:cubicBezTo>
                  <a:pt x="7781" y="8602"/>
                  <a:pt x="7686" y="8761"/>
                  <a:pt x="7590" y="8930"/>
                </a:cubicBezTo>
                <a:cubicBezTo>
                  <a:pt x="7512" y="9068"/>
                  <a:pt x="7461" y="9217"/>
                  <a:pt x="7392" y="9351"/>
                </a:cubicBezTo>
                <a:cubicBezTo>
                  <a:pt x="7316" y="9498"/>
                  <a:pt x="7243" y="9614"/>
                  <a:pt x="7193" y="9773"/>
                </a:cubicBezTo>
                <a:cubicBezTo>
                  <a:pt x="7147" y="9917"/>
                  <a:pt x="7065" y="10095"/>
                  <a:pt x="7045" y="10244"/>
                </a:cubicBezTo>
                <a:cubicBezTo>
                  <a:pt x="7022" y="10420"/>
                  <a:pt x="6993" y="10637"/>
                  <a:pt x="6995" y="10815"/>
                </a:cubicBezTo>
                <a:cubicBezTo>
                  <a:pt x="6997" y="10960"/>
                  <a:pt x="7005" y="11116"/>
                  <a:pt x="7020" y="11261"/>
                </a:cubicBezTo>
                <a:cubicBezTo>
                  <a:pt x="7037" y="11423"/>
                  <a:pt x="7093" y="11581"/>
                  <a:pt x="7144" y="11733"/>
                </a:cubicBezTo>
                <a:cubicBezTo>
                  <a:pt x="7198" y="11892"/>
                  <a:pt x="7301" y="12004"/>
                  <a:pt x="7367" y="12154"/>
                </a:cubicBezTo>
                <a:cubicBezTo>
                  <a:pt x="7457" y="12360"/>
                  <a:pt x="7559" y="12522"/>
                  <a:pt x="7714" y="12700"/>
                </a:cubicBezTo>
                <a:cubicBezTo>
                  <a:pt x="7826" y="12829"/>
                  <a:pt x="7928" y="12965"/>
                  <a:pt x="8037" y="13097"/>
                </a:cubicBezTo>
                <a:cubicBezTo>
                  <a:pt x="8124" y="13203"/>
                  <a:pt x="8232" y="13325"/>
                  <a:pt x="8334" y="13419"/>
                </a:cubicBezTo>
                <a:cubicBezTo>
                  <a:pt x="8395" y="13476"/>
                  <a:pt x="8441" y="13516"/>
                  <a:pt x="8508" y="13568"/>
                </a:cubicBezTo>
                <a:cubicBezTo>
                  <a:pt x="8480" y="13482"/>
                  <a:pt x="8443" y="13400"/>
                  <a:pt x="8409" y="13320"/>
                </a:cubicBezTo>
                <a:cubicBezTo>
                  <a:pt x="8376" y="13243"/>
                  <a:pt x="8365" y="13143"/>
                  <a:pt x="8334" y="13072"/>
                </a:cubicBezTo>
                <a:cubicBezTo>
                  <a:pt x="8299" y="12993"/>
                  <a:pt x="8218" y="12934"/>
                  <a:pt x="8186" y="12874"/>
                </a:cubicBezTo>
                <a:cubicBezTo>
                  <a:pt x="8161" y="12827"/>
                  <a:pt x="8158" y="12792"/>
                  <a:pt x="8136" y="12750"/>
                </a:cubicBezTo>
                <a:cubicBezTo>
                  <a:pt x="8172" y="12804"/>
                  <a:pt x="8212" y="12867"/>
                  <a:pt x="8260" y="12923"/>
                </a:cubicBezTo>
                <a:cubicBezTo>
                  <a:pt x="8342" y="13020"/>
                  <a:pt x="8443" y="13081"/>
                  <a:pt x="8533" y="13171"/>
                </a:cubicBezTo>
                <a:cubicBezTo>
                  <a:pt x="8614" y="13252"/>
                  <a:pt x="8667" y="13352"/>
                  <a:pt x="8731" y="13444"/>
                </a:cubicBezTo>
                <a:cubicBezTo>
                  <a:pt x="8668" y="13447"/>
                  <a:pt x="8634" y="13461"/>
                  <a:pt x="8558" y="13444"/>
                </a:cubicBezTo>
                <a:cubicBezTo>
                  <a:pt x="8483" y="13427"/>
                  <a:pt x="8414" y="13403"/>
                  <a:pt x="8334" y="13395"/>
                </a:cubicBezTo>
                <a:cubicBezTo>
                  <a:pt x="8281" y="13390"/>
                  <a:pt x="8195" y="13422"/>
                  <a:pt x="8161" y="13419"/>
                </a:cubicBezTo>
                <a:cubicBezTo>
                  <a:pt x="8108" y="13414"/>
                  <a:pt x="8164" y="13404"/>
                  <a:pt x="8111" y="13395"/>
                </a:cubicBezTo>
              </a:path>
              <a:path w="4317" h="10220">
                <a:moveTo>
                  <a:pt x="8384" y="7169"/>
                </a:moveTo>
                <a:cubicBezTo>
                  <a:pt x="8499" y="7216"/>
                  <a:pt x="8565" y="7244"/>
                  <a:pt x="8682" y="7268"/>
                </a:cubicBezTo>
                <a:cubicBezTo>
                  <a:pt x="8778" y="7288"/>
                  <a:pt x="8882" y="7330"/>
                  <a:pt x="8979" y="7342"/>
                </a:cubicBezTo>
                <a:cubicBezTo>
                  <a:pt x="9113" y="7359"/>
                  <a:pt x="9220" y="7412"/>
                  <a:pt x="9351" y="7441"/>
                </a:cubicBezTo>
                <a:cubicBezTo>
                  <a:pt x="9401" y="7452"/>
                  <a:pt x="9449" y="7459"/>
                  <a:pt x="9500" y="7466"/>
                </a:cubicBezTo>
                <a:cubicBezTo>
                  <a:pt x="9493" y="7517"/>
                  <a:pt x="9457" y="7595"/>
                  <a:pt x="9426" y="7640"/>
                </a:cubicBezTo>
                <a:cubicBezTo>
                  <a:pt x="9380" y="7704"/>
                  <a:pt x="9305" y="7809"/>
                  <a:pt x="9252" y="7863"/>
                </a:cubicBezTo>
                <a:cubicBezTo>
                  <a:pt x="9210" y="7905"/>
                  <a:pt x="9144" y="7943"/>
                  <a:pt x="9128" y="8012"/>
                </a:cubicBezTo>
                <a:cubicBezTo>
                  <a:pt x="9109" y="8091"/>
                  <a:pt x="9092" y="8106"/>
                  <a:pt x="9079" y="8012"/>
                </a:cubicBezTo>
              </a:path>
              <a:path w="4317" h="10220">
                <a:moveTo>
                  <a:pt x="9376" y="5482"/>
                </a:moveTo>
                <a:cubicBezTo>
                  <a:pt x="9274" y="5526"/>
                  <a:pt x="9179" y="5591"/>
                  <a:pt x="9079" y="5631"/>
                </a:cubicBezTo>
                <a:cubicBezTo>
                  <a:pt x="8863" y="5717"/>
                  <a:pt x="8664" y="5817"/>
                  <a:pt x="8458" y="5928"/>
                </a:cubicBezTo>
                <a:cubicBezTo>
                  <a:pt x="8330" y="5997"/>
                  <a:pt x="8211" y="6080"/>
                  <a:pt x="8086" y="6152"/>
                </a:cubicBezTo>
                <a:cubicBezTo>
                  <a:pt x="7878" y="6272"/>
                  <a:pt x="7768" y="6405"/>
                  <a:pt x="7590" y="6548"/>
                </a:cubicBezTo>
                <a:cubicBezTo>
                  <a:pt x="7434" y="6673"/>
                  <a:pt x="7289" y="6786"/>
                  <a:pt x="7144" y="6921"/>
                </a:cubicBezTo>
                <a:cubicBezTo>
                  <a:pt x="6894" y="7154"/>
                  <a:pt x="6697" y="7441"/>
                  <a:pt x="6499" y="7714"/>
                </a:cubicBezTo>
                <a:cubicBezTo>
                  <a:pt x="6355" y="7912"/>
                  <a:pt x="6213" y="8143"/>
                  <a:pt x="6102" y="8359"/>
                </a:cubicBezTo>
                <a:cubicBezTo>
                  <a:pt x="5986" y="8584"/>
                  <a:pt x="5890" y="8842"/>
                  <a:pt x="5804" y="9079"/>
                </a:cubicBezTo>
                <a:cubicBezTo>
                  <a:pt x="5730" y="9283"/>
                  <a:pt x="5684" y="9489"/>
                  <a:pt x="5631" y="9699"/>
                </a:cubicBezTo>
                <a:cubicBezTo>
                  <a:pt x="5578" y="9907"/>
                  <a:pt x="5513" y="10107"/>
                  <a:pt x="5482" y="10319"/>
                </a:cubicBezTo>
                <a:cubicBezTo>
                  <a:pt x="5445" y="10570"/>
                  <a:pt x="5430" y="10861"/>
                  <a:pt x="5432" y="11112"/>
                </a:cubicBezTo>
                <a:cubicBezTo>
                  <a:pt x="5434" y="11310"/>
                  <a:pt x="5466" y="11537"/>
                  <a:pt x="5507" y="11733"/>
                </a:cubicBezTo>
                <a:cubicBezTo>
                  <a:pt x="5567" y="12022"/>
                  <a:pt x="5674" y="12308"/>
                  <a:pt x="5779" y="12576"/>
                </a:cubicBezTo>
                <a:cubicBezTo>
                  <a:pt x="5859" y="12780"/>
                  <a:pt x="5964" y="12960"/>
                  <a:pt x="6077" y="13146"/>
                </a:cubicBezTo>
                <a:cubicBezTo>
                  <a:pt x="6223" y="13385"/>
                  <a:pt x="6397" y="13600"/>
                  <a:pt x="6573" y="13816"/>
                </a:cubicBezTo>
                <a:cubicBezTo>
                  <a:pt x="6781" y="14071"/>
                  <a:pt x="7025" y="14290"/>
                  <a:pt x="7268" y="14511"/>
                </a:cubicBezTo>
                <a:cubicBezTo>
                  <a:pt x="7423" y="14652"/>
                  <a:pt x="7570" y="14807"/>
                  <a:pt x="7739" y="14932"/>
                </a:cubicBezTo>
                <a:cubicBezTo>
                  <a:pt x="7914" y="15062"/>
                  <a:pt x="8085" y="15173"/>
                  <a:pt x="8260" y="15280"/>
                </a:cubicBezTo>
                <a:cubicBezTo>
                  <a:pt x="8277" y="15280"/>
                  <a:pt x="8293" y="15280"/>
                  <a:pt x="8310" y="15280"/>
                </a:cubicBezTo>
                <a:cubicBezTo>
                  <a:pt x="8294" y="15176"/>
                  <a:pt x="8327" y="15081"/>
                  <a:pt x="8285" y="14982"/>
                </a:cubicBezTo>
                <a:cubicBezTo>
                  <a:pt x="8243" y="14885"/>
                  <a:pt x="8169" y="14751"/>
                  <a:pt x="8111" y="14660"/>
                </a:cubicBezTo>
                <a:cubicBezTo>
                  <a:pt x="8066" y="14588"/>
                  <a:pt x="8010" y="14550"/>
                  <a:pt x="7962" y="14486"/>
                </a:cubicBezTo>
                <a:cubicBezTo>
                  <a:pt x="8025" y="14563"/>
                  <a:pt x="8091" y="14650"/>
                  <a:pt x="8161" y="14734"/>
                </a:cubicBezTo>
                <a:cubicBezTo>
                  <a:pt x="8271" y="14865"/>
                  <a:pt x="8422" y="14987"/>
                  <a:pt x="8508" y="15131"/>
                </a:cubicBezTo>
                <a:cubicBezTo>
                  <a:pt x="8535" y="15176"/>
                  <a:pt x="8537" y="15243"/>
                  <a:pt x="8558" y="15280"/>
                </a:cubicBezTo>
                <a:cubicBezTo>
                  <a:pt x="8502" y="15286"/>
                  <a:pt x="8429" y="15303"/>
                  <a:pt x="8359" y="15304"/>
                </a:cubicBezTo>
                <a:cubicBezTo>
                  <a:pt x="8268" y="15305"/>
                  <a:pt x="8188" y="15300"/>
                  <a:pt x="8111" y="15329"/>
                </a:cubicBezTo>
                <a:cubicBezTo>
                  <a:pt x="8009" y="15368"/>
                  <a:pt x="8022" y="15436"/>
                  <a:pt x="7913" y="15429"/>
                </a:cubicBezTo>
                <a:cubicBezTo>
                  <a:pt x="7921" y="15412"/>
                  <a:pt x="7930" y="15396"/>
                  <a:pt x="7938" y="15379"/>
                </a:cubicBezTo>
              </a:path>
              <a:path w="4317" h="10220">
                <a:moveTo>
                  <a:pt x="8930" y="5259"/>
                </a:moveTo>
                <a:cubicBezTo>
                  <a:pt x="9033" y="5300"/>
                  <a:pt x="9122" y="5321"/>
                  <a:pt x="9227" y="5358"/>
                </a:cubicBezTo>
                <a:cubicBezTo>
                  <a:pt x="9315" y="5389"/>
                  <a:pt x="9410" y="5439"/>
                  <a:pt x="9500" y="5457"/>
                </a:cubicBezTo>
                <a:cubicBezTo>
                  <a:pt x="9578" y="5473"/>
                  <a:pt x="9654" y="5483"/>
                  <a:pt x="9723" y="5531"/>
                </a:cubicBezTo>
                <a:cubicBezTo>
                  <a:pt x="9731" y="5539"/>
                  <a:pt x="9740" y="5548"/>
                  <a:pt x="9748" y="5556"/>
                </a:cubicBezTo>
                <a:cubicBezTo>
                  <a:pt x="9698" y="5656"/>
                  <a:pt x="9627" y="5721"/>
                  <a:pt x="9550" y="5804"/>
                </a:cubicBezTo>
                <a:cubicBezTo>
                  <a:pt x="9472" y="5888"/>
                  <a:pt x="9386" y="5953"/>
                  <a:pt x="9302" y="6028"/>
                </a:cubicBezTo>
                <a:cubicBezTo>
                  <a:pt x="9294" y="6036"/>
                  <a:pt x="9285" y="6044"/>
                  <a:pt x="9277" y="60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ind the six trigonometric functions of t = </a:t>
            </a:r>
            <a:r>
              <a:rPr b="0" lang="en-US" sz="40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c08d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4" name="Ink 4"/>
          <p:cNvSpPr/>
          <p:nvPr/>
        </p:nvSpPr>
        <p:spPr>
          <a:xfrm>
            <a:off x="581040" y="2581200"/>
            <a:ext cx="1303200" cy="544680"/>
          </a:xfrm>
          <a:custGeom>
            <a:avLst/>
            <a:gdLst/>
            <a:ahLst/>
            <a:rect l="l" t="t" r="r" b="b"/>
            <a:pathLst>
              <a:path w="3623" h="1514">
                <a:moveTo>
                  <a:pt x="2480" y="7541"/>
                </a:moveTo>
                <a:cubicBezTo>
                  <a:pt x="2532" y="7557"/>
                  <a:pt x="2504" y="7471"/>
                  <a:pt x="2480" y="7417"/>
                </a:cubicBezTo>
                <a:cubicBezTo>
                  <a:pt x="2439" y="7327"/>
                  <a:pt x="2408" y="7321"/>
                  <a:pt x="2332" y="7268"/>
                </a:cubicBezTo>
                <a:cubicBezTo>
                  <a:pt x="2267" y="7223"/>
                  <a:pt x="2190" y="7201"/>
                  <a:pt x="2108" y="7218"/>
                </a:cubicBezTo>
                <a:cubicBezTo>
                  <a:pt x="2020" y="7237"/>
                  <a:pt x="1891" y="7247"/>
                  <a:pt x="1811" y="7293"/>
                </a:cubicBezTo>
                <a:cubicBezTo>
                  <a:pt x="1767" y="7318"/>
                  <a:pt x="1670" y="7428"/>
                  <a:pt x="1637" y="7466"/>
                </a:cubicBezTo>
                <a:cubicBezTo>
                  <a:pt x="1547" y="7570"/>
                  <a:pt x="1643" y="7669"/>
                  <a:pt x="1712" y="7739"/>
                </a:cubicBezTo>
                <a:cubicBezTo>
                  <a:pt x="1790" y="7817"/>
                  <a:pt x="1893" y="7850"/>
                  <a:pt x="1984" y="7913"/>
                </a:cubicBezTo>
                <a:cubicBezTo>
                  <a:pt x="2117" y="8005"/>
                  <a:pt x="2210" y="8070"/>
                  <a:pt x="2307" y="8186"/>
                </a:cubicBezTo>
                <a:cubicBezTo>
                  <a:pt x="2346" y="8233"/>
                  <a:pt x="2458" y="8304"/>
                  <a:pt x="2406" y="8384"/>
                </a:cubicBezTo>
                <a:cubicBezTo>
                  <a:pt x="2339" y="8488"/>
                  <a:pt x="2251" y="8528"/>
                  <a:pt x="2133" y="8533"/>
                </a:cubicBezTo>
                <a:cubicBezTo>
                  <a:pt x="2034" y="8537"/>
                  <a:pt x="1930" y="8512"/>
                  <a:pt x="1836" y="8483"/>
                </a:cubicBezTo>
                <a:cubicBezTo>
                  <a:pt x="1789" y="8469"/>
                  <a:pt x="1703" y="8416"/>
                  <a:pt x="1687" y="8359"/>
                </a:cubicBezTo>
                <a:cubicBezTo>
                  <a:pt x="1687" y="8308"/>
                  <a:pt x="1688" y="8289"/>
                  <a:pt x="1712" y="8260"/>
                </a:cubicBezTo>
              </a:path>
              <a:path w="3623" h="1514">
                <a:moveTo>
                  <a:pt x="2704" y="8186"/>
                </a:moveTo>
                <a:cubicBezTo>
                  <a:pt x="2725" y="8290"/>
                  <a:pt x="2735" y="8367"/>
                  <a:pt x="2729" y="8458"/>
                </a:cubicBezTo>
                <a:cubicBezTo>
                  <a:pt x="2716" y="8644"/>
                  <a:pt x="2711" y="8528"/>
                  <a:pt x="2704" y="8458"/>
                </a:cubicBezTo>
              </a:path>
              <a:path w="3623" h="1514">
                <a:moveTo>
                  <a:pt x="2753" y="7813"/>
                </a:moveTo>
                <a:cubicBezTo>
                  <a:pt x="2761" y="7813"/>
                  <a:pt x="2770" y="7813"/>
                  <a:pt x="2778" y="7813"/>
                </a:cubicBezTo>
              </a:path>
              <a:path w="3623" h="1514">
                <a:moveTo>
                  <a:pt x="2927" y="8384"/>
                </a:moveTo>
                <a:cubicBezTo>
                  <a:pt x="2950" y="8491"/>
                  <a:pt x="2957" y="8588"/>
                  <a:pt x="2977" y="8434"/>
                </a:cubicBezTo>
                <a:cubicBezTo>
                  <a:pt x="2988" y="8347"/>
                  <a:pt x="2990" y="8266"/>
                  <a:pt x="3026" y="8186"/>
                </a:cubicBezTo>
                <a:cubicBezTo>
                  <a:pt x="3068" y="8092"/>
                  <a:pt x="3080" y="8042"/>
                  <a:pt x="3200" y="8062"/>
                </a:cubicBezTo>
                <a:cubicBezTo>
                  <a:pt x="3254" y="8071"/>
                  <a:pt x="3320" y="8192"/>
                  <a:pt x="3349" y="8235"/>
                </a:cubicBezTo>
                <a:cubicBezTo>
                  <a:pt x="3382" y="8285"/>
                  <a:pt x="3438" y="8399"/>
                  <a:pt x="3448" y="8458"/>
                </a:cubicBezTo>
                <a:cubicBezTo>
                  <a:pt x="3459" y="8522"/>
                  <a:pt x="3409" y="8655"/>
                  <a:pt x="3473" y="8508"/>
                </a:cubicBezTo>
              </a:path>
              <a:path w="3623" h="1514">
                <a:moveTo>
                  <a:pt x="3894" y="7317"/>
                </a:moveTo>
                <a:cubicBezTo>
                  <a:pt x="4007" y="7287"/>
                  <a:pt x="4123" y="7272"/>
                  <a:pt x="4242" y="7268"/>
                </a:cubicBezTo>
                <a:cubicBezTo>
                  <a:pt x="4348" y="7265"/>
                  <a:pt x="4440" y="7259"/>
                  <a:pt x="4539" y="7243"/>
                </a:cubicBezTo>
                <a:cubicBezTo>
                  <a:pt x="4556" y="7243"/>
                  <a:pt x="4572" y="7243"/>
                  <a:pt x="4589" y="7243"/>
                </a:cubicBezTo>
              </a:path>
              <a:path w="3623" h="1514">
                <a:moveTo>
                  <a:pt x="4217" y="7268"/>
                </a:moveTo>
                <a:cubicBezTo>
                  <a:pt x="4191" y="7370"/>
                  <a:pt x="4192" y="7459"/>
                  <a:pt x="4192" y="7565"/>
                </a:cubicBezTo>
                <a:cubicBezTo>
                  <a:pt x="4192" y="7612"/>
                  <a:pt x="4192" y="7947"/>
                  <a:pt x="4192" y="7764"/>
                </a:cubicBezTo>
              </a:path>
              <a:path w="3623" h="1514">
                <a:moveTo>
                  <a:pt x="4390" y="7392"/>
                </a:moveTo>
                <a:cubicBezTo>
                  <a:pt x="4390" y="7506"/>
                  <a:pt x="4372" y="7612"/>
                  <a:pt x="4366" y="7714"/>
                </a:cubicBezTo>
                <a:cubicBezTo>
                  <a:pt x="4363" y="7769"/>
                  <a:pt x="4358" y="7791"/>
                  <a:pt x="4390" y="7813"/>
                </a:cubicBezTo>
              </a:path>
              <a:path w="3623" h="1514">
                <a:moveTo>
                  <a:pt x="4862" y="7169"/>
                </a:moveTo>
                <a:cubicBezTo>
                  <a:pt x="4807" y="7317"/>
                  <a:pt x="4786" y="7467"/>
                  <a:pt x="4738" y="7615"/>
                </a:cubicBezTo>
                <a:cubicBezTo>
                  <a:pt x="4683" y="7786"/>
                  <a:pt x="4631" y="7937"/>
                  <a:pt x="4589" y="8111"/>
                </a:cubicBezTo>
                <a:cubicBezTo>
                  <a:pt x="4562" y="8222"/>
                  <a:pt x="4507" y="8304"/>
                  <a:pt x="4465" y="8409"/>
                </a:cubicBezTo>
                <a:cubicBezTo>
                  <a:pt x="4445" y="8458"/>
                  <a:pt x="4446" y="8480"/>
                  <a:pt x="4440" y="8533"/>
                </a:cubicBezTo>
              </a:path>
              <a:path w="3623" h="1514">
                <a:moveTo>
                  <a:pt x="4911" y="8012"/>
                </a:moveTo>
                <a:cubicBezTo>
                  <a:pt x="4988" y="7963"/>
                  <a:pt x="5074" y="7889"/>
                  <a:pt x="5159" y="7938"/>
                </a:cubicBezTo>
                <a:cubicBezTo>
                  <a:pt x="5213" y="7969"/>
                  <a:pt x="5183" y="8126"/>
                  <a:pt x="5159" y="8161"/>
                </a:cubicBezTo>
                <a:cubicBezTo>
                  <a:pt x="5131" y="8202"/>
                  <a:pt x="5025" y="8238"/>
                  <a:pt x="4986" y="8260"/>
                </a:cubicBezTo>
                <a:cubicBezTo>
                  <a:pt x="4942" y="8282"/>
                  <a:pt x="4930" y="8285"/>
                  <a:pt x="4911" y="8310"/>
                </a:cubicBezTo>
                <a:cubicBezTo>
                  <a:pt x="5006" y="8310"/>
                  <a:pt x="5054" y="8313"/>
                  <a:pt x="5135" y="8359"/>
                </a:cubicBezTo>
                <a:cubicBezTo>
                  <a:pt x="5202" y="8397"/>
                  <a:pt x="5280" y="8462"/>
                  <a:pt x="5234" y="8558"/>
                </a:cubicBezTo>
                <a:cubicBezTo>
                  <a:pt x="5197" y="8635"/>
                  <a:pt x="5047" y="8640"/>
                  <a:pt x="4986" y="8657"/>
                </a:cubicBezTo>
                <a:cubicBezTo>
                  <a:pt x="4945" y="8668"/>
                  <a:pt x="4756" y="8693"/>
                  <a:pt x="4762" y="8607"/>
                </a:cubicBezTo>
                <a:cubicBezTo>
                  <a:pt x="4792" y="8548"/>
                  <a:pt x="4807" y="8521"/>
                  <a:pt x="4837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Ink 5"/>
          <p:cNvSpPr/>
          <p:nvPr/>
        </p:nvSpPr>
        <p:spPr>
          <a:xfrm>
            <a:off x="2081160" y="2840040"/>
            <a:ext cx="177840" cy="88920"/>
          </a:xfrm>
          <a:custGeom>
            <a:avLst/>
            <a:gdLst/>
            <a:ahLst/>
            <a:rect l="l" t="t" r="r" b="b"/>
            <a:pathLst>
              <a:path w="498" h="249">
                <a:moveTo>
                  <a:pt x="5779" y="7962"/>
                </a:moveTo>
                <a:cubicBezTo>
                  <a:pt x="5882" y="7938"/>
                  <a:pt x="5978" y="7909"/>
                  <a:pt x="6077" y="7888"/>
                </a:cubicBezTo>
                <a:cubicBezTo>
                  <a:pt x="6085" y="7888"/>
                  <a:pt x="6094" y="7888"/>
                  <a:pt x="6102" y="7888"/>
                </a:cubicBezTo>
              </a:path>
              <a:path w="498" h="249">
                <a:moveTo>
                  <a:pt x="5879" y="8086"/>
                </a:moveTo>
                <a:cubicBezTo>
                  <a:pt x="5998" y="8109"/>
                  <a:pt x="6107" y="8131"/>
                  <a:pt x="6226" y="8136"/>
                </a:cubicBezTo>
                <a:cubicBezTo>
                  <a:pt x="6243" y="8136"/>
                  <a:pt x="6259" y="8136"/>
                  <a:pt x="6276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6"/>
          <p:cNvSpPr/>
          <p:nvPr/>
        </p:nvSpPr>
        <p:spPr>
          <a:xfrm>
            <a:off x="490680" y="3652920"/>
            <a:ext cx="519120" cy="438120"/>
          </a:xfrm>
          <a:custGeom>
            <a:avLst/>
            <a:gdLst/>
            <a:ahLst/>
            <a:rect l="l" t="t" r="r" b="b"/>
            <a:pathLst>
              <a:path w="1440" h="1217">
                <a:moveTo>
                  <a:pt x="1761" y="10319"/>
                </a:moveTo>
                <a:cubicBezTo>
                  <a:pt x="1787" y="10411"/>
                  <a:pt x="1796" y="10452"/>
                  <a:pt x="1860" y="10517"/>
                </a:cubicBezTo>
                <a:cubicBezTo>
                  <a:pt x="1860" y="10437"/>
                  <a:pt x="1852" y="10366"/>
                  <a:pt x="1811" y="10294"/>
                </a:cubicBezTo>
                <a:cubicBezTo>
                  <a:pt x="1783" y="10244"/>
                  <a:pt x="1724" y="10191"/>
                  <a:pt x="1687" y="10145"/>
                </a:cubicBezTo>
                <a:cubicBezTo>
                  <a:pt x="1563" y="10207"/>
                  <a:pt x="1522" y="10238"/>
                  <a:pt x="1463" y="10368"/>
                </a:cubicBezTo>
                <a:cubicBezTo>
                  <a:pt x="1412" y="10479"/>
                  <a:pt x="1368" y="10566"/>
                  <a:pt x="1364" y="10691"/>
                </a:cubicBezTo>
                <a:cubicBezTo>
                  <a:pt x="1360" y="10810"/>
                  <a:pt x="1356" y="10925"/>
                  <a:pt x="1389" y="11038"/>
                </a:cubicBezTo>
                <a:cubicBezTo>
                  <a:pt x="1403" y="11085"/>
                  <a:pt x="1455" y="11195"/>
                  <a:pt x="1513" y="11212"/>
                </a:cubicBezTo>
                <a:cubicBezTo>
                  <a:pt x="1641" y="11249"/>
                  <a:pt x="1701" y="11166"/>
                  <a:pt x="1786" y="11088"/>
                </a:cubicBezTo>
              </a:path>
              <a:path w="1440" h="1217">
                <a:moveTo>
                  <a:pt x="2034" y="10765"/>
                </a:moveTo>
                <a:cubicBezTo>
                  <a:pt x="2014" y="10904"/>
                  <a:pt x="1994" y="11004"/>
                  <a:pt x="2034" y="11137"/>
                </a:cubicBezTo>
                <a:cubicBezTo>
                  <a:pt x="2060" y="11225"/>
                  <a:pt x="2080" y="11332"/>
                  <a:pt x="2183" y="11361"/>
                </a:cubicBezTo>
                <a:cubicBezTo>
                  <a:pt x="2236" y="11376"/>
                  <a:pt x="2307" y="11301"/>
                  <a:pt x="2332" y="11261"/>
                </a:cubicBezTo>
                <a:cubicBezTo>
                  <a:pt x="2400" y="11152"/>
                  <a:pt x="2412" y="10998"/>
                  <a:pt x="2332" y="10889"/>
                </a:cubicBezTo>
                <a:cubicBezTo>
                  <a:pt x="2288" y="10829"/>
                  <a:pt x="2227" y="10802"/>
                  <a:pt x="2158" y="10790"/>
                </a:cubicBezTo>
                <a:cubicBezTo>
                  <a:pt x="2096" y="10780"/>
                  <a:pt x="2103" y="10785"/>
                  <a:pt x="2059" y="10740"/>
                </a:cubicBezTo>
              </a:path>
              <a:path w="1440" h="1217">
                <a:moveTo>
                  <a:pt x="2555" y="10641"/>
                </a:moveTo>
                <a:cubicBezTo>
                  <a:pt x="2515" y="10728"/>
                  <a:pt x="2491" y="10770"/>
                  <a:pt x="2406" y="10815"/>
                </a:cubicBezTo>
                <a:cubicBezTo>
                  <a:pt x="2363" y="10837"/>
                  <a:pt x="2351" y="10840"/>
                  <a:pt x="2332" y="10864"/>
                </a:cubicBezTo>
                <a:cubicBezTo>
                  <a:pt x="2392" y="10948"/>
                  <a:pt x="2457" y="11015"/>
                  <a:pt x="2530" y="11088"/>
                </a:cubicBezTo>
                <a:cubicBezTo>
                  <a:pt x="2597" y="11155"/>
                  <a:pt x="2732" y="11214"/>
                  <a:pt x="2778" y="11286"/>
                </a:cubicBezTo>
                <a:cubicBezTo>
                  <a:pt x="2786" y="11311"/>
                  <a:pt x="2795" y="11336"/>
                  <a:pt x="2803" y="11361"/>
                </a:cubicBezTo>
                <a:cubicBezTo>
                  <a:pt x="2733" y="11361"/>
                  <a:pt x="2640" y="11380"/>
                  <a:pt x="2580" y="11336"/>
                </a:cubicBezTo>
                <a:cubicBezTo>
                  <a:pt x="2526" y="11282"/>
                  <a:pt x="2505" y="11260"/>
                  <a:pt x="2480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Ink 7"/>
          <p:cNvSpPr/>
          <p:nvPr/>
        </p:nvSpPr>
        <p:spPr>
          <a:xfrm>
            <a:off x="1276200" y="3598920"/>
            <a:ext cx="563760" cy="571320"/>
          </a:xfrm>
          <a:custGeom>
            <a:avLst/>
            <a:gdLst/>
            <a:ahLst/>
            <a:rect l="l" t="t" r="r" b="b"/>
            <a:pathLst>
              <a:path w="1564" h="1589">
                <a:moveTo>
                  <a:pt x="3547" y="10071"/>
                </a:moveTo>
                <a:cubicBezTo>
                  <a:pt x="3660" y="10071"/>
                  <a:pt x="3766" y="10057"/>
                  <a:pt x="3870" y="10046"/>
                </a:cubicBezTo>
                <a:cubicBezTo>
                  <a:pt x="3969" y="10036"/>
                  <a:pt x="3984" y="10038"/>
                  <a:pt x="4068" y="9996"/>
                </a:cubicBezTo>
              </a:path>
              <a:path w="1564" h="1589">
                <a:moveTo>
                  <a:pt x="3845" y="10145"/>
                </a:moveTo>
                <a:cubicBezTo>
                  <a:pt x="3850" y="10286"/>
                  <a:pt x="3871" y="10396"/>
                  <a:pt x="3894" y="10517"/>
                </a:cubicBezTo>
                <a:cubicBezTo>
                  <a:pt x="3908" y="10590"/>
                  <a:pt x="3891" y="10609"/>
                  <a:pt x="3944" y="10542"/>
                </a:cubicBezTo>
              </a:path>
              <a:path w="1564" h="1589">
                <a:moveTo>
                  <a:pt x="3969" y="10071"/>
                </a:moveTo>
                <a:cubicBezTo>
                  <a:pt x="3969" y="10194"/>
                  <a:pt x="3918" y="10470"/>
                  <a:pt x="3994" y="10567"/>
                </a:cubicBezTo>
                <a:cubicBezTo>
                  <a:pt x="4023" y="10597"/>
                  <a:pt x="4037" y="10602"/>
                  <a:pt x="4068" y="10567"/>
                </a:cubicBezTo>
              </a:path>
              <a:path w="1564" h="1589">
                <a:moveTo>
                  <a:pt x="4440" y="10046"/>
                </a:moveTo>
                <a:cubicBezTo>
                  <a:pt x="4421" y="10219"/>
                  <a:pt x="4414" y="10396"/>
                  <a:pt x="4390" y="10567"/>
                </a:cubicBezTo>
                <a:cubicBezTo>
                  <a:pt x="4367" y="10733"/>
                  <a:pt x="4329" y="10896"/>
                  <a:pt x="4316" y="11063"/>
                </a:cubicBezTo>
                <a:cubicBezTo>
                  <a:pt x="4305" y="11213"/>
                  <a:pt x="4291" y="11356"/>
                  <a:pt x="4291" y="11509"/>
                </a:cubicBezTo>
                <a:cubicBezTo>
                  <a:pt x="4291" y="11501"/>
                  <a:pt x="4291" y="11493"/>
                  <a:pt x="4291" y="11485"/>
                </a:cubicBezTo>
              </a:path>
              <a:path w="1564" h="1589">
                <a:moveTo>
                  <a:pt x="4663" y="10840"/>
                </a:moveTo>
                <a:cubicBezTo>
                  <a:pt x="4767" y="10818"/>
                  <a:pt x="4837" y="10799"/>
                  <a:pt x="4936" y="10840"/>
                </a:cubicBezTo>
                <a:cubicBezTo>
                  <a:pt x="5023" y="10876"/>
                  <a:pt x="5064" y="10951"/>
                  <a:pt x="5011" y="11038"/>
                </a:cubicBezTo>
                <a:cubicBezTo>
                  <a:pt x="4970" y="11105"/>
                  <a:pt x="4897" y="11137"/>
                  <a:pt x="4837" y="11162"/>
                </a:cubicBezTo>
                <a:cubicBezTo>
                  <a:pt x="4820" y="11170"/>
                  <a:pt x="4804" y="11179"/>
                  <a:pt x="4787" y="11187"/>
                </a:cubicBezTo>
                <a:cubicBezTo>
                  <a:pt x="4846" y="11227"/>
                  <a:pt x="4928" y="11240"/>
                  <a:pt x="4986" y="11286"/>
                </a:cubicBezTo>
                <a:cubicBezTo>
                  <a:pt x="5017" y="11310"/>
                  <a:pt x="5165" y="11427"/>
                  <a:pt x="5110" y="11485"/>
                </a:cubicBezTo>
                <a:cubicBezTo>
                  <a:pt x="5041" y="11558"/>
                  <a:pt x="4878" y="11581"/>
                  <a:pt x="4787" y="11584"/>
                </a:cubicBezTo>
                <a:cubicBezTo>
                  <a:pt x="4663" y="11588"/>
                  <a:pt x="4539" y="11584"/>
                  <a:pt x="4415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Ink 8"/>
          <p:cNvSpPr/>
          <p:nvPr/>
        </p:nvSpPr>
        <p:spPr>
          <a:xfrm>
            <a:off x="554040" y="4680000"/>
            <a:ext cx="1625760" cy="695160"/>
          </a:xfrm>
          <a:custGeom>
            <a:avLst/>
            <a:gdLst/>
            <a:ahLst/>
            <a:rect l="l" t="t" r="r" b="b"/>
            <a:pathLst>
              <a:path w="4515" h="1935">
                <a:moveTo>
                  <a:pt x="1935" y="13246"/>
                </a:moveTo>
                <a:cubicBezTo>
                  <a:pt x="1957" y="13430"/>
                  <a:pt x="1960" y="13605"/>
                  <a:pt x="1960" y="13791"/>
                </a:cubicBezTo>
                <a:cubicBezTo>
                  <a:pt x="1960" y="13977"/>
                  <a:pt x="1956" y="14154"/>
                  <a:pt x="1935" y="14337"/>
                </a:cubicBezTo>
                <a:cubicBezTo>
                  <a:pt x="1935" y="14382"/>
                  <a:pt x="1938" y="14395"/>
                  <a:pt x="1910" y="14412"/>
                </a:cubicBezTo>
                <a:cubicBezTo>
                  <a:pt x="1861" y="14351"/>
                  <a:pt x="1859" y="14319"/>
                  <a:pt x="1836" y="14238"/>
                </a:cubicBezTo>
              </a:path>
              <a:path w="4515" h="1935">
                <a:moveTo>
                  <a:pt x="1538" y="12998"/>
                </a:moveTo>
                <a:cubicBezTo>
                  <a:pt x="1687" y="13024"/>
                  <a:pt x="1837" y="13047"/>
                  <a:pt x="1984" y="13072"/>
                </a:cubicBezTo>
                <a:cubicBezTo>
                  <a:pt x="2101" y="13092"/>
                  <a:pt x="2214" y="13118"/>
                  <a:pt x="2332" y="13122"/>
                </a:cubicBezTo>
                <a:cubicBezTo>
                  <a:pt x="2413" y="13125"/>
                  <a:pt x="2477" y="13095"/>
                  <a:pt x="2555" y="13072"/>
                </a:cubicBezTo>
              </a:path>
              <a:path w="4515" h="1935">
                <a:moveTo>
                  <a:pt x="2753" y="13866"/>
                </a:moveTo>
                <a:cubicBezTo>
                  <a:pt x="2753" y="13960"/>
                  <a:pt x="2774" y="13980"/>
                  <a:pt x="2729" y="14015"/>
                </a:cubicBezTo>
                <a:cubicBezTo>
                  <a:pt x="2681" y="13955"/>
                  <a:pt x="2676" y="13908"/>
                  <a:pt x="2654" y="13841"/>
                </a:cubicBezTo>
                <a:cubicBezTo>
                  <a:pt x="2640" y="13800"/>
                  <a:pt x="2630" y="13685"/>
                  <a:pt x="2580" y="13667"/>
                </a:cubicBezTo>
                <a:cubicBezTo>
                  <a:pt x="2451" y="13621"/>
                  <a:pt x="2424" y="13768"/>
                  <a:pt x="2381" y="13841"/>
                </a:cubicBezTo>
                <a:cubicBezTo>
                  <a:pt x="2322" y="13942"/>
                  <a:pt x="2286" y="14021"/>
                  <a:pt x="2282" y="14139"/>
                </a:cubicBezTo>
                <a:cubicBezTo>
                  <a:pt x="2278" y="14236"/>
                  <a:pt x="2314" y="14256"/>
                  <a:pt x="2381" y="14312"/>
                </a:cubicBezTo>
                <a:cubicBezTo>
                  <a:pt x="2448" y="14368"/>
                  <a:pt x="2547" y="14255"/>
                  <a:pt x="2580" y="14188"/>
                </a:cubicBezTo>
                <a:cubicBezTo>
                  <a:pt x="2613" y="14121"/>
                  <a:pt x="2619" y="14048"/>
                  <a:pt x="2654" y="13990"/>
                </a:cubicBezTo>
                <a:cubicBezTo>
                  <a:pt x="2706" y="14068"/>
                  <a:pt x="2719" y="14170"/>
                  <a:pt x="2729" y="14263"/>
                </a:cubicBezTo>
                <a:cubicBezTo>
                  <a:pt x="2735" y="14318"/>
                  <a:pt x="2738" y="14454"/>
                  <a:pt x="2803" y="14486"/>
                </a:cubicBezTo>
                <a:cubicBezTo>
                  <a:pt x="2875" y="14522"/>
                  <a:pt x="2907" y="14403"/>
                  <a:pt x="2927" y="14362"/>
                </a:cubicBezTo>
              </a:path>
              <a:path w="4515" h="1935">
                <a:moveTo>
                  <a:pt x="3001" y="14015"/>
                </a:moveTo>
                <a:cubicBezTo>
                  <a:pt x="3001" y="14155"/>
                  <a:pt x="3001" y="14296"/>
                  <a:pt x="3001" y="14436"/>
                </a:cubicBezTo>
                <a:cubicBezTo>
                  <a:pt x="3020" y="14307"/>
                  <a:pt x="3026" y="14185"/>
                  <a:pt x="3076" y="14064"/>
                </a:cubicBezTo>
                <a:cubicBezTo>
                  <a:pt x="3104" y="13996"/>
                  <a:pt x="3123" y="13942"/>
                  <a:pt x="3175" y="13891"/>
                </a:cubicBezTo>
                <a:cubicBezTo>
                  <a:pt x="3183" y="13883"/>
                  <a:pt x="3192" y="13874"/>
                  <a:pt x="3200" y="13866"/>
                </a:cubicBezTo>
                <a:cubicBezTo>
                  <a:pt x="3250" y="13916"/>
                  <a:pt x="3300" y="13971"/>
                  <a:pt x="3324" y="14039"/>
                </a:cubicBezTo>
                <a:cubicBezTo>
                  <a:pt x="3367" y="14163"/>
                  <a:pt x="3386" y="14308"/>
                  <a:pt x="3398" y="14436"/>
                </a:cubicBezTo>
                <a:cubicBezTo>
                  <a:pt x="3404" y="14495"/>
                  <a:pt x="3384" y="14705"/>
                  <a:pt x="3473" y="14635"/>
                </a:cubicBezTo>
                <a:cubicBezTo>
                  <a:pt x="3481" y="14627"/>
                  <a:pt x="3489" y="14618"/>
                  <a:pt x="3497" y="14610"/>
                </a:cubicBezTo>
              </a:path>
              <a:path w="4515" h="1935">
                <a:moveTo>
                  <a:pt x="3721" y="13047"/>
                </a:moveTo>
                <a:cubicBezTo>
                  <a:pt x="3838" y="13047"/>
                  <a:pt x="3931" y="13083"/>
                  <a:pt x="4043" y="13097"/>
                </a:cubicBezTo>
                <a:cubicBezTo>
                  <a:pt x="4148" y="13110"/>
                  <a:pt x="4243" y="13117"/>
                  <a:pt x="4341" y="13097"/>
                </a:cubicBezTo>
              </a:path>
              <a:path w="4515" h="1935">
                <a:moveTo>
                  <a:pt x="3944" y="13444"/>
                </a:moveTo>
                <a:cubicBezTo>
                  <a:pt x="3944" y="13522"/>
                  <a:pt x="3934" y="13688"/>
                  <a:pt x="3969" y="13618"/>
                </a:cubicBezTo>
              </a:path>
              <a:path w="4515" h="1935">
                <a:moveTo>
                  <a:pt x="4118" y="13246"/>
                </a:moveTo>
                <a:cubicBezTo>
                  <a:pt x="4118" y="13408"/>
                  <a:pt x="4120" y="13562"/>
                  <a:pt x="4142" y="13717"/>
                </a:cubicBezTo>
                <a:cubicBezTo>
                  <a:pt x="4153" y="13793"/>
                  <a:pt x="4141" y="13781"/>
                  <a:pt x="4217" y="13791"/>
                </a:cubicBezTo>
              </a:path>
              <a:path w="4515" h="1935">
                <a:moveTo>
                  <a:pt x="4539" y="13221"/>
                </a:moveTo>
                <a:cubicBezTo>
                  <a:pt x="4501" y="13453"/>
                  <a:pt x="4457" y="13683"/>
                  <a:pt x="4415" y="13915"/>
                </a:cubicBezTo>
                <a:cubicBezTo>
                  <a:pt x="4375" y="14137"/>
                  <a:pt x="4380" y="14366"/>
                  <a:pt x="4341" y="14585"/>
                </a:cubicBezTo>
                <a:cubicBezTo>
                  <a:pt x="4328" y="14658"/>
                  <a:pt x="4316" y="14709"/>
                  <a:pt x="4316" y="14784"/>
                </a:cubicBezTo>
              </a:path>
              <a:path w="4515" h="1935">
                <a:moveTo>
                  <a:pt x="4638" y="14089"/>
                </a:moveTo>
                <a:cubicBezTo>
                  <a:pt x="4840" y="14097"/>
                  <a:pt x="4842" y="14070"/>
                  <a:pt x="4961" y="14188"/>
                </a:cubicBezTo>
                <a:cubicBezTo>
                  <a:pt x="4986" y="14213"/>
                  <a:pt x="4994" y="14221"/>
                  <a:pt x="5011" y="14238"/>
                </a:cubicBezTo>
                <a:cubicBezTo>
                  <a:pt x="4969" y="14312"/>
                  <a:pt x="4927" y="14345"/>
                  <a:pt x="4837" y="14362"/>
                </a:cubicBezTo>
                <a:cubicBezTo>
                  <a:pt x="4785" y="14362"/>
                  <a:pt x="4767" y="14363"/>
                  <a:pt x="4738" y="14387"/>
                </a:cubicBezTo>
                <a:cubicBezTo>
                  <a:pt x="4795" y="14433"/>
                  <a:pt x="4856" y="14459"/>
                  <a:pt x="4911" y="14511"/>
                </a:cubicBezTo>
                <a:cubicBezTo>
                  <a:pt x="4989" y="14584"/>
                  <a:pt x="5064" y="14649"/>
                  <a:pt x="5085" y="14759"/>
                </a:cubicBezTo>
                <a:cubicBezTo>
                  <a:pt x="5103" y="14853"/>
                  <a:pt x="5050" y="14918"/>
                  <a:pt x="4961" y="14932"/>
                </a:cubicBezTo>
                <a:cubicBezTo>
                  <a:pt x="4851" y="14949"/>
                  <a:pt x="4732" y="14914"/>
                  <a:pt x="4638" y="14858"/>
                </a:cubicBezTo>
                <a:cubicBezTo>
                  <a:pt x="4560" y="14812"/>
                  <a:pt x="4551" y="14793"/>
                  <a:pt x="4589" y="14709"/>
                </a:cubicBezTo>
                <a:cubicBezTo>
                  <a:pt x="4597" y="14693"/>
                  <a:pt x="4606" y="14676"/>
                  <a:pt x="4614" y="14660"/>
                </a:cubicBezTo>
              </a:path>
              <a:path w="4515" h="1935">
                <a:moveTo>
                  <a:pt x="5631" y="13915"/>
                </a:moveTo>
                <a:cubicBezTo>
                  <a:pt x="5751" y="13893"/>
                  <a:pt x="5859" y="13875"/>
                  <a:pt x="5978" y="13866"/>
                </a:cubicBezTo>
              </a:path>
              <a:path w="4515" h="1935">
                <a:moveTo>
                  <a:pt x="5755" y="14089"/>
                </a:moveTo>
                <a:cubicBezTo>
                  <a:pt x="5916" y="14153"/>
                  <a:pt x="5906" y="14183"/>
                  <a:pt x="6052" y="140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Ink 9"/>
          <p:cNvSpPr/>
          <p:nvPr/>
        </p:nvSpPr>
        <p:spPr>
          <a:xfrm>
            <a:off x="2419200" y="2562120"/>
            <a:ext cx="358920" cy="322200"/>
          </a:xfrm>
          <a:custGeom>
            <a:avLst/>
            <a:gdLst/>
            <a:ahLst/>
            <a:rect l="l" t="t" r="r" b="b"/>
            <a:pathLst>
              <a:path w="993" h="894">
                <a:moveTo>
                  <a:pt x="6772" y="7441"/>
                </a:moveTo>
                <a:cubicBezTo>
                  <a:pt x="6772" y="7531"/>
                  <a:pt x="6785" y="7600"/>
                  <a:pt x="6796" y="7689"/>
                </a:cubicBezTo>
                <a:cubicBezTo>
                  <a:pt x="6796" y="7747"/>
                  <a:pt x="6796" y="7772"/>
                  <a:pt x="6796" y="7813"/>
                </a:cubicBezTo>
                <a:cubicBezTo>
                  <a:pt x="6796" y="7637"/>
                  <a:pt x="6799" y="7461"/>
                  <a:pt x="6772" y="7293"/>
                </a:cubicBezTo>
                <a:cubicBezTo>
                  <a:pt x="6767" y="7260"/>
                  <a:pt x="6815" y="7159"/>
                  <a:pt x="6846" y="7144"/>
                </a:cubicBezTo>
                <a:cubicBezTo>
                  <a:pt x="6906" y="7115"/>
                  <a:pt x="7077" y="7121"/>
                  <a:pt x="7144" y="7119"/>
                </a:cubicBezTo>
                <a:cubicBezTo>
                  <a:pt x="7292" y="7114"/>
                  <a:pt x="7689" y="7119"/>
                  <a:pt x="7541" y="7119"/>
                </a:cubicBezTo>
              </a:path>
              <a:path w="993" h="894">
                <a:moveTo>
                  <a:pt x="7094" y="7392"/>
                </a:moveTo>
                <a:cubicBezTo>
                  <a:pt x="7120" y="7405"/>
                  <a:pt x="7182" y="7390"/>
                  <a:pt x="7218" y="7367"/>
                </a:cubicBezTo>
                <a:cubicBezTo>
                  <a:pt x="7242" y="7351"/>
                  <a:pt x="7357" y="7289"/>
                  <a:pt x="7392" y="7367"/>
                </a:cubicBezTo>
                <a:cubicBezTo>
                  <a:pt x="7430" y="7453"/>
                  <a:pt x="7344" y="7559"/>
                  <a:pt x="7293" y="7615"/>
                </a:cubicBezTo>
                <a:cubicBezTo>
                  <a:pt x="7252" y="7660"/>
                  <a:pt x="7252" y="7657"/>
                  <a:pt x="7193" y="7665"/>
                </a:cubicBezTo>
                <a:cubicBezTo>
                  <a:pt x="7281" y="7643"/>
                  <a:pt x="7414" y="7606"/>
                  <a:pt x="7491" y="7689"/>
                </a:cubicBezTo>
                <a:cubicBezTo>
                  <a:pt x="7527" y="7728"/>
                  <a:pt x="7567" y="7805"/>
                  <a:pt x="7541" y="7838"/>
                </a:cubicBezTo>
                <a:cubicBezTo>
                  <a:pt x="7496" y="7896"/>
                  <a:pt x="7461" y="7888"/>
                  <a:pt x="7392" y="7888"/>
                </a:cubicBezTo>
                <a:cubicBezTo>
                  <a:pt x="7309" y="7888"/>
                  <a:pt x="7227" y="7888"/>
                  <a:pt x="7144" y="7888"/>
                </a:cubicBezTo>
              </a:path>
              <a:path w="993" h="894">
                <a:moveTo>
                  <a:pt x="6722" y="7987"/>
                </a:moveTo>
                <a:cubicBezTo>
                  <a:pt x="7029" y="7987"/>
                  <a:pt x="7377" y="7954"/>
                  <a:pt x="7665" y="8012"/>
                </a:cubicBezTo>
                <a:cubicBezTo>
                  <a:pt x="7681" y="8012"/>
                  <a:pt x="7698" y="8012"/>
                  <a:pt x="7714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10"/>
          <p:cNvSpPr/>
          <p:nvPr/>
        </p:nvSpPr>
        <p:spPr>
          <a:xfrm>
            <a:off x="6018120" y="2527200"/>
            <a:ext cx="1741680" cy="911160"/>
          </a:xfrm>
          <a:custGeom>
            <a:avLst/>
            <a:gdLst/>
            <a:ahLst/>
            <a:rect l="l" t="t" r="r" b="b"/>
            <a:pathLst>
              <a:path w="4838" h="2531">
                <a:moveTo>
                  <a:pt x="16966" y="7367"/>
                </a:moveTo>
                <a:cubicBezTo>
                  <a:pt x="16966" y="7417"/>
                  <a:pt x="16966" y="7433"/>
                  <a:pt x="16966" y="7466"/>
                </a:cubicBezTo>
                <a:cubicBezTo>
                  <a:pt x="16966" y="7433"/>
                  <a:pt x="16954" y="7293"/>
                  <a:pt x="17016" y="7293"/>
                </a:cubicBezTo>
                <a:cubicBezTo>
                  <a:pt x="17055" y="7293"/>
                  <a:pt x="17161" y="7318"/>
                  <a:pt x="17190" y="7342"/>
                </a:cubicBezTo>
                <a:cubicBezTo>
                  <a:pt x="17245" y="7387"/>
                  <a:pt x="17298" y="7500"/>
                  <a:pt x="17314" y="7565"/>
                </a:cubicBezTo>
                <a:cubicBezTo>
                  <a:pt x="17335" y="7647"/>
                  <a:pt x="17322" y="7790"/>
                  <a:pt x="17289" y="7863"/>
                </a:cubicBezTo>
                <a:cubicBezTo>
                  <a:pt x="17255" y="7938"/>
                  <a:pt x="17245" y="8025"/>
                  <a:pt x="17190" y="8086"/>
                </a:cubicBezTo>
                <a:cubicBezTo>
                  <a:pt x="17164" y="8114"/>
                  <a:pt x="17057" y="8149"/>
                  <a:pt x="17016" y="8136"/>
                </a:cubicBezTo>
                <a:cubicBezTo>
                  <a:pt x="16972" y="8122"/>
                  <a:pt x="16898" y="8068"/>
                  <a:pt x="16917" y="8012"/>
                </a:cubicBezTo>
                <a:cubicBezTo>
                  <a:pt x="16935" y="7957"/>
                  <a:pt x="17020" y="7949"/>
                  <a:pt x="17066" y="7962"/>
                </a:cubicBezTo>
                <a:cubicBezTo>
                  <a:pt x="17130" y="7980"/>
                  <a:pt x="17232" y="8031"/>
                  <a:pt x="17289" y="8062"/>
                </a:cubicBezTo>
                <a:cubicBezTo>
                  <a:pt x="17327" y="8083"/>
                  <a:pt x="17341" y="8086"/>
                  <a:pt x="17388" y="8086"/>
                </a:cubicBezTo>
              </a:path>
              <a:path w="4838" h="2531">
                <a:moveTo>
                  <a:pt x="16718" y="8235"/>
                </a:moveTo>
                <a:cubicBezTo>
                  <a:pt x="16759" y="8260"/>
                  <a:pt x="16893" y="8289"/>
                  <a:pt x="16942" y="8285"/>
                </a:cubicBezTo>
                <a:cubicBezTo>
                  <a:pt x="17018" y="8279"/>
                  <a:pt x="17077" y="8263"/>
                  <a:pt x="17165" y="8260"/>
                </a:cubicBezTo>
                <a:cubicBezTo>
                  <a:pt x="17300" y="8255"/>
                  <a:pt x="17548" y="8216"/>
                  <a:pt x="17661" y="8285"/>
                </a:cubicBezTo>
              </a:path>
              <a:path w="4838" h="2531">
                <a:moveTo>
                  <a:pt x="16718" y="8756"/>
                </a:moveTo>
                <a:cubicBezTo>
                  <a:pt x="16754" y="8880"/>
                  <a:pt x="16780" y="9000"/>
                  <a:pt x="16793" y="9128"/>
                </a:cubicBezTo>
                <a:cubicBezTo>
                  <a:pt x="16804" y="9238"/>
                  <a:pt x="16798" y="9353"/>
                  <a:pt x="16818" y="9451"/>
                </a:cubicBezTo>
                <a:cubicBezTo>
                  <a:pt x="16818" y="9467"/>
                  <a:pt x="16818" y="9484"/>
                  <a:pt x="16818" y="9500"/>
                </a:cubicBezTo>
                <a:cubicBezTo>
                  <a:pt x="16792" y="9456"/>
                  <a:pt x="16777" y="9381"/>
                  <a:pt x="16768" y="9327"/>
                </a:cubicBezTo>
                <a:cubicBezTo>
                  <a:pt x="16746" y="9197"/>
                  <a:pt x="16740" y="8955"/>
                  <a:pt x="16793" y="8830"/>
                </a:cubicBezTo>
                <a:cubicBezTo>
                  <a:pt x="16813" y="8784"/>
                  <a:pt x="16830" y="8727"/>
                  <a:pt x="16867" y="8682"/>
                </a:cubicBezTo>
                <a:cubicBezTo>
                  <a:pt x="16907" y="8634"/>
                  <a:pt x="16985" y="8583"/>
                  <a:pt x="17041" y="8558"/>
                </a:cubicBezTo>
                <a:cubicBezTo>
                  <a:pt x="17115" y="8525"/>
                  <a:pt x="17210" y="8512"/>
                  <a:pt x="17289" y="8508"/>
                </a:cubicBezTo>
                <a:cubicBezTo>
                  <a:pt x="17363" y="8504"/>
                  <a:pt x="17506" y="8536"/>
                  <a:pt x="17562" y="8582"/>
                </a:cubicBezTo>
                <a:cubicBezTo>
                  <a:pt x="17562" y="8590"/>
                  <a:pt x="17562" y="8599"/>
                  <a:pt x="17562" y="8607"/>
                </a:cubicBezTo>
              </a:path>
              <a:path w="4838" h="2531">
                <a:moveTo>
                  <a:pt x="17190" y="8806"/>
                </a:moveTo>
                <a:cubicBezTo>
                  <a:pt x="17214" y="8775"/>
                  <a:pt x="17246" y="8694"/>
                  <a:pt x="17289" y="8682"/>
                </a:cubicBezTo>
                <a:cubicBezTo>
                  <a:pt x="17374" y="8658"/>
                  <a:pt x="17370" y="8662"/>
                  <a:pt x="17438" y="8731"/>
                </a:cubicBezTo>
                <a:cubicBezTo>
                  <a:pt x="17497" y="8791"/>
                  <a:pt x="17495" y="8838"/>
                  <a:pt x="17462" y="8905"/>
                </a:cubicBezTo>
                <a:cubicBezTo>
                  <a:pt x="17443" y="8943"/>
                  <a:pt x="17390" y="9110"/>
                  <a:pt x="17363" y="9128"/>
                </a:cubicBezTo>
                <a:cubicBezTo>
                  <a:pt x="17355" y="9120"/>
                  <a:pt x="17346" y="9111"/>
                  <a:pt x="17338" y="9103"/>
                </a:cubicBezTo>
                <a:cubicBezTo>
                  <a:pt x="17385" y="9057"/>
                  <a:pt x="17442" y="9029"/>
                  <a:pt x="17512" y="9054"/>
                </a:cubicBezTo>
                <a:cubicBezTo>
                  <a:pt x="17554" y="9069"/>
                  <a:pt x="17624" y="9134"/>
                  <a:pt x="17636" y="9178"/>
                </a:cubicBezTo>
                <a:cubicBezTo>
                  <a:pt x="17655" y="9250"/>
                  <a:pt x="17608" y="9306"/>
                  <a:pt x="17562" y="9351"/>
                </a:cubicBezTo>
                <a:cubicBezTo>
                  <a:pt x="17520" y="9393"/>
                  <a:pt x="17444" y="9419"/>
                  <a:pt x="17388" y="9426"/>
                </a:cubicBezTo>
                <a:cubicBezTo>
                  <a:pt x="17301" y="9438"/>
                  <a:pt x="17211" y="9411"/>
                  <a:pt x="17140" y="9401"/>
                </a:cubicBezTo>
                <a:cubicBezTo>
                  <a:pt x="17037" y="9386"/>
                  <a:pt x="17089" y="9414"/>
                  <a:pt x="17041" y="9351"/>
                </a:cubicBezTo>
              </a:path>
              <a:path w="4838" h="2531">
                <a:moveTo>
                  <a:pt x="18132" y="8830"/>
                </a:moveTo>
                <a:cubicBezTo>
                  <a:pt x="18102" y="8921"/>
                  <a:pt x="18107" y="9005"/>
                  <a:pt x="18107" y="9103"/>
                </a:cubicBezTo>
                <a:cubicBezTo>
                  <a:pt x="18107" y="9186"/>
                  <a:pt x="18107" y="9268"/>
                  <a:pt x="18107" y="9351"/>
                </a:cubicBezTo>
                <a:cubicBezTo>
                  <a:pt x="18081" y="9254"/>
                  <a:pt x="18083" y="9180"/>
                  <a:pt x="18083" y="9079"/>
                </a:cubicBezTo>
                <a:cubicBezTo>
                  <a:pt x="18083" y="9004"/>
                  <a:pt x="18096" y="8949"/>
                  <a:pt x="18107" y="8880"/>
                </a:cubicBezTo>
                <a:cubicBezTo>
                  <a:pt x="18120" y="8798"/>
                  <a:pt x="18079" y="8698"/>
                  <a:pt x="18132" y="8632"/>
                </a:cubicBezTo>
                <a:cubicBezTo>
                  <a:pt x="18163" y="8593"/>
                  <a:pt x="18214" y="8566"/>
                  <a:pt x="18256" y="8558"/>
                </a:cubicBezTo>
                <a:cubicBezTo>
                  <a:pt x="18325" y="8545"/>
                  <a:pt x="18387" y="8536"/>
                  <a:pt x="18455" y="8533"/>
                </a:cubicBezTo>
                <a:cubicBezTo>
                  <a:pt x="18538" y="8529"/>
                  <a:pt x="18648" y="8506"/>
                  <a:pt x="18728" y="8483"/>
                </a:cubicBezTo>
                <a:cubicBezTo>
                  <a:pt x="18799" y="8462"/>
                  <a:pt x="18849" y="8458"/>
                  <a:pt x="18926" y="8458"/>
                </a:cubicBezTo>
                <a:cubicBezTo>
                  <a:pt x="18934" y="8458"/>
                  <a:pt x="18943" y="8458"/>
                  <a:pt x="18951" y="8458"/>
                </a:cubicBezTo>
              </a:path>
              <a:path w="4838" h="2531">
                <a:moveTo>
                  <a:pt x="18430" y="8806"/>
                </a:moveTo>
                <a:cubicBezTo>
                  <a:pt x="18447" y="8775"/>
                  <a:pt x="18488" y="8693"/>
                  <a:pt x="18529" y="8682"/>
                </a:cubicBezTo>
                <a:cubicBezTo>
                  <a:pt x="18576" y="8669"/>
                  <a:pt x="18685" y="8668"/>
                  <a:pt x="18703" y="8731"/>
                </a:cubicBezTo>
                <a:cubicBezTo>
                  <a:pt x="18728" y="8819"/>
                  <a:pt x="18643" y="8857"/>
                  <a:pt x="18604" y="8905"/>
                </a:cubicBezTo>
                <a:cubicBezTo>
                  <a:pt x="18557" y="8964"/>
                  <a:pt x="18573" y="8965"/>
                  <a:pt x="18504" y="9004"/>
                </a:cubicBezTo>
                <a:cubicBezTo>
                  <a:pt x="18592" y="8954"/>
                  <a:pt x="18625" y="8963"/>
                  <a:pt x="18703" y="8979"/>
                </a:cubicBezTo>
                <a:cubicBezTo>
                  <a:pt x="18762" y="8991"/>
                  <a:pt x="18809" y="9005"/>
                  <a:pt x="18827" y="9079"/>
                </a:cubicBezTo>
                <a:cubicBezTo>
                  <a:pt x="18850" y="9175"/>
                  <a:pt x="18784" y="9196"/>
                  <a:pt x="18752" y="9277"/>
                </a:cubicBezTo>
                <a:cubicBezTo>
                  <a:pt x="18704" y="9397"/>
                  <a:pt x="18644" y="9395"/>
                  <a:pt x="18554" y="9475"/>
                </a:cubicBezTo>
                <a:cubicBezTo>
                  <a:pt x="18479" y="9542"/>
                  <a:pt x="18454" y="9550"/>
                  <a:pt x="18355" y="9550"/>
                </a:cubicBezTo>
              </a:path>
              <a:path w="4838" h="2531">
                <a:moveTo>
                  <a:pt x="18083" y="7813"/>
                </a:moveTo>
                <a:cubicBezTo>
                  <a:pt x="18091" y="7875"/>
                  <a:pt x="18108" y="7902"/>
                  <a:pt x="18132" y="7962"/>
                </a:cubicBezTo>
                <a:cubicBezTo>
                  <a:pt x="18156" y="8023"/>
                  <a:pt x="18178" y="8077"/>
                  <a:pt x="18207" y="8136"/>
                </a:cubicBezTo>
                <a:cubicBezTo>
                  <a:pt x="18198" y="8076"/>
                  <a:pt x="18175" y="8022"/>
                  <a:pt x="18157" y="7962"/>
                </a:cubicBezTo>
                <a:cubicBezTo>
                  <a:pt x="18129" y="7871"/>
                  <a:pt x="18122" y="7783"/>
                  <a:pt x="18107" y="7689"/>
                </a:cubicBezTo>
                <a:cubicBezTo>
                  <a:pt x="18086" y="7561"/>
                  <a:pt x="18072" y="7493"/>
                  <a:pt x="18107" y="7367"/>
                </a:cubicBezTo>
                <a:cubicBezTo>
                  <a:pt x="18128" y="7289"/>
                  <a:pt x="18176" y="7200"/>
                  <a:pt x="18256" y="7169"/>
                </a:cubicBezTo>
                <a:cubicBezTo>
                  <a:pt x="18319" y="7145"/>
                  <a:pt x="18388" y="7138"/>
                  <a:pt x="18455" y="7119"/>
                </a:cubicBezTo>
                <a:cubicBezTo>
                  <a:pt x="18524" y="7099"/>
                  <a:pt x="18583" y="7056"/>
                  <a:pt x="18653" y="7045"/>
                </a:cubicBezTo>
                <a:cubicBezTo>
                  <a:pt x="18704" y="7037"/>
                  <a:pt x="18738" y="7064"/>
                  <a:pt x="18752" y="7069"/>
                </a:cubicBezTo>
              </a:path>
              <a:path w="4838" h="2531">
                <a:moveTo>
                  <a:pt x="18355" y="7466"/>
                </a:moveTo>
                <a:cubicBezTo>
                  <a:pt x="18408" y="7424"/>
                  <a:pt x="18453" y="7418"/>
                  <a:pt x="18504" y="7392"/>
                </a:cubicBezTo>
                <a:cubicBezTo>
                  <a:pt x="18542" y="7373"/>
                  <a:pt x="18599" y="7384"/>
                  <a:pt x="18653" y="7417"/>
                </a:cubicBezTo>
                <a:cubicBezTo>
                  <a:pt x="18734" y="7466"/>
                  <a:pt x="18639" y="7573"/>
                  <a:pt x="18604" y="7615"/>
                </a:cubicBezTo>
                <a:cubicBezTo>
                  <a:pt x="18574" y="7650"/>
                  <a:pt x="18537" y="7681"/>
                  <a:pt x="18504" y="7714"/>
                </a:cubicBezTo>
                <a:cubicBezTo>
                  <a:pt x="18504" y="7647"/>
                  <a:pt x="18590" y="7665"/>
                  <a:pt x="18678" y="7665"/>
                </a:cubicBezTo>
                <a:cubicBezTo>
                  <a:pt x="18730" y="7665"/>
                  <a:pt x="18806" y="7685"/>
                  <a:pt x="18852" y="7714"/>
                </a:cubicBezTo>
                <a:cubicBezTo>
                  <a:pt x="18927" y="7761"/>
                  <a:pt x="18859" y="7834"/>
                  <a:pt x="18827" y="7863"/>
                </a:cubicBezTo>
                <a:cubicBezTo>
                  <a:pt x="18759" y="7925"/>
                  <a:pt x="18708" y="7992"/>
                  <a:pt x="18628" y="8037"/>
                </a:cubicBezTo>
                <a:cubicBezTo>
                  <a:pt x="18575" y="8067"/>
                  <a:pt x="18538" y="8062"/>
                  <a:pt x="18479" y="8062"/>
                </a:cubicBezTo>
              </a:path>
              <a:path w="4838" h="2531">
                <a:moveTo>
                  <a:pt x="19248" y="8086"/>
                </a:moveTo>
                <a:cubicBezTo>
                  <a:pt x="19314" y="8078"/>
                  <a:pt x="19368" y="8066"/>
                  <a:pt x="19422" y="8037"/>
                </a:cubicBezTo>
                <a:cubicBezTo>
                  <a:pt x="19470" y="8013"/>
                  <a:pt x="19484" y="8005"/>
                  <a:pt x="19521" y="8012"/>
                </a:cubicBezTo>
              </a:path>
              <a:path w="4838" h="2531">
                <a:moveTo>
                  <a:pt x="19298" y="8310"/>
                </a:moveTo>
                <a:cubicBezTo>
                  <a:pt x="19359" y="8332"/>
                  <a:pt x="19414" y="8339"/>
                  <a:pt x="19472" y="8310"/>
                </a:cubicBezTo>
                <a:cubicBezTo>
                  <a:pt x="19524" y="8284"/>
                  <a:pt x="19561" y="8269"/>
                  <a:pt x="19621" y="8260"/>
                </a:cubicBezTo>
              </a:path>
              <a:path w="4838" h="2531">
                <a:moveTo>
                  <a:pt x="20067" y="7342"/>
                </a:moveTo>
                <a:cubicBezTo>
                  <a:pt x="20054" y="7382"/>
                  <a:pt x="20042" y="7585"/>
                  <a:pt x="20042" y="7466"/>
                </a:cubicBezTo>
                <a:cubicBezTo>
                  <a:pt x="20042" y="7397"/>
                  <a:pt x="20037" y="7349"/>
                  <a:pt x="20067" y="7293"/>
                </a:cubicBezTo>
                <a:cubicBezTo>
                  <a:pt x="20099" y="7233"/>
                  <a:pt x="20137" y="7187"/>
                  <a:pt x="20216" y="7218"/>
                </a:cubicBezTo>
                <a:cubicBezTo>
                  <a:pt x="20259" y="7234"/>
                  <a:pt x="20337" y="7298"/>
                  <a:pt x="20365" y="7342"/>
                </a:cubicBezTo>
                <a:cubicBezTo>
                  <a:pt x="20410" y="7414"/>
                  <a:pt x="20414" y="7484"/>
                  <a:pt x="20414" y="7565"/>
                </a:cubicBezTo>
                <a:cubicBezTo>
                  <a:pt x="20414" y="7642"/>
                  <a:pt x="20412" y="7718"/>
                  <a:pt x="20389" y="7789"/>
                </a:cubicBezTo>
                <a:cubicBezTo>
                  <a:pt x="20369" y="7849"/>
                  <a:pt x="20303" y="7911"/>
                  <a:pt x="20265" y="7962"/>
                </a:cubicBezTo>
                <a:cubicBezTo>
                  <a:pt x="20231" y="8007"/>
                  <a:pt x="20175" y="8034"/>
                  <a:pt x="20117" y="8012"/>
                </a:cubicBezTo>
                <a:cubicBezTo>
                  <a:pt x="20045" y="7984"/>
                  <a:pt x="20068" y="7898"/>
                  <a:pt x="20117" y="7863"/>
                </a:cubicBezTo>
                <a:cubicBezTo>
                  <a:pt x="20200" y="7803"/>
                  <a:pt x="20230" y="7824"/>
                  <a:pt x="20315" y="7838"/>
                </a:cubicBezTo>
                <a:cubicBezTo>
                  <a:pt x="20350" y="7844"/>
                  <a:pt x="20428" y="7861"/>
                  <a:pt x="20439" y="7913"/>
                </a:cubicBezTo>
                <a:cubicBezTo>
                  <a:pt x="20439" y="7979"/>
                  <a:pt x="20439" y="7996"/>
                  <a:pt x="20439" y="8037"/>
                </a:cubicBezTo>
              </a:path>
              <a:path w="4838" h="2531">
                <a:moveTo>
                  <a:pt x="20687" y="7466"/>
                </a:moveTo>
                <a:cubicBezTo>
                  <a:pt x="20722" y="7587"/>
                  <a:pt x="20737" y="7662"/>
                  <a:pt x="20737" y="7789"/>
                </a:cubicBezTo>
                <a:cubicBezTo>
                  <a:pt x="20737" y="7856"/>
                  <a:pt x="20736" y="7886"/>
                  <a:pt x="20762" y="7938"/>
                </a:cubicBezTo>
                <a:cubicBezTo>
                  <a:pt x="20753" y="7853"/>
                  <a:pt x="20737" y="7777"/>
                  <a:pt x="20737" y="7689"/>
                </a:cubicBezTo>
                <a:cubicBezTo>
                  <a:pt x="20737" y="7576"/>
                  <a:pt x="20756" y="7473"/>
                  <a:pt x="20762" y="7367"/>
                </a:cubicBezTo>
                <a:cubicBezTo>
                  <a:pt x="20765" y="7310"/>
                  <a:pt x="20783" y="7224"/>
                  <a:pt x="20811" y="7169"/>
                </a:cubicBezTo>
                <a:cubicBezTo>
                  <a:pt x="20835" y="7121"/>
                  <a:pt x="21060" y="7100"/>
                  <a:pt x="21084" y="7094"/>
                </a:cubicBezTo>
                <a:cubicBezTo>
                  <a:pt x="21179" y="7069"/>
                  <a:pt x="21260" y="7033"/>
                  <a:pt x="21357" y="7020"/>
                </a:cubicBezTo>
                <a:cubicBezTo>
                  <a:pt x="21420" y="7011"/>
                  <a:pt x="21481" y="7015"/>
                  <a:pt x="21530" y="7045"/>
                </a:cubicBezTo>
              </a:path>
              <a:path w="4838" h="2531">
                <a:moveTo>
                  <a:pt x="21010" y="7392"/>
                </a:moveTo>
                <a:cubicBezTo>
                  <a:pt x="21079" y="7382"/>
                  <a:pt x="21131" y="7345"/>
                  <a:pt x="21208" y="7342"/>
                </a:cubicBezTo>
                <a:cubicBezTo>
                  <a:pt x="21268" y="7339"/>
                  <a:pt x="21372" y="7358"/>
                  <a:pt x="21357" y="7441"/>
                </a:cubicBezTo>
                <a:cubicBezTo>
                  <a:pt x="21347" y="7497"/>
                  <a:pt x="21270" y="7553"/>
                  <a:pt x="21233" y="7590"/>
                </a:cubicBezTo>
                <a:cubicBezTo>
                  <a:pt x="21177" y="7646"/>
                  <a:pt x="21153" y="7692"/>
                  <a:pt x="21084" y="7665"/>
                </a:cubicBezTo>
                <a:cubicBezTo>
                  <a:pt x="21155" y="7658"/>
                  <a:pt x="21232" y="7620"/>
                  <a:pt x="21307" y="7640"/>
                </a:cubicBezTo>
                <a:cubicBezTo>
                  <a:pt x="21329" y="7646"/>
                  <a:pt x="21475" y="7725"/>
                  <a:pt x="21481" y="7739"/>
                </a:cubicBezTo>
                <a:cubicBezTo>
                  <a:pt x="21521" y="7834"/>
                  <a:pt x="21460" y="7864"/>
                  <a:pt x="21406" y="7913"/>
                </a:cubicBezTo>
                <a:cubicBezTo>
                  <a:pt x="21364" y="7952"/>
                  <a:pt x="21337" y="7989"/>
                  <a:pt x="21282" y="8012"/>
                </a:cubicBezTo>
                <a:cubicBezTo>
                  <a:pt x="21206" y="8043"/>
                  <a:pt x="21139" y="8037"/>
                  <a:pt x="21059" y="8037"/>
                </a:cubicBezTo>
              </a:path>
              <a:path w="4838" h="2531">
                <a:moveTo>
                  <a:pt x="20141" y="8235"/>
                </a:moveTo>
                <a:cubicBezTo>
                  <a:pt x="20223" y="8223"/>
                  <a:pt x="20269" y="8210"/>
                  <a:pt x="20365" y="8210"/>
                </a:cubicBezTo>
                <a:cubicBezTo>
                  <a:pt x="20457" y="8210"/>
                  <a:pt x="20549" y="8203"/>
                  <a:pt x="20638" y="8186"/>
                </a:cubicBezTo>
                <a:cubicBezTo>
                  <a:pt x="20753" y="8164"/>
                  <a:pt x="20872" y="8159"/>
                  <a:pt x="20985" y="8136"/>
                </a:cubicBezTo>
                <a:cubicBezTo>
                  <a:pt x="21117" y="8109"/>
                  <a:pt x="21251" y="8111"/>
                  <a:pt x="21382" y="8086"/>
                </a:cubicBezTo>
                <a:cubicBezTo>
                  <a:pt x="21402" y="8082"/>
                  <a:pt x="21555" y="8060"/>
                  <a:pt x="21555" y="8037"/>
                </a:cubicBezTo>
                <a:cubicBezTo>
                  <a:pt x="21547" y="8029"/>
                  <a:pt x="21538" y="8020"/>
                  <a:pt x="21530" y="8012"/>
                </a:cubicBezTo>
              </a:path>
              <a:path w="4838" h="2531">
                <a:moveTo>
                  <a:pt x="20638" y="8657"/>
                </a:moveTo>
                <a:cubicBezTo>
                  <a:pt x="20618" y="8617"/>
                  <a:pt x="20637" y="8572"/>
                  <a:pt x="20687" y="8533"/>
                </a:cubicBezTo>
                <a:cubicBezTo>
                  <a:pt x="20764" y="8472"/>
                  <a:pt x="20886" y="8431"/>
                  <a:pt x="20985" y="8458"/>
                </a:cubicBezTo>
                <a:cubicBezTo>
                  <a:pt x="21014" y="8466"/>
                  <a:pt x="21099" y="8525"/>
                  <a:pt x="21109" y="8558"/>
                </a:cubicBezTo>
                <a:cubicBezTo>
                  <a:pt x="21126" y="8616"/>
                  <a:pt x="21042" y="8711"/>
                  <a:pt x="21010" y="8756"/>
                </a:cubicBezTo>
                <a:cubicBezTo>
                  <a:pt x="20978" y="8801"/>
                  <a:pt x="20890" y="8880"/>
                  <a:pt x="20836" y="8880"/>
                </a:cubicBezTo>
                <a:cubicBezTo>
                  <a:pt x="20828" y="8872"/>
                  <a:pt x="20819" y="8863"/>
                  <a:pt x="20811" y="8855"/>
                </a:cubicBezTo>
                <a:cubicBezTo>
                  <a:pt x="20883" y="8823"/>
                  <a:pt x="20977" y="8778"/>
                  <a:pt x="21059" y="8806"/>
                </a:cubicBezTo>
                <a:cubicBezTo>
                  <a:pt x="21111" y="8824"/>
                  <a:pt x="21167" y="8836"/>
                  <a:pt x="21183" y="8905"/>
                </a:cubicBezTo>
                <a:cubicBezTo>
                  <a:pt x="21204" y="8995"/>
                  <a:pt x="21225" y="9088"/>
                  <a:pt x="21183" y="9178"/>
                </a:cubicBezTo>
                <a:cubicBezTo>
                  <a:pt x="21151" y="9245"/>
                  <a:pt x="21082" y="9253"/>
                  <a:pt x="21034" y="9277"/>
                </a:cubicBezTo>
                <a:cubicBezTo>
                  <a:pt x="20991" y="9299"/>
                  <a:pt x="20893" y="9324"/>
                  <a:pt x="20836" y="9302"/>
                </a:cubicBezTo>
                <a:cubicBezTo>
                  <a:pt x="20788" y="9284"/>
                  <a:pt x="20709" y="9274"/>
                  <a:pt x="20662" y="9252"/>
                </a:cubicBezTo>
                <a:cubicBezTo>
                  <a:pt x="20604" y="9225"/>
                  <a:pt x="20650" y="9197"/>
                  <a:pt x="20588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Ink 11"/>
          <p:cNvSpPr/>
          <p:nvPr/>
        </p:nvSpPr>
        <p:spPr>
          <a:xfrm>
            <a:off x="2473200" y="2955960"/>
            <a:ext cx="250920" cy="231840"/>
          </a:xfrm>
          <a:custGeom>
            <a:avLst/>
            <a:gdLst/>
            <a:ahLst/>
            <a:rect l="l" t="t" r="r" b="b"/>
            <a:pathLst>
              <a:path w="695" h="646">
                <a:moveTo>
                  <a:pt x="7069" y="8235"/>
                </a:moveTo>
                <a:cubicBezTo>
                  <a:pt x="7018" y="8288"/>
                  <a:pt x="7165" y="8218"/>
                  <a:pt x="7218" y="8210"/>
                </a:cubicBezTo>
                <a:cubicBezTo>
                  <a:pt x="7271" y="8202"/>
                  <a:pt x="7431" y="8200"/>
                  <a:pt x="7441" y="8285"/>
                </a:cubicBezTo>
                <a:cubicBezTo>
                  <a:pt x="7455" y="8403"/>
                  <a:pt x="7339" y="8447"/>
                  <a:pt x="7268" y="8508"/>
                </a:cubicBezTo>
                <a:cubicBezTo>
                  <a:pt x="7196" y="8570"/>
                  <a:pt x="7081" y="8596"/>
                  <a:pt x="7020" y="8657"/>
                </a:cubicBezTo>
                <a:cubicBezTo>
                  <a:pt x="6972" y="8704"/>
                  <a:pt x="6927" y="8736"/>
                  <a:pt x="6871" y="8781"/>
                </a:cubicBezTo>
                <a:cubicBezTo>
                  <a:pt x="6960" y="8814"/>
                  <a:pt x="7073" y="8821"/>
                  <a:pt x="7169" y="8830"/>
                </a:cubicBezTo>
                <a:cubicBezTo>
                  <a:pt x="7270" y="8840"/>
                  <a:pt x="7368" y="8842"/>
                  <a:pt x="7466" y="8855"/>
                </a:cubicBezTo>
                <a:cubicBezTo>
                  <a:pt x="7518" y="8855"/>
                  <a:pt x="7536" y="8854"/>
                  <a:pt x="7565" y="88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Ink 12"/>
          <p:cNvSpPr/>
          <p:nvPr/>
        </p:nvSpPr>
        <p:spPr>
          <a:xfrm>
            <a:off x="4554360" y="2874960"/>
            <a:ext cx="1392480" cy="519120"/>
          </a:xfrm>
          <a:custGeom>
            <a:avLst/>
            <a:gdLst/>
            <a:ahLst/>
            <a:rect l="l" t="t" r="r" b="b"/>
            <a:pathLst>
              <a:path w="3871" h="1440">
                <a:moveTo>
                  <a:pt x="13295" y="8434"/>
                </a:moveTo>
                <a:cubicBezTo>
                  <a:pt x="13321" y="8502"/>
                  <a:pt x="13320" y="8531"/>
                  <a:pt x="13320" y="8607"/>
                </a:cubicBezTo>
                <a:cubicBezTo>
                  <a:pt x="13302" y="8525"/>
                  <a:pt x="13300" y="8449"/>
                  <a:pt x="13246" y="8384"/>
                </a:cubicBezTo>
                <a:cubicBezTo>
                  <a:pt x="13195" y="8322"/>
                  <a:pt x="13121" y="8243"/>
                  <a:pt x="13047" y="8210"/>
                </a:cubicBezTo>
                <a:cubicBezTo>
                  <a:pt x="12934" y="8160"/>
                  <a:pt x="12851" y="8191"/>
                  <a:pt x="12774" y="8285"/>
                </a:cubicBezTo>
                <a:cubicBezTo>
                  <a:pt x="12694" y="8382"/>
                  <a:pt x="12665" y="8536"/>
                  <a:pt x="12650" y="8657"/>
                </a:cubicBezTo>
                <a:cubicBezTo>
                  <a:pt x="12640" y="8737"/>
                  <a:pt x="12682" y="8877"/>
                  <a:pt x="12750" y="8930"/>
                </a:cubicBezTo>
                <a:cubicBezTo>
                  <a:pt x="12832" y="8993"/>
                  <a:pt x="12947" y="9027"/>
                  <a:pt x="13047" y="9029"/>
                </a:cubicBezTo>
                <a:cubicBezTo>
                  <a:pt x="13183" y="9029"/>
                  <a:pt x="13222" y="9035"/>
                  <a:pt x="13295" y="8979"/>
                </a:cubicBezTo>
              </a:path>
              <a:path w="3871" h="1440">
                <a:moveTo>
                  <a:pt x="13692" y="8607"/>
                </a:moveTo>
                <a:cubicBezTo>
                  <a:pt x="13631" y="8661"/>
                  <a:pt x="13563" y="8713"/>
                  <a:pt x="13494" y="8756"/>
                </a:cubicBezTo>
                <a:cubicBezTo>
                  <a:pt x="13446" y="8780"/>
                  <a:pt x="13429" y="8786"/>
                  <a:pt x="13444" y="8830"/>
                </a:cubicBezTo>
                <a:cubicBezTo>
                  <a:pt x="13509" y="8873"/>
                  <a:pt x="13599" y="8920"/>
                  <a:pt x="13667" y="8954"/>
                </a:cubicBezTo>
                <a:cubicBezTo>
                  <a:pt x="13829" y="9034"/>
                  <a:pt x="13787" y="8980"/>
                  <a:pt x="13816" y="9178"/>
                </a:cubicBezTo>
                <a:cubicBezTo>
                  <a:pt x="13748" y="9201"/>
                  <a:pt x="13659" y="9230"/>
                  <a:pt x="13593" y="9178"/>
                </a:cubicBezTo>
                <a:cubicBezTo>
                  <a:pt x="13568" y="9153"/>
                  <a:pt x="13544" y="9128"/>
                  <a:pt x="13519" y="9103"/>
                </a:cubicBezTo>
              </a:path>
              <a:path w="3871" h="1440">
                <a:moveTo>
                  <a:pt x="14263" y="8682"/>
                </a:moveTo>
                <a:cubicBezTo>
                  <a:pt x="14279" y="8707"/>
                  <a:pt x="14296" y="8731"/>
                  <a:pt x="14312" y="8756"/>
                </a:cubicBezTo>
                <a:cubicBezTo>
                  <a:pt x="14281" y="8716"/>
                  <a:pt x="14258" y="8661"/>
                  <a:pt x="14213" y="8632"/>
                </a:cubicBezTo>
                <a:cubicBezTo>
                  <a:pt x="14143" y="8587"/>
                  <a:pt x="14067" y="8593"/>
                  <a:pt x="14015" y="8657"/>
                </a:cubicBezTo>
                <a:cubicBezTo>
                  <a:pt x="13943" y="8746"/>
                  <a:pt x="13916" y="8876"/>
                  <a:pt x="13940" y="8979"/>
                </a:cubicBezTo>
                <a:cubicBezTo>
                  <a:pt x="13957" y="9053"/>
                  <a:pt x="14020" y="9151"/>
                  <a:pt x="14089" y="9178"/>
                </a:cubicBezTo>
                <a:cubicBezTo>
                  <a:pt x="14205" y="9224"/>
                  <a:pt x="14276" y="9190"/>
                  <a:pt x="14387" y="9153"/>
                </a:cubicBezTo>
              </a:path>
              <a:path w="3871" h="1440">
                <a:moveTo>
                  <a:pt x="14709" y="8086"/>
                </a:moveTo>
                <a:cubicBezTo>
                  <a:pt x="14809" y="8068"/>
                  <a:pt x="15070" y="8056"/>
                  <a:pt x="15180" y="8012"/>
                </a:cubicBezTo>
                <a:cubicBezTo>
                  <a:pt x="15188" y="8004"/>
                  <a:pt x="15197" y="7995"/>
                  <a:pt x="15205" y="7987"/>
                </a:cubicBezTo>
              </a:path>
              <a:path w="3871" h="1440">
                <a:moveTo>
                  <a:pt x="14858" y="8136"/>
                </a:moveTo>
                <a:cubicBezTo>
                  <a:pt x="14836" y="8213"/>
                  <a:pt x="14772" y="8366"/>
                  <a:pt x="14808" y="8458"/>
                </a:cubicBezTo>
                <a:cubicBezTo>
                  <a:pt x="14816" y="8466"/>
                  <a:pt x="14825" y="8475"/>
                  <a:pt x="14833" y="8483"/>
                </a:cubicBezTo>
              </a:path>
              <a:path w="3871" h="1440">
                <a:moveTo>
                  <a:pt x="14982" y="8186"/>
                </a:moveTo>
                <a:cubicBezTo>
                  <a:pt x="14999" y="8286"/>
                  <a:pt x="14997" y="8397"/>
                  <a:pt x="15056" y="8483"/>
                </a:cubicBezTo>
                <a:cubicBezTo>
                  <a:pt x="15064" y="8491"/>
                  <a:pt x="15073" y="8500"/>
                  <a:pt x="15081" y="8508"/>
                </a:cubicBezTo>
              </a:path>
              <a:path w="3871" h="1440">
                <a:moveTo>
                  <a:pt x="15404" y="7987"/>
                </a:moveTo>
                <a:cubicBezTo>
                  <a:pt x="15375" y="8213"/>
                  <a:pt x="15352" y="8431"/>
                  <a:pt x="15329" y="8657"/>
                </a:cubicBezTo>
                <a:cubicBezTo>
                  <a:pt x="15313" y="8818"/>
                  <a:pt x="15259" y="8967"/>
                  <a:pt x="15255" y="9128"/>
                </a:cubicBezTo>
                <a:cubicBezTo>
                  <a:pt x="15255" y="9219"/>
                  <a:pt x="15255" y="9227"/>
                  <a:pt x="15255" y="9277"/>
                </a:cubicBezTo>
              </a:path>
              <a:path w="3871" h="1440">
                <a:moveTo>
                  <a:pt x="15404" y="8682"/>
                </a:moveTo>
                <a:cubicBezTo>
                  <a:pt x="15525" y="8630"/>
                  <a:pt x="15570" y="8632"/>
                  <a:pt x="15701" y="8632"/>
                </a:cubicBezTo>
                <a:cubicBezTo>
                  <a:pt x="15790" y="8632"/>
                  <a:pt x="15840" y="8668"/>
                  <a:pt x="15850" y="8756"/>
                </a:cubicBezTo>
                <a:cubicBezTo>
                  <a:pt x="15861" y="8855"/>
                  <a:pt x="15796" y="8842"/>
                  <a:pt x="15751" y="8905"/>
                </a:cubicBezTo>
                <a:cubicBezTo>
                  <a:pt x="15667" y="9021"/>
                  <a:pt x="15685" y="8902"/>
                  <a:pt x="15776" y="8954"/>
                </a:cubicBezTo>
                <a:cubicBezTo>
                  <a:pt x="15895" y="9021"/>
                  <a:pt x="15919" y="9063"/>
                  <a:pt x="15925" y="9203"/>
                </a:cubicBezTo>
                <a:cubicBezTo>
                  <a:pt x="15928" y="9266"/>
                  <a:pt x="15887" y="9371"/>
                  <a:pt x="15825" y="9401"/>
                </a:cubicBezTo>
                <a:cubicBezTo>
                  <a:pt x="15676" y="9473"/>
                  <a:pt x="15582" y="9391"/>
                  <a:pt x="15553" y="9252"/>
                </a:cubicBezTo>
                <a:cubicBezTo>
                  <a:pt x="15553" y="9236"/>
                  <a:pt x="15553" y="9219"/>
                  <a:pt x="15553" y="9203"/>
                </a:cubicBezTo>
              </a:path>
              <a:path w="3871" h="1440">
                <a:moveTo>
                  <a:pt x="16197" y="8483"/>
                </a:moveTo>
                <a:cubicBezTo>
                  <a:pt x="16326" y="8489"/>
                  <a:pt x="16400" y="8499"/>
                  <a:pt x="16520" y="8483"/>
                </a:cubicBezTo>
              </a:path>
              <a:path w="3871" h="1440">
                <a:moveTo>
                  <a:pt x="16247" y="8756"/>
                </a:moveTo>
                <a:cubicBezTo>
                  <a:pt x="16345" y="8776"/>
                  <a:pt x="16309" y="8768"/>
                  <a:pt x="16396" y="87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Ink 13"/>
          <p:cNvSpPr/>
          <p:nvPr/>
        </p:nvSpPr>
        <p:spPr>
          <a:xfrm>
            <a:off x="2098800" y="3643200"/>
            <a:ext cx="571320" cy="357480"/>
          </a:xfrm>
          <a:custGeom>
            <a:avLst/>
            <a:gdLst/>
            <a:ahLst/>
            <a:rect l="l" t="t" r="r" b="b"/>
            <a:pathLst>
              <a:path w="1589" h="993">
                <a:moveTo>
                  <a:pt x="6003" y="10840"/>
                </a:moveTo>
                <a:cubicBezTo>
                  <a:pt x="6053" y="10848"/>
                  <a:pt x="6102" y="10856"/>
                  <a:pt x="6152" y="10864"/>
                </a:cubicBezTo>
              </a:path>
              <a:path w="1589" h="993">
                <a:moveTo>
                  <a:pt x="5829" y="11038"/>
                </a:moveTo>
                <a:cubicBezTo>
                  <a:pt x="5911" y="11104"/>
                  <a:pt x="5998" y="11109"/>
                  <a:pt x="6102" y="11112"/>
                </a:cubicBezTo>
                <a:cubicBezTo>
                  <a:pt x="6135" y="11112"/>
                  <a:pt x="6168" y="11112"/>
                  <a:pt x="6201" y="11112"/>
                </a:cubicBezTo>
              </a:path>
              <a:path w="1589" h="993">
                <a:moveTo>
                  <a:pt x="6995" y="10120"/>
                </a:moveTo>
                <a:cubicBezTo>
                  <a:pt x="6995" y="10352"/>
                  <a:pt x="6995" y="10583"/>
                  <a:pt x="6995" y="10815"/>
                </a:cubicBezTo>
              </a:path>
              <a:path w="1589" h="993">
                <a:moveTo>
                  <a:pt x="6548" y="10840"/>
                </a:moveTo>
                <a:cubicBezTo>
                  <a:pt x="6651" y="10863"/>
                  <a:pt x="6766" y="10879"/>
                  <a:pt x="6871" y="10889"/>
                </a:cubicBezTo>
                <a:cubicBezTo>
                  <a:pt x="6978" y="10899"/>
                  <a:pt x="7087" y="10910"/>
                  <a:pt x="7193" y="10914"/>
                </a:cubicBezTo>
                <a:cubicBezTo>
                  <a:pt x="7272" y="10917"/>
                  <a:pt x="7338" y="10939"/>
                  <a:pt x="7417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Ink 14"/>
          <p:cNvSpPr/>
          <p:nvPr/>
        </p:nvSpPr>
        <p:spPr>
          <a:xfrm>
            <a:off x="4464000" y="3768840"/>
            <a:ext cx="1430280" cy="660240"/>
          </a:xfrm>
          <a:custGeom>
            <a:avLst/>
            <a:gdLst/>
            <a:ahLst/>
            <a:rect l="l" t="t" r="r" b="b"/>
            <a:pathLst>
              <a:path w="3970" h="1836">
                <a:moveTo>
                  <a:pt x="13196" y="10666"/>
                </a:moveTo>
                <a:cubicBezTo>
                  <a:pt x="13164" y="10614"/>
                  <a:pt x="13126" y="10552"/>
                  <a:pt x="13072" y="10517"/>
                </a:cubicBezTo>
                <a:cubicBezTo>
                  <a:pt x="13000" y="10471"/>
                  <a:pt x="12930" y="10468"/>
                  <a:pt x="12849" y="10468"/>
                </a:cubicBezTo>
                <a:cubicBezTo>
                  <a:pt x="12739" y="10468"/>
                  <a:pt x="12629" y="10470"/>
                  <a:pt x="12526" y="10517"/>
                </a:cubicBezTo>
                <a:cubicBezTo>
                  <a:pt x="12470" y="10543"/>
                  <a:pt x="12439" y="10595"/>
                  <a:pt x="12402" y="10641"/>
                </a:cubicBezTo>
                <a:cubicBezTo>
                  <a:pt x="12445" y="10702"/>
                  <a:pt x="12511" y="10795"/>
                  <a:pt x="12576" y="10840"/>
                </a:cubicBezTo>
                <a:cubicBezTo>
                  <a:pt x="12729" y="10947"/>
                  <a:pt x="12837" y="11034"/>
                  <a:pt x="12973" y="11162"/>
                </a:cubicBezTo>
                <a:cubicBezTo>
                  <a:pt x="13049" y="11233"/>
                  <a:pt x="13205" y="11314"/>
                  <a:pt x="13221" y="11435"/>
                </a:cubicBezTo>
                <a:cubicBezTo>
                  <a:pt x="13243" y="11608"/>
                  <a:pt x="13208" y="11597"/>
                  <a:pt x="13097" y="11683"/>
                </a:cubicBezTo>
                <a:cubicBezTo>
                  <a:pt x="13018" y="11744"/>
                  <a:pt x="12960" y="11742"/>
                  <a:pt x="12874" y="11733"/>
                </a:cubicBezTo>
                <a:cubicBezTo>
                  <a:pt x="12790" y="11724"/>
                  <a:pt x="12839" y="11725"/>
                  <a:pt x="12824" y="11658"/>
                </a:cubicBezTo>
              </a:path>
              <a:path w="3970" h="1836">
                <a:moveTo>
                  <a:pt x="13395" y="11559"/>
                </a:moveTo>
                <a:cubicBezTo>
                  <a:pt x="13634" y="11445"/>
                  <a:pt x="13718" y="11503"/>
                  <a:pt x="13742" y="11336"/>
                </a:cubicBezTo>
                <a:cubicBezTo>
                  <a:pt x="13730" y="11253"/>
                  <a:pt x="13640" y="11192"/>
                  <a:pt x="13543" y="11237"/>
                </a:cubicBezTo>
                <a:cubicBezTo>
                  <a:pt x="13475" y="11268"/>
                  <a:pt x="13376" y="11391"/>
                  <a:pt x="13370" y="11460"/>
                </a:cubicBezTo>
                <a:cubicBezTo>
                  <a:pt x="13359" y="11585"/>
                  <a:pt x="13388" y="11639"/>
                  <a:pt x="13469" y="11733"/>
                </a:cubicBezTo>
                <a:cubicBezTo>
                  <a:pt x="13530" y="11804"/>
                  <a:pt x="13626" y="11826"/>
                  <a:pt x="13717" y="11807"/>
                </a:cubicBezTo>
                <a:cubicBezTo>
                  <a:pt x="13742" y="11799"/>
                  <a:pt x="13766" y="11790"/>
                  <a:pt x="13791" y="11782"/>
                </a:cubicBezTo>
              </a:path>
              <a:path w="3970" h="1836">
                <a:moveTo>
                  <a:pt x="14188" y="11385"/>
                </a:moveTo>
                <a:cubicBezTo>
                  <a:pt x="14232" y="11407"/>
                  <a:pt x="14253" y="11420"/>
                  <a:pt x="14213" y="11385"/>
                </a:cubicBezTo>
                <a:cubicBezTo>
                  <a:pt x="14113" y="11349"/>
                  <a:pt x="14077" y="11364"/>
                  <a:pt x="13990" y="11410"/>
                </a:cubicBezTo>
                <a:cubicBezTo>
                  <a:pt x="13907" y="11454"/>
                  <a:pt x="13883" y="11522"/>
                  <a:pt x="13915" y="11609"/>
                </a:cubicBezTo>
                <a:cubicBezTo>
                  <a:pt x="13940" y="11677"/>
                  <a:pt x="14023" y="11781"/>
                  <a:pt x="14089" y="11807"/>
                </a:cubicBezTo>
                <a:cubicBezTo>
                  <a:pt x="14225" y="11861"/>
                  <a:pt x="14257" y="11863"/>
                  <a:pt x="14387" y="11807"/>
                </a:cubicBezTo>
              </a:path>
              <a:path w="3970" h="1836">
                <a:moveTo>
                  <a:pt x="14412" y="10691"/>
                </a:moveTo>
                <a:cubicBezTo>
                  <a:pt x="14552" y="10644"/>
                  <a:pt x="14637" y="10641"/>
                  <a:pt x="14784" y="10641"/>
                </a:cubicBezTo>
                <a:cubicBezTo>
                  <a:pt x="14865" y="10641"/>
                  <a:pt x="14942" y="10655"/>
                  <a:pt x="15007" y="10616"/>
                </a:cubicBezTo>
              </a:path>
              <a:path w="3970" h="1836">
                <a:moveTo>
                  <a:pt x="14560" y="10864"/>
                </a:moveTo>
                <a:cubicBezTo>
                  <a:pt x="14545" y="11107"/>
                  <a:pt x="14524" y="11091"/>
                  <a:pt x="14610" y="11261"/>
                </a:cubicBezTo>
              </a:path>
              <a:path w="3970" h="1836">
                <a:moveTo>
                  <a:pt x="14709" y="10740"/>
                </a:moveTo>
                <a:cubicBezTo>
                  <a:pt x="14742" y="10864"/>
                  <a:pt x="14772" y="10984"/>
                  <a:pt x="14784" y="11112"/>
                </a:cubicBezTo>
                <a:cubicBezTo>
                  <a:pt x="14784" y="11180"/>
                  <a:pt x="14781" y="11200"/>
                  <a:pt x="14808" y="11237"/>
                </a:cubicBezTo>
              </a:path>
              <a:path w="3970" h="1836">
                <a:moveTo>
                  <a:pt x="15156" y="10716"/>
                </a:moveTo>
                <a:cubicBezTo>
                  <a:pt x="15102" y="11034"/>
                  <a:pt x="15045" y="11341"/>
                  <a:pt x="15007" y="11658"/>
                </a:cubicBezTo>
                <a:cubicBezTo>
                  <a:pt x="14993" y="11777"/>
                  <a:pt x="14982" y="11884"/>
                  <a:pt x="14982" y="12005"/>
                </a:cubicBezTo>
                <a:cubicBezTo>
                  <a:pt x="14982" y="12013"/>
                  <a:pt x="14982" y="12022"/>
                  <a:pt x="14982" y="12030"/>
                </a:cubicBezTo>
              </a:path>
              <a:path w="3970" h="1836">
                <a:moveTo>
                  <a:pt x="15180" y="11509"/>
                </a:moveTo>
                <a:cubicBezTo>
                  <a:pt x="15251" y="11475"/>
                  <a:pt x="15321" y="11438"/>
                  <a:pt x="15404" y="11460"/>
                </a:cubicBezTo>
                <a:cubicBezTo>
                  <a:pt x="15468" y="11477"/>
                  <a:pt x="15563" y="11506"/>
                  <a:pt x="15577" y="11584"/>
                </a:cubicBezTo>
                <a:cubicBezTo>
                  <a:pt x="15590" y="11659"/>
                  <a:pt x="15537" y="11737"/>
                  <a:pt x="15478" y="11782"/>
                </a:cubicBezTo>
                <a:cubicBezTo>
                  <a:pt x="15435" y="11804"/>
                  <a:pt x="15423" y="11808"/>
                  <a:pt x="15404" y="11832"/>
                </a:cubicBezTo>
                <a:cubicBezTo>
                  <a:pt x="15462" y="11913"/>
                  <a:pt x="15529" y="11933"/>
                  <a:pt x="15577" y="12030"/>
                </a:cubicBezTo>
                <a:cubicBezTo>
                  <a:pt x="15624" y="12125"/>
                  <a:pt x="15570" y="12217"/>
                  <a:pt x="15478" y="12254"/>
                </a:cubicBezTo>
                <a:cubicBezTo>
                  <a:pt x="15388" y="12290"/>
                  <a:pt x="15366" y="12313"/>
                  <a:pt x="15280" y="12254"/>
                </a:cubicBezTo>
                <a:cubicBezTo>
                  <a:pt x="15218" y="12211"/>
                  <a:pt x="15267" y="12133"/>
                  <a:pt x="15280" y="12080"/>
                </a:cubicBezTo>
              </a:path>
              <a:path w="3970" h="1836">
                <a:moveTo>
                  <a:pt x="16123" y="11460"/>
                </a:moveTo>
                <a:cubicBezTo>
                  <a:pt x="16199" y="11473"/>
                  <a:pt x="16283" y="11479"/>
                  <a:pt x="16346" y="11509"/>
                </a:cubicBezTo>
              </a:path>
              <a:path w="3970" h="1836">
                <a:moveTo>
                  <a:pt x="16098" y="11757"/>
                </a:moveTo>
                <a:cubicBezTo>
                  <a:pt x="16246" y="11782"/>
                  <a:pt x="16247" y="11794"/>
                  <a:pt x="16371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Ink 15"/>
          <p:cNvSpPr/>
          <p:nvPr/>
        </p:nvSpPr>
        <p:spPr>
          <a:xfrm>
            <a:off x="2482920" y="3990960"/>
            <a:ext cx="241200" cy="260280"/>
          </a:xfrm>
          <a:custGeom>
            <a:avLst/>
            <a:gdLst/>
            <a:ahLst/>
            <a:rect l="l" t="t" r="r" b="b"/>
            <a:pathLst>
              <a:path w="670" h="720">
                <a:moveTo>
                  <a:pt x="6896" y="11137"/>
                </a:moveTo>
                <a:cubicBezTo>
                  <a:pt x="6987" y="11128"/>
                  <a:pt x="7002" y="11092"/>
                  <a:pt x="7094" y="11088"/>
                </a:cubicBezTo>
                <a:cubicBezTo>
                  <a:pt x="7156" y="11085"/>
                  <a:pt x="7206" y="11079"/>
                  <a:pt x="7243" y="11137"/>
                </a:cubicBezTo>
                <a:cubicBezTo>
                  <a:pt x="7286" y="11204"/>
                  <a:pt x="7326" y="11251"/>
                  <a:pt x="7317" y="11336"/>
                </a:cubicBezTo>
                <a:cubicBezTo>
                  <a:pt x="7305" y="11448"/>
                  <a:pt x="7266" y="11557"/>
                  <a:pt x="7218" y="11658"/>
                </a:cubicBezTo>
                <a:cubicBezTo>
                  <a:pt x="7175" y="11749"/>
                  <a:pt x="7138" y="11747"/>
                  <a:pt x="7069" y="11782"/>
                </a:cubicBezTo>
                <a:cubicBezTo>
                  <a:pt x="6981" y="11827"/>
                  <a:pt x="6964" y="11748"/>
                  <a:pt x="6921" y="11683"/>
                </a:cubicBezTo>
                <a:cubicBezTo>
                  <a:pt x="6884" y="11628"/>
                  <a:pt x="6937" y="11612"/>
                  <a:pt x="6995" y="11609"/>
                </a:cubicBezTo>
                <a:cubicBezTo>
                  <a:pt x="7085" y="11605"/>
                  <a:pt x="7161" y="11634"/>
                  <a:pt x="7243" y="11658"/>
                </a:cubicBezTo>
                <a:cubicBezTo>
                  <a:pt x="7334" y="11684"/>
                  <a:pt x="7422" y="11728"/>
                  <a:pt x="7516" y="11733"/>
                </a:cubicBezTo>
                <a:cubicBezTo>
                  <a:pt x="7557" y="11733"/>
                  <a:pt x="7573" y="11741"/>
                  <a:pt x="7565" y="117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Ink 16"/>
          <p:cNvSpPr/>
          <p:nvPr/>
        </p:nvSpPr>
        <p:spPr>
          <a:xfrm>
            <a:off x="5983200" y="3803760"/>
            <a:ext cx="1231920" cy="741240"/>
          </a:xfrm>
          <a:custGeom>
            <a:avLst/>
            <a:gdLst/>
            <a:ahLst/>
            <a:rect l="l" t="t" r="r" b="b"/>
            <a:pathLst>
              <a:path w="3424" h="2060">
                <a:moveTo>
                  <a:pt x="16942" y="10716"/>
                </a:moveTo>
                <a:cubicBezTo>
                  <a:pt x="16942" y="10760"/>
                  <a:pt x="16945" y="10774"/>
                  <a:pt x="16917" y="10790"/>
                </a:cubicBezTo>
                <a:cubicBezTo>
                  <a:pt x="16890" y="10763"/>
                  <a:pt x="16925" y="10712"/>
                  <a:pt x="16966" y="10666"/>
                </a:cubicBezTo>
                <a:cubicBezTo>
                  <a:pt x="17017" y="10609"/>
                  <a:pt x="17056" y="10619"/>
                  <a:pt x="17115" y="10592"/>
                </a:cubicBezTo>
                <a:cubicBezTo>
                  <a:pt x="17176" y="10564"/>
                  <a:pt x="17203" y="10566"/>
                  <a:pt x="17264" y="10616"/>
                </a:cubicBezTo>
                <a:cubicBezTo>
                  <a:pt x="17326" y="10667"/>
                  <a:pt x="17360" y="10759"/>
                  <a:pt x="17338" y="10840"/>
                </a:cubicBezTo>
                <a:cubicBezTo>
                  <a:pt x="17314" y="10889"/>
                  <a:pt x="17306" y="10906"/>
                  <a:pt x="17289" y="10939"/>
                </a:cubicBezTo>
              </a:path>
              <a:path w="3424" h="2060">
                <a:moveTo>
                  <a:pt x="17190" y="11137"/>
                </a:moveTo>
                <a:cubicBezTo>
                  <a:pt x="17241" y="11189"/>
                  <a:pt x="17276" y="11226"/>
                  <a:pt x="17338" y="11261"/>
                </a:cubicBezTo>
              </a:path>
              <a:path w="3424" h="2060">
                <a:moveTo>
                  <a:pt x="16867" y="11534"/>
                </a:moveTo>
                <a:cubicBezTo>
                  <a:pt x="17022" y="11534"/>
                  <a:pt x="17163" y="11526"/>
                  <a:pt x="17314" y="11509"/>
                </a:cubicBezTo>
                <a:cubicBezTo>
                  <a:pt x="17415" y="11498"/>
                  <a:pt x="17509" y="11500"/>
                  <a:pt x="17611" y="11485"/>
                </a:cubicBezTo>
                <a:cubicBezTo>
                  <a:pt x="17619" y="11485"/>
                  <a:pt x="17628" y="11485"/>
                  <a:pt x="17636" y="11485"/>
                </a:cubicBezTo>
              </a:path>
              <a:path w="3424" h="2060">
                <a:moveTo>
                  <a:pt x="17165" y="10988"/>
                </a:moveTo>
                <a:cubicBezTo>
                  <a:pt x="17114" y="11065"/>
                  <a:pt x="17080" y="11149"/>
                  <a:pt x="17016" y="11212"/>
                </a:cubicBezTo>
                <a:cubicBezTo>
                  <a:pt x="16967" y="11260"/>
                  <a:pt x="16902" y="11299"/>
                  <a:pt x="16842" y="11311"/>
                </a:cubicBezTo>
                <a:cubicBezTo>
                  <a:pt x="16782" y="11323"/>
                  <a:pt x="16696" y="11318"/>
                  <a:pt x="16644" y="11286"/>
                </a:cubicBezTo>
                <a:cubicBezTo>
                  <a:pt x="16636" y="11278"/>
                  <a:pt x="16627" y="11269"/>
                  <a:pt x="16619" y="11261"/>
                </a:cubicBezTo>
                <a:cubicBezTo>
                  <a:pt x="16652" y="11197"/>
                  <a:pt x="16674" y="11147"/>
                  <a:pt x="16743" y="11137"/>
                </a:cubicBezTo>
                <a:cubicBezTo>
                  <a:pt x="16804" y="11128"/>
                  <a:pt x="16912" y="11137"/>
                  <a:pt x="16966" y="11162"/>
                </a:cubicBezTo>
                <a:cubicBezTo>
                  <a:pt x="17019" y="11187"/>
                  <a:pt x="17079" y="11208"/>
                  <a:pt x="17140" y="11212"/>
                </a:cubicBezTo>
                <a:cubicBezTo>
                  <a:pt x="17216" y="11216"/>
                  <a:pt x="17269" y="11199"/>
                  <a:pt x="17338" y="11187"/>
                </a:cubicBezTo>
                <a:cubicBezTo>
                  <a:pt x="17383" y="11187"/>
                  <a:pt x="17396" y="11190"/>
                  <a:pt x="17413" y="11162"/>
                </a:cubicBezTo>
              </a:path>
              <a:path w="3424" h="2060">
                <a:moveTo>
                  <a:pt x="17066" y="11658"/>
                </a:moveTo>
                <a:cubicBezTo>
                  <a:pt x="17039" y="11757"/>
                  <a:pt x="17040" y="11859"/>
                  <a:pt x="17016" y="11956"/>
                </a:cubicBezTo>
                <a:cubicBezTo>
                  <a:pt x="16995" y="12044"/>
                  <a:pt x="16965" y="12143"/>
                  <a:pt x="16942" y="12229"/>
                </a:cubicBezTo>
                <a:cubicBezTo>
                  <a:pt x="16911" y="12346"/>
                  <a:pt x="16873" y="12434"/>
                  <a:pt x="16867" y="12551"/>
                </a:cubicBezTo>
                <a:cubicBezTo>
                  <a:pt x="16867" y="12596"/>
                  <a:pt x="16864" y="12609"/>
                  <a:pt x="16892" y="12626"/>
                </a:cubicBezTo>
              </a:path>
              <a:path w="3424" h="2060">
                <a:moveTo>
                  <a:pt x="17983" y="11361"/>
                </a:moveTo>
                <a:cubicBezTo>
                  <a:pt x="18071" y="11361"/>
                  <a:pt x="18173" y="11357"/>
                  <a:pt x="18256" y="11336"/>
                </a:cubicBezTo>
                <a:cubicBezTo>
                  <a:pt x="18336" y="11316"/>
                  <a:pt x="18394" y="11291"/>
                  <a:pt x="18479" y="11286"/>
                </a:cubicBezTo>
                <a:cubicBezTo>
                  <a:pt x="18487" y="11286"/>
                  <a:pt x="18496" y="11286"/>
                  <a:pt x="18504" y="11286"/>
                </a:cubicBezTo>
              </a:path>
              <a:path w="3424" h="2060">
                <a:moveTo>
                  <a:pt x="18132" y="11584"/>
                </a:moveTo>
                <a:cubicBezTo>
                  <a:pt x="18192" y="11620"/>
                  <a:pt x="18257" y="11609"/>
                  <a:pt x="18331" y="11609"/>
                </a:cubicBezTo>
                <a:cubicBezTo>
                  <a:pt x="18389" y="11609"/>
                  <a:pt x="18404" y="11588"/>
                  <a:pt x="18455" y="11559"/>
                </a:cubicBezTo>
              </a:path>
              <a:path w="3424" h="2060">
                <a:moveTo>
                  <a:pt x="19124" y="10864"/>
                </a:moveTo>
                <a:cubicBezTo>
                  <a:pt x="19117" y="10930"/>
                  <a:pt x="19102" y="10977"/>
                  <a:pt x="19075" y="11038"/>
                </a:cubicBezTo>
                <a:cubicBezTo>
                  <a:pt x="19059" y="10964"/>
                  <a:pt x="19070" y="10930"/>
                  <a:pt x="19100" y="10840"/>
                </a:cubicBezTo>
                <a:cubicBezTo>
                  <a:pt x="19132" y="10743"/>
                  <a:pt x="19153" y="10703"/>
                  <a:pt x="19224" y="10641"/>
                </a:cubicBezTo>
                <a:cubicBezTo>
                  <a:pt x="19275" y="10596"/>
                  <a:pt x="19278" y="10573"/>
                  <a:pt x="19348" y="10567"/>
                </a:cubicBezTo>
                <a:cubicBezTo>
                  <a:pt x="19436" y="10559"/>
                  <a:pt x="19461" y="10563"/>
                  <a:pt x="19521" y="10616"/>
                </a:cubicBezTo>
                <a:cubicBezTo>
                  <a:pt x="19600" y="10686"/>
                  <a:pt x="19587" y="10737"/>
                  <a:pt x="19621" y="10840"/>
                </a:cubicBezTo>
                <a:cubicBezTo>
                  <a:pt x="19656" y="10946"/>
                  <a:pt x="19647" y="11030"/>
                  <a:pt x="19621" y="11137"/>
                </a:cubicBezTo>
                <a:cubicBezTo>
                  <a:pt x="19586" y="11278"/>
                  <a:pt x="19573" y="11452"/>
                  <a:pt x="19521" y="11584"/>
                </a:cubicBezTo>
                <a:cubicBezTo>
                  <a:pt x="19466" y="11721"/>
                  <a:pt x="19387" y="11772"/>
                  <a:pt x="19323" y="11881"/>
                </a:cubicBezTo>
                <a:cubicBezTo>
                  <a:pt x="19300" y="11920"/>
                  <a:pt x="19264" y="12010"/>
                  <a:pt x="19199" y="11981"/>
                </a:cubicBezTo>
                <a:cubicBezTo>
                  <a:pt x="19146" y="11957"/>
                  <a:pt x="19132" y="11871"/>
                  <a:pt x="19124" y="11832"/>
                </a:cubicBezTo>
                <a:cubicBezTo>
                  <a:pt x="19112" y="11773"/>
                  <a:pt x="19154" y="11704"/>
                  <a:pt x="19174" y="11658"/>
                </a:cubicBezTo>
                <a:cubicBezTo>
                  <a:pt x="19208" y="11579"/>
                  <a:pt x="19283" y="11534"/>
                  <a:pt x="19372" y="11559"/>
                </a:cubicBezTo>
                <a:cubicBezTo>
                  <a:pt x="19477" y="11588"/>
                  <a:pt x="19500" y="11605"/>
                  <a:pt x="19621" y="11609"/>
                </a:cubicBezTo>
                <a:cubicBezTo>
                  <a:pt x="19684" y="11611"/>
                  <a:pt x="19724" y="11633"/>
                  <a:pt x="19794" y="11633"/>
                </a:cubicBezTo>
                <a:cubicBezTo>
                  <a:pt x="19877" y="11633"/>
                  <a:pt x="19959" y="11633"/>
                  <a:pt x="20042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Ink 17"/>
          <p:cNvSpPr/>
          <p:nvPr/>
        </p:nvSpPr>
        <p:spPr>
          <a:xfrm>
            <a:off x="2133720" y="4653000"/>
            <a:ext cx="1716120" cy="1419120"/>
          </a:xfrm>
          <a:custGeom>
            <a:avLst/>
            <a:gdLst/>
            <a:ahLst/>
            <a:rect l="l" t="t" r="r" b="b"/>
            <a:pathLst>
              <a:path w="4764" h="3945">
                <a:moveTo>
                  <a:pt x="6400" y="13196"/>
                </a:moveTo>
                <a:cubicBezTo>
                  <a:pt x="6427" y="13280"/>
                  <a:pt x="6424" y="13354"/>
                  <a:pt x="6424" y="13444"/>
                </a:cubicBezTo>
                <a:cubicBezTo>
                  <a:pt x="6424" y="13512"/>
                  <a:pt x="6416" y="13563"/>
                  <a:pt x="6449" y="13618"/>
                </a:cubicBezTo>
                <a:cubicBezTo>
                  <a:pt x="6449" y="13558"/>
                  <a:pt x="6412" y="13468"/>
                  <a:pt x="6424" y="13419"/>
                </a:cubicBezTo>
                <a:cubicBezTo>
                  <a:pt x="6443" y="13339"/>
                  <a:pt x="6449" y="13283"/>
                  <a:pt x="6449" y="13196"/>
                </a:cubicBezTo>
                <a:cubicBezTo>
                  <a:pt x="6449" y="13125"/>
                  <a:pt x="6495" y="13023"/>
                  <a:pt x="6548" y="12973"/>
                </a:cubicBezTo>
                <a:cubicBezTo>
                  <a:pt x="6601" y="12923"/>
                  <a:pt x="6653" y="12923"/>
                  <a:pt x="6722" y="12923"/>
                </a:cubicBezTo>
                <a:cubicBezTo>
                  <a:pt x="6791" y="12923"/>
                  <a:pt x="6858" y="12929"/>
                  <a:pt x="6921" y="12948"/>
                </a:cubicBezTo>
                <a:cubicBezTo>
                  <a:pt x="6968" y="12962"/>
                  <a:pt x="7006" y="12975"/>
                  <a:pt x="7045" y="12998"/>
                </a:cubicBezTo>
              </a:path>
              <a:path w="4764" h="3945">
                <a:moveTo>
                  <a:pt x="6648" y="13221"/>
                </a:moveTo>
                <a:cubicBezTo>
                  <a:pt x="6718" y="13212"/>
                  <a:pt x="6773" y="13196"/>
                  <a:pt x="6846" y="13196"/>
                </a:cubicBezTo>
                <a:cubicBezTo>
                  <a:pt x="6891" y="13196"/>
                  <a:pt x="6979" y="13215"/>
                  <a:pt x="6995" y="13271"/>
                </a:cubicBezTo>
                <a:cubicBezTo>
                  <a:pt x="7022" y="13363"/>
                  <a:pt x="6941" y="13393"/>
                  <a:pt x="6896" y="13419"/>
                </a:cubicBezTo>
                <a:cubicBezTo>
                  <a:pt x="6868" y="13447"/>
                  <a:pt x="6854" y="13456"/>
                  <a:pt x="6821" y="13444"/>
                </a:cubicBezTo>
                <a:cubicBezTo>
                  <a:pt x="6932" y="13486"/>
                  <a:pt x="6951" y="13474"/>
                  <a:pt x="7020" y="13568"/>
                </a:cubicBezTo>
                <a:cubicBezTo>
                  <a:pt x="7049" y="13608"/>
                  <a:pt x="7069" y="13679"/>
                  <a:pt x="7020" y="13717"/>
                </a:cubicBezTo>
                <a:cubicBezTo>
                  <a:pt x="6988" y="13742"/>
                  <a:pt x="6888" y="13759"/>
                  <a:pt x="6846" y="13742"/>
                </a:cubicBezTo>
                <a:cubicBezTo>
                  <a:pt x="6838" y="13734"/>
                  <a:pt x="6829" y="13725"/>
                  <a:pt x="6821" y="13717"/>
                </a:cubicBezTo>
              </a:path>
              <a:path w="4764" h="3945">
                <a:moveTo>
                  <a:pt x="6375" y="13767"/>
                </a:moveTo>
                <a:cubicBezTo>
                  <a:pt x="6431" y="13803"/>
                  <a:pt x="6507" y="13830"/>
                  <a:pt x="6573" y="13841"/>
                </a:cubicBezTo>
                <a:cubicBezTo>
                  <a:pt x="6653" y="13854"/>
                  <a:pt x="6743" y="13845"/>
                  <a:pt x="6821" y="13866"/>
                </a:cubicBezTo>
                <a:cubicBezTo>
                  <a:pt x="6886" y="13884"/>
                  <a:pt x="7025" y="13936"/>
                  <a:pt x="7094" y="13915"/>
                </a:cubicBezTo>
                <a:cubicBezTo>
                  <a:pt x="7102" y="13907"/>
                  <a:pt x="7111" y="13899"/>
                  <a:pt x="7119" y="13891"/>
                </a:cubicBezTo>
              </a:path>
              <a:path w="4764" h="3945">
                <a:moveTo>
                  <a:pt x="6821" y="14114"/>
                </a:moveTo>
                <a:cubicBezTo>
                  <a:pt x="6821" y="14130"/>
                  <a:pt x="6821" y="14147"/>
                  <a:pt x="6821" y="14163"/>
                </a:cubicBezTo>
                <a:cubicBezTo>
                  <a:pt x="6873" y="14100"/>
                  <a:pt x="6881" y="14069"/>
                  <a:pt x="6970" y="14064"/>
                </a:cubicBezTo>
                <a:cubicBezTo>
                  <a:pt x="7029" y="14061"/>
                  <a:pt x="7123" y="14101"/>
                  <a:pt x="7144" y="14163"/>
                </a:cubicBezTo>
                <a:cubicBezTo>
                  <a:pt x="7164" y="14222"/>
                  <a:pt x="7189" y="14320"/>
                  <a:pt x="7169" y="14387"/>
                </a:cubicBezTo>
                <a:cubicBezTo>
                  <a:pt x="7153" y="14440"/>
                  <a:pt x="7104" y="14534"/>
                  <a:pt x="7069" y="14585"/>
                </a:cubicBezTo>
                <a:cubicBezTo>
                  <a:pt x="7024" y="14650"/>
                  <a:pt x="6978" y="14656"/>
                  <a:pt x="6921" y="14684"/>
                </a:cubicBezTo>
                <a:cubicBezTo>
                  <a:pt x="6866" y="14711"/>
                  <a:pt x="6823" y="14681"/>
                  <a:pt x="6772" y="14635"/>
                </a:cubicBezTo>
                <a:cubicBezTo>
                  <a:pt x="6707" y="14576"/>
                  <a:pt x="6708" y="14519"/>
                  <a:pt x="6747" y="14436"/>
                </a:cubicBezTo>
                <a:cubicBezTo>
                  <a:pt x="6774" y="14379"/>
                  <a:pt x="6908" y="14418"/>
                  <a:pt x="6945" y="14436"/>
                </a:cubicBezTo>
                <a:cubicBezTo>
                  <a:pt x="7003" y="14465"/>
                  <a:pt x="6997" y="14534"/>
                  <a:pt x="7020" y="14585"/>
                </a:cubicBezTo>
                <a:cubicBezTo>
                  <a:pt x="7042" y="14629"/>
                  <a:pt x="7045" y="14640"/>
                  <a:pt x="7069" y="14660"/>
                </a:cubicBezTo>
              </a:path>
              <a:path w="4764" h="3945">
                <a:moveTo>
                  <a:pt x="7689" y="13469"/>
                </a:moveTo>
                <a:cubicBezTo>
                  <a:pt x="7697" y="13477"/>
                  <a:pt x="7706" y="13486"/>
                  <a:pt x="7714" y="13494"/>
                </a:cubicBezTo>
              </a:path>
              <a:path w="4764" h="3945">
                <a:moveTo>
                  <a:pt x="7739" y="14139"/>
                </a:moveTo>
                <a:cubicBezTo>
                  <a:pt x="7743" y="14185"/>
                  <a:pt x="7728" y="14274"/>
                  <a:pt x="7764" y="14238"/>
                </a:cubicBezTo>
              </a:path>
              <a:path w="4764" h="3945">
                <a:moveTo>
                  <a:pt x="7466" y="13767"/>
                </a:moveTo>
                <a:cubicBezTo>
                  <a:pt x="7542" y="13721"/>
                  <a:pt x="7561" y="13766"/>
                  <a:pt x="7640" y="13791"/>
                </a:cubicBezTo>
                <a:cubicBezTo>
                  <a:pt x="7718" y="13816"/>
                  <a:pt x="7810" y="13853"/>
                  <a:pt x="7888" y="13866"/>
                </a:cubicBezTo>
                <a:cubicBezTo>
                  <a:pt x="7933" y="13866"/>
                  <a:pt x="7946" y="13862"/>
                  <a:pt x="7962" y="13891"/>
                </a:cubicBezTo>
              </a:path>
              <a:path w="4764" h="3945">
                <a:moveTo>
                  <a:pt x="8582" y="13047"/>
                </a:moveTo>
                <a:cubicBezTo>
                  <a:pt x="8635" y="13100"/>
                  <a:pt x="8632" y="13120"/>
                  <a:pt x="8632" y="13196"/>
                </a:cubicBezTo>
                <a:cubicBezTo>
                  <a:pt x="8632" y="13273"/>
                  <a:pt x="8657" y="13337"/>
                  <a:pt x="8657" y="13419"/>
                </a:cubicBezTo>
                <a:cubicBezTo>
                  <a:pt x="8657" y="13510"/>
                  <a:pt x="8706" y="13598"/>
                  <a:pt x="8682" y="13692"/>
                </a:cubicBezTo>
                <a:cubicBezTo>
                  <a:pt x="8658" y="13740"/>
                  <a:pt x="8650" y="13754"/>
                  <a:pt x="8657" y="13791"/>
                </a:cubicBezTo>
              </a:path>
              <a:path w="4764" h="3945">
                <a:moveTo>
                  <a:pt x="8359" y="13816"/>
                </a:moveTo>
                <a:cubicBezTo>
                  <a:pt x="8544" y="13816"/>
                  <a:pt x="8728" y="13814"/>
                  <a:pt x="8905" y="13841"/>
                </a:cubicBezTo>
                <a:cubicBezTo>
                  <a:pt x="8976" y="13852"/>
                  <a:pt x="9040" y="13840"/>
                  <a:pt x="9103" y="13816"/>
                </a:cubicBezTo>
              </a:path>
              <a:path w="4764" h="3945">
                <a:moveTo>
                  <a:pt x="8657" y="14064"/>
                </a:moveTo>
                <a:cubicBezTo>
                  <a:pt x="8706" y="14015"/>
                  <a:pt x="8734" y="13994"/>
                  <a:pt x="8806" y="13990"/>
                </a:cubicBezTo>
                <a:cubicBezTo>
                  <a:pt x="8876" y="13986"/>
                  <a:pt x="8924" y="13994"/>
                  <a:pt x="8979" y="14039"/>
                </a:cubicBezTo>
                <a:cubicBezTo>
                  <a:pt x="9053" y="14100"/>
                  <a:pt x="9054" y="14123"/>
                  <a:pt x="9054" y="14213"/>
                </a:cubicBezTo>
                <a:cubicBezTo>
                  <a:pt x="9054" y="14290"/>
                  <a:pt x="9054" y="14341"/>
                  <a:pt x="9029" y="14412"/>
                </a:cubicBezTo>
                <a:cubicBezTo>
                  <a:pt x="9004" y="14483"/>
                  <a:pt x="8981" y="14553"/>
                  <a:pt x="8930" y="14610"/>
                </a:cubicBezTo>
                <a:cubicBezTo>
                  <a:pt x="8898" y="14646"/>
                  <a:pt x="8854" y="14698"/>
                  <a:pt x="8806" y="14709"/>
                </a:cubicBezTo>
                <a:cubicBezTo>
                  <a:pt x="8732" y="14726"/>
                  <a:pt x="8709" y="14666"/>
                  <a:pt x="8706" y="14610"/>
                </a:cubicBezTo>
                <a:cubicBezTo>
                  <a:pt x="8701" y="14528"/>
                  <a:pt x="8730" y="14491"/>
                  <a:pt x="8806" y="14486"/>
                </a:cubicBezTo>
                <a:cubicBezTo>
                  <a:pt x="8878" y="14482"/>
                  <a:pt x="8941" y="14529"/>
                  <a:pt x="9004" y="14560"/>
                </a:cubicBezTo>
                <a:cubicBezTo>
                  <a:pt x="9047" y="14581"/>
                  <a:pt x="9113" y="14649"/>
                  <a:pt x="9153" y="14660"/>
                </a:cubicBezTo>
                <a:cubicBezTo>
                  <a:pt x="9206" y="14675"/>
                  <a:pt x="9216" y="14678"/>
                  <a:pt x="9252" y="14660"/>
                </a:cubicBezTo>
              </a:path>
              <a:path w="4764" h="3945">
                <a:moveTo>
                  <a:pt x="5928" y="15528"/>
                </a:moveTo>
                <a:cubicBezTo>
                  <a:pt x="6041" y="15528"/>
                  <a:pt x="6153" y="15524"/>
                  <a:pt x="6251" y="15553"/>
                </a:cubicBezTo>
                <a:cubicBezTo>
                  <a:pt x="6286" y="15553"/>
                  <a:pt x="6303" y="15548"/>
                  <a:pt x="6325" y="15528"/>
                </a:cubicBezTo>
              </a:path>
              <a:path w="4764" h="3945">
                <a:moveTo>
                  <a:pt x="6003" y="15776"/>
                </a:moveTo>
                <a:cubicBezTo>
                  <a:pt x="6104" y="15782"/>
                  <a:pt x="6199" y="15801"/>
                  <a:pt x="6300" y="15801"/>
                </a:cubicBezTo>
              </a:path>
              <a:path w="4764" h="3945">
                <a:moveTo>
                  <a:pt x="6921" y="15304"/>
                </a:moveTo>
                <a:cubicBezTo>
                  <a:pt x="6921" y="15418"/>
                  <a:pt x="6931" y="15517"/>
                  <a:pt x="6945" y="15627"/>
                </a:cubicBezTo>
                <a:cubicBezTo>
                  <a:pt x="6945" y="15644"/>
                  <a:pt x="6945" y="15660"/>
                  <a:pt x="6945" y="15677"/>
                </a:cubicBezTo>
                <a:cubicBezTo>
                  <a:pt x="6913" y="15545"/>
                  <a:pt x="6921" y="15417"/>
                  <a:pt x="6921" y="15280"/>
                </a:cubicBezTo>
                <a:cubicBezTo>
                  <a:pt x="6921" y="15193"/>
                  <a:pt x="6915" y="15115"/>
                  <a:pt x="6945" y="15032"/>
                </a:cubicBezTo>
                <a:cubicBezTo>
                  <a:pt x="6979" y="14938"/>
                  <a:pt x="7032" y="14957"/>
                  <a:pt x="7119" y="14957"/>
                </a:cubicBezTo>
                <a:cubicBezTo>
                  <a:pt x="7171" y="14957"/>
                  <a:pt x="7293" y="14966"/>
                  <a:pt x="7342" y="14982"/>
                </a:cubicBezTo>
                <a:cubicBezTo>
                  <a:pt x="7389" y="14997"/>
                  <a:pt x="7427" y="15017"/>
                  <a:pt x="7466" y="15056"/>
                </a:cubicBezTo>
              </a:path>
              <a:path w="4764" h="3945">
                <a:moveTo>
                  <a:pt x="7169" y="15205"/>
                </a:moveTo>
                <a:cubicBezTo>
                  <a:pt x="7239" y="15205"/>
                  <a:pt x="7312" y="15190"/>
                  <a:pt x="7367" y="15230"/>
                </a:cubicBezTo>
                <a:cubicBezTo>
                  <a:pt x="7416" y="15266"/>
                  <a:pt x="7397" y="15341"/>
                  <a:pt x="7367" y="15379"/>
                </a:cubicBezTo>
                <a:cubicBezTo>
                  <a:pt x="7331" y="15425"/>
                  <a:pt x="7248" y="15410"/>
                  <a:pt x="7193" y="15453"/>
                </a:cubicBezTo>
                <a:cubicBezTo>
                  <a:pt x="7278" y="15453"/>
                  <a:pt x="7327" y="15444"/>
                  <a:pt x="7392" y="15503"/>
                </a:cubicBezTo>
                <a:cubicBezTo>
                  <a:pt x="7443" y="15549"/>
                  <a:pt x="7485" y="15601"/>
                  <a:pt x="7466" y="15677"/>
                </a:cubicBezTo>
                <a:cubicBezTo>
                  <a:pt x="7447" y="15753"/>
                  <a:pt x="7319" y="15726"/>
                  <a:pt x="7268" y="15726"/>
                </a:cubicBezTo>
                <a:cubicBezTo>
                  <a:pt x="7226" y="15726"/>
                  <a:pt x="7218" y="15726"/>
                  <a:pt x="7193" y="15726"/>
                </a:cubicBezTo>
              </a:path>
              <a:path w="4764" h="3945">
                <a:moveTo>
                  <a:pt x="6821" y="15751"/>
                </a:moveTo>
                <a:cubicBezTo>
                  <a:pt x="6932" y="15758"/>
                  <a:pt x="7032" y="15776"/>
                  <a:pt x="7144" y="15776"/>
                </a:cubicBezTo>
                <a:cubicBezTo>
                  <a:pt x="7220" y="15776"/>
                  <a:pt x="7295" y="15783"/>
                  <a:pt x="7367" y="15801"/>
                </a:cubicBezTo>
                <a:cubicBezTo>
                  <a:pt x="7447" y="15821"/>
                  <a:pt x="7507" y="15825"/>
                  <a:pt x="7590" y="15825"/>
                </a:cubicBezTo>
              </a:path>
              <a:path w="4764" h="3945">
                <a:moveTo>
                  <a:pt x="7193" y="15999"/>
                </a:moveTo>
                <a:cubicBezTo>
                  <a:pt x="7249" y="15966"/>
                  <a:pt x="7321" y="15953"/>
                  <a:pt x="7392" y="15949"/>
                </a:cubicBezTo>
                <a:cubicBezTo>
                  <a:pt x="7428" y="15947"/>
                  <a:pt x="7529" y="15981"/>
                  <a:pt x="7541" y="16024"/>
                </a:cubicBezTo>
                <a:cubicBezTo>
                  <a:pt x="7558" y="16087"/>
                  <a:pt x="7576" y="16177"/>
                  <a:pt x="7565" y="16247"/>
                </a:cubicBezTo>
                <a:cubicBezTo>
                  <a:pt x="7555" y="16308"/>
                  <a:pt x="7517" y="16448"/>
                  <a:pt x="7466" y="16495"/>
                </a:cubicBezTo>
                <a:cubicBezTo>
                  <a:pt x="7416" y="16542"/>
                  <a:pt x="7315" y="16614"/>
                  <a:pt x="7243" y="16594"/>
                </a:cubicBezTo>
                <a:cubicBezTo>
                  <a:pt x="7213" y="16565"/>
                  <a:pt x="7199" y="16554"/>
                  <a:pt x="7169" y="16545"/>
                </a:cubicBezTo>
                <a:cubicBezTo>
                  <a:pt x="7217" y="16458"/>
                  <a:pt x="7228" y="16426"/>
                  <a:pt x="7342" y="16470"/>
                </a:cubicBezTo>
                <a:cubicBezTo>
                  <a:pt x="7358" y="16476"/>
                  <a:pt x="7457" y="16560"/>
                  <a:pt x="7466" y="16570"/>
                </a:cubicBezTo>
                <a:cubicBezTo>
                  <a:pt x="7521" y="16634"/>
                  <a:pt x="7479" y="16632"/>
                  <a:pt x="7565" y="16644"/>
                </a:cubicBezTo>
              </a:path>
              <a:path w="4764" h="3945">
                <a:moveTo>
                  <a:pt x="8037" y="15825"/>
                </a:moveTo>
                <a:cubicBezTo>
                  <a:pt x="7979" y="15873"/>
                  <a:pt x="7972" y="15858"/>
                  <a:pt x="8012" y="15925"/>
                </a:cubicBezTo>
                <a:cubicBezTo>
                  <a:pt x="8037" y="15875"/>
                  <a:pt x="7995" y="15867"/>
                  <a:pt x="8012" y="15801"/>
                </a:cubicBezTo>
              </a:path>
              <a:path w="4764" h="3945">
                <a:moveTo>
                  <a:pt x="8409" y="15180"/>
                </a:moveTo>
                <a:cubicBezTo>
                  <a:pt x="8426" y="15248"/>
                  <a:pt x="8447" y="15186"/>
                  <a:pt x="8508" y="15131"/>
                </a:cubicBezTo>
                <a:cubicBezTo>
                  <a:pt x="8561" y="15083"/>
                  <a:pt x="8605" y="15118"/>
                  <a:pt x="8657" y="15156"/>
                </a:cubicBezTo>
                <a:cubicBezTo>
                  <a:pt x="8726" y="15207"/>
                  <a:pt x="8688" y="15263"/>
                  <a:pt x="8706" y="15329"/>
                </a:cubicBezTo>
                <a:cubicBezTo>
                  <a:pt x="8721" y="15384"/>
                  <a:pt x="8728" y="15490"/>
                  <a:pt x="8706" y="15553"/>
                </a:cubicBezTo>
                <a:cubicBezTo>
                  <a:pt x="8697" y="15580"/>
                  <a:pt x="8629" y="15661"/>
                  <a:pt x="8607" y="15677"/>
                </a:cubicBezTo>
                <a:cubicBezTo>
                  <a:pt x="8545" y="15721"/>
                  <a:pt x="8505" y="15744"/>
                  <a:pt x="8434" y="15701"/>
                </a:cubicBezTo>
                <a:cubicBezTo>
                  <a:pt x="8387" y="15672"/>
                  <a:pt x="8356" y="15617"/>
                  <a:pt x="8409" y="15577"/>
                </a:cubicBezTo>
                <a:cubicBezTo>
                  <a:pt x="8479" y="15524"/>
                  <a:pt x="8598" y="15610"/>
                  <a:pt x="8657" y="15652"/>
                </a:cubicBezTo>
                <a:cubicBezTo>
                  <a:pt x="8706" y="15687"/>
                  <a:pt x="8753" y="15721"/>
                  <a:pt x="8806" y="15751"/>
                </a:cubicBezTo>
              </a:path>
              <a:path w="4764" h="3945">
                <a:moveTo>
                  <a:pt x="8359" y="15850"/>
                </a:moveTo>
                <a:cubicBezTo>
                  <a:pt x="8480" y="15856"/>
                  <a:pt x="8586" y="15875"/>
                  <a:pt x="8706" y="15875"/>
                </a:cubicBezTo>
                <a:cubicBezTo>
                  <a:pt x="8785" y="15875"/>
                  <a:pt x="8866" y="15888"/>
                  <a:pt x="8930" y="15850"/>
                </a:cubicBezTo>
              </a:path>
              <a:path w="4764" h="3945">
                <a:moveTo>
                  <a:pt x="8706" y="16197"/>
                </a:moveTo>
                <a:cubicBezTo>
                  <a:pt x="8713" y="16313"/>
                  <a:pt x="8705" y="16457"/>
                  <a:pt x="8731" y="16570"/>
                </a:cubicBezTo>
                <a:cubicBezTo>
                  <a:pt x="8746" y="16635"/>
                  <a:pt x="8742" y="16703"/>
                  <a:pt x="8756" y="16768"/>
                </a:cubicBezTo>
                <a:cubicBezTo>
                  <a:pt x="8776" y="16828"/>
                  <a:pt x="8775" y="16843"/>
                  <a:pt x="8806" y="16867"/>
                </a:cubicBezTo>
              </a:path>
              <a:path w="4764" h="3945">
                <a:moveTo>
                  <a:pt x="9277" y="15825"/>
                </a:moveTo>
                <a:cubicBezTo>
                  <a:pt x="9353" y="15759"/>
                  <a:pt x="9418" y="15751"/>
                  <a:pt x="9525" y="15751"/>
                </a:cubicBezTo>
              </a:path>
              <a:path w="4764" h="3945">
                <a:moveTo>
                  <a:pt x="9426" y="16049"/>
                </a:moveTo>
                <a:cubicBezTo>
                  <a:pt x="9500" y="16074"/>
                  <a:pt x="9587" y="16092"/>
                  <a:pt x="9649" y="16123"/>
                </a:cubicBezTo>
              </a:path>
              <a:path w="4764" h="3945">
                <a:moveTo>
                  <a:pt x="7789" y="15751"/>
                </a:moveTo>
                <a:cubicBezTo>
                  <a:pt x="7745" y="15795"/>
                  <a:pt x="7740" y="15826"/>
                  <a:pt x="7714" y="15875"/>
                </a:cubicBezTo>
                <a:cubicBezTo>
                  <a:pt x="7676" y="15947"/>
                  <a:pt x="7607" y="15973"/>
                  <a:pt x="7565" y="16049"/>
                </a:cubicBezTo>
                <a:cubicBezTo>
                  <a:pt x="7530" y="16112"/>
                  <a:pt x="7421" y="16223"/>
                  <a:pt x="7367" y="16272"/>
                </a:cubicBezTo>
                <a:cubicBezTo>
                  <a:pt x="7308" y="16325"/>
                  <a:pt x="7254" y="16385"/>
                  <a:pt x="7193" y="16446"/>
                </a:cubicBezTo>
                <a:cubicBezTo>
                  <a:pt x="7155" y="16484"/>
                  <a:pt x="7056" y="16608"/>
                  <a:pt x="7094" y="16570"/>
                </a:cubicBezTo>
                <a:cubicBezTo>
                  <a:pt x="7102" y="16562"/>
                  <a:pt x="7111" y="16553"/>
                  <a:pt x="7119" y="16545"/>
                </a:cubicBezTo>
              </a:path>
              <a:path w="4764" h="3945">
                <a:moveTo>
                  <a:pt x="8930" y="14982"/>
                </a:moveTo>
                <a:cubicBezTo>
                  <a:pt x="8889" y="15023"/>
                  <a:pt x="8865" y="15063"/>
                  <a:pt x="8830" y="15106"/>
                </a:cubicBezTo>
                <a:cubicBezTo>
                  <a:pt x="8768" y="15182"/>
                  <a:pt x="8746" y="15210"/>
                  <a:pt x="8706" y="15304"/>
                </a:cubicBezTo>
                <a:cubicBezTo>
                  <a:pt x="8668" y="15393"/>
                  <a:pt x="8586" y="15471"/>
                  <a:pt x="8533" y="15553"/>
                </a:cubicBezTo>
                <a:cubicBezTo>
                  <a:pt x="8483" y="15630"/>
                  <a:pt x="8424" y="15686"/>
                  <a:pt x="8359" y="15751"/>
                </a:cubicBezTo>
                <a:cubicBezTo>
                  <a:pt x="8334" y="15776"/>
                  <a:pt x="8326" y="15784"/>
                  <a:pt x="8310" y="15801"/>
                </a:cubicBezTo>
              </a:path>
              <a:path w="4764" h="3945">
                <a:moveTo>
                  <a:pt x="9947" y="15577"/>
                </a:moveTo>
                <a:cubicBezTo>
                  <a:pt x="10061" y="15646"/>
                  <a:pt x="10046" y="15688"/>
                  <a:pt x="10046" y="15825"/>
                </a:cubicBezTo>
                <a:cubicBezTo>
                  <a:pt x="10046" y="15875"/>
                  <a:pt x="10046" y="15924"/>
                  <a:pt x="10046" y="15974"/>
                </a:cubicBezTo>
                <a:cubicBezTo>
                  <a:pt x="10004" y="15904"/>
                  <a:pt x="10041" y="15831"/>
                  <a:pt x="10021" y="15751"/>
                </a:cubicBezTo>
                <a:cubicBezTo>
                  <a:pt x="10003" y="15679"/>
                  <a:pt x="9983" y="15600"/>
                  <a:pt x="9971" y="15528"/>
                </a:cubicBezTo>
                <a:cubicBezTo>
                  <a:pt x="9960" y="15463"/>
                  <a:pt x="9950" y="15393"/>
                  <a:pt x="9947" y="15329"/>
                </a:cubicBezTo>
                <a:cubicBezTo>
                  <a:pt x="9943" y="15262"/>
                  <a:pt x="9930" y="15182"/>
                  <a:pt x="9971" y="15131"/>
                </a:cubicBezTo>
                <a:cubicBezTo>
                  <a:pt x="10008" y="15084"/>
                  <a:pt x="10029" y="15023"/>
                  <a:pt x="10096" y="15007"/>
                </a:cubicBezTo>
                <a:cubicBezTo>
                  <a:pt x="10162" y="14991"/>
                  <a:pt x="10223" y="14982"/>
                  <a:pt x="10294" y="14982"/>
                </a:cubicBezTo>
                <a:cubicBezTo>
                  <a:pt x="10395" y="14982"/>
                  <a:pt x="10534" y="14957"/>
                  <a:pt x="10616" y="15007"/>
                </a:cubicBezTo>
              </a:path>
              <a:path w="4764" h="3945">
                <a:moveTo>
                  <a:pt x="10269" y="15230"/>
                </a:moveTo>
                <a:cubicBezTo>
                  <a:pt x="10362" y="15218"/>
                  <a:pt x="10440" y="15156"/>
                  <a:pt x="10542" y="15180"/>
                </a:cubicBezTo>
                <a:cubicBezTo>
                  <a:pt x="10629" y="15201"/>
                  <a:pt x="10651" y="15282"/>
                  <a:pt x="10616" y="15354"/>
                </a:cubicBezTo>
                <a:cubicBezTo>
                  <a:pt x="10584" y="15420"/>
                  <a:pt x="10518" y="15406"/>
                  <a:pt x="10468" y="15429"/>
                </a:cubicBezTo>
                <a:cubicBezTo>
                  <a:pt x="10460" y="15437"/>
                  <a:pt x="10451" y="15445"/>
                  <a:pt x="10443" y="15453"/>
                </a:cubicBezTo>
                <a:cubicBezTo>
                  <a:pt x="10504" y="15462"/>
                  <a:pt x="10543" y="15483"/>
                  <a:pt x="10592" y="15528"/>
                </a:cubicBezTo>
                <a:cubicBezTo>
                  <a:pt x="10640" y="15572"/>
                  <a:pt x="10677" y="15637"/>
                  <a:pt x="10691" y="15701"/>
                </a:cubicBezTo>
                <a:cubicBezTo>
                  <a:pt x="10702" y="15754"/>
                  <a:pt x="10709" y="15883"/>
                  <a:pt x="10666" y="15925"/>
                </a:cubicBezTo>
                <a:cubicBezTo>
                  <a:pt x="10616" y="15974"/>
                  <a:pt x="10497" y="15958"/>
                  <a:pt x="10443" y="15925"/>
                </a:cubicBezTo>
                <a:cubicBezTo>
                  <a:pt x="10396" y="15896"/>
                  <a:pt x="10371" y="15824"/>
                  <a:pt x="10368" y="15776"/>
                </a:cubicBezTo>
                <a:cubicBezTo>
                  <a:pt x="10366" y="15744"/>
                  <a:pt x="10369" y="15675"/>
                  <a:pt x="10344" y="157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Ink 18"/>
          <p:cNvSpPr/>
          <p:nvPr/>
        </p:nvSpPr>
        <p:spPr>
          <a:xfrm>
            <a:off x="4680000" y="4606920"/>
            <a:ext cx="3124080" cy="1036800"/>
          </a:xfrm>
          <a:custGeom>
            <a:avLst/>
            <a:gdLst/>
            <a:ahLst/>
            <a:rect l="l" t="t" r="r" b="b"/>
            <a:pathLst>
              <a:path w="8682" h="2879">
                <a:moveTo>
                  <a:pt x="13469" y="13667"/>
                </a:moveTo>
                <a:cubicBezTo>
                  <a:pt x="13477" y="13761"/>
                  <a:pt x="13475" y="13881"/>
                  <a:pt x="13519" y="13965"/>
                </a:cubicBezTo>
                <a:cubicBezTo>
                  <a:pt x="13527" y="13973"/>
                  <a:pt x="13535" y="13982"/>
                  <a:pt x="13543" y="13990"/>
                </a:cubicBezTo>
                <a:cubicBezTo>
                  <a:pt x="13543" y="13902"/>
                  <a:pt x="13542" y="13800"/>
                  <a:pt x="13519" y="13717"/>
                </a:cubicBezTo>
                <a:cubicBezTo>
                  <a:pt x="13502" y="13655"/>
                  <a:pt x="13456" y="13565"/>
                  <a:pt x="13395" y="13543"/>
                </a:cubicBezTo>
                <a:cubicBezTo>
                  <a:pt x="13281" y="13502"/>
                  <a:pt x="13242" y="13553"/>
                  <a:pt x="13171" y="13643"/>
                </a:cubicBezTo>
                <a:cubicBezTo>
                  <a:pt x="13085" y="13753"/>
                  <a:pt x="13078" y="13907"/>
                  <a:pt x="13047" y="14039"/>
                </a:cubicBezTo>
                <a:cubicBezTo>
                  <a:pt x="12990" y="14287"/>
                  <a:pt x="13000" y="14413"/>
                  <a:pt x="13072" y="14660"/>
                </a:cubicBezTo>
                <a:cubicBezTo>
                  <a:pt x="13102" y="14762"/>
                  <a:pt x="13186" y="14843"/>
                  <a:pt x="13295" y="14858"/>
                </a:cubicBezTo>
                <a:cubicBezTo>
                  <a:pt x="13442" y="14878"/>
                  <a:pt x="13518" y="14800"/>
                  <a:pt x="13618" y="14709"/>
                </a:cubicBezTo>
              </a:path>
              <a:path w="8682" h="2879">
                <a:moveTo>
                  <a:pt x="13891" y="14238"/>
                </a:moveTo>
                <a:cubicBezTo>
                  <a:pt x="13849" y="14368"/>
                  <a:pt x="13773" y="14540"/>
                  <a:pt x="13791" y="14684"/>
                </a:cubicBezTo>
                <a:cubicBezTo>
                  <a:pt x="13799" y="14748"/>
                  <a:pt x="13833" y="14906"/>
                  <a:pt x="13915" y="14932"/>
                </a:cubicBezTo>
                <a:cubicBezTo>
                  <a:pt x="14018" y="14964"/>
                  <a:pt x="14100" y="14901"/>
                  <a:pt x="14139" y="14808"/>
                </a:cubicBezTo>
                <a:cubicBezTo>
                  <a:pt x="14183" y="14702"/>
                  <a:pt x="14213" y="14569"/>
                  <a:pt x="14163" y="14461"/>
                </a:cubicBezTo>
                <a:cubicBezTo>
                  <a:pt x="14109" y="14344"/>
                  <a:pt x="14045" y="14260"/>
                  <a:pt x="13940" y="14188"/>
                </a:cubicBezTo>
                <a:cubicBezTo>
                  <a:pt x="13904" y="14163"/>
                  <a:pt x="13738" y="14089"/>
                  <a:pt x="13692" y="14139"/>
                </a:cubicBezTo>
                <a:cubicBezTo>
                  <a:pt x="13647" y="14189"/>
                  <a:pt x="13748" y="14227"/>
                  <a:pt x="13767" y="14238"/>
                </a:cubicBezTo>
              </a:path>
              <a:path w="8682" h="2879">
                <a:moveTo>
                  <a:pt x="14436" y="14089"/>
                </a:moveTo>
                <a:cubicBezTo>
                  <a:pt x="14436" y="14311"/>
                  <a:pt x="14411" y="14542"/>
                  <a:pt x="14461" y="14759"/>
                </a:cubicBezTo>
                <a:cubicBezTo>
                  <a:pt x="14481" y="14844"/>
                  <a:pt x="14524" y="14922"/>
                  <a:pt x="14585" y="14908"/>
                </a:cubicBezTo>
              </a:path>
              <a:path w="8682" h="2879">
                <a:moveTo>
                  <a:pt x="14238" y="14312"/>
                </a:moveTo>
                <a:cubicBezTo>
                  <a:pt x="14338" y="14323"/>
                  <a:pt x="14460" y="14368"/>
                  <a:pt x="14560" y="14362"/>
                </a:cubicBezTo>
                <a:cubicBezTo>
                  <a:pt x="14650" y="14332"/>
                  <a:pt x="14691" y="14321"/>
                  <a:pt x="14759" y="14312"/>
                </a:cubicBezTo>
              </a:path>
              <a:path w="8682" h="2879">
                <a:moveTo>
                  <a:pt x="15180" y="13593"/>
                </a:moveTo>
                <a:cubicBezTo>
                  <a:pt x="15372" y="13599"/>
                  <a:pt x="15456" y="13611"/>
                  <a:pt x="15627" y="13667"/>
                </a:cubicBezTo>
              </a:path>
              <a:path w="8682" h="2879">
                <a:moveTo>
                  <a:pt x="15404" y="13742"/>
                </a:moveTo>
                <a:cubicBezTo>
                  <a:pt x="15369" y="13846"/>
                  <a:pt x="15295" y="13991"/>
                  <a:pt x="15329" y="14114"/>
                </a:cubicBezTo>
                <a:cubicBezTo>
                  <a:pt x="15337" y="14130"/>
                  <a:pt x="15346" y="14147"/>
                  <a:pt x="15354" y="14163"/>
                </a:cubicBezTo>
              </a:path>
              <a:path w="8682" h="2879">
                <a:moveTo>
                  <a:pt x="15503" y="13767"/>
                </a:moveTo>
                <a:cubicBezTo>
                  <a:pt x="15519" y="13875"/>
                  <a:pt x="15517" y="14036"/>
                  <a:pt x="15553" y="14139"/>
                </a:cubicBezTo>
                <a:cubicBezTo>
                  <a:pt x="15561" y="14147"/>
                  <a:pt x="15569" y="14155"/>
                  <a:pt x="15577" y="14163"/>
                </a:cubicBezTo>
              </a:path>
              <a:path w="8682" h="2879">
                <a:moveTo>
                  <a:pt x="15875" y="13618"/>
                </a:moveTo>
                <a:cubicBezTo>
                  <a:pt x="15822" y="13784"/>
                  <a:pt x="15797" y="13919"/>
                  <a:pt x="15776" y="14089"/>
                </a:cubicBezTo>
                <a:cubicBezTo>
                  <a:pt x="15751" y="14290"/>
                  <a:pt x="15665" y="14485"/>
                  <a:pt x="15627" y="14684"/>
                </a:cubicBezTo>
                <a:cubicBezTo>
                  <a:pt x="15610" y="14774"/>
                  <a:pt x="15589" y="14850"/>
                  <a:pt x="15577" y="14932"/>
                </a:cubicBezTo>
              </a:path>
              <a:path w="8682" h="2879">
                <a:moveTo>
                  <a:pt x="15850" y="14486"/>
                </a:moveTo>
                <a:cubicBezTo>
                  <a:pt x="15973" y="14515"/>
                  <a:pt x="16103" y="14535"/>
                  <a:pt x="16173" y="14660"/>
                </a:cubicBezTo>
                <a:cubicBezTo>
                  <a:pt x="16211" y="14728"/>
                  <a:pt x="16188" y="14809"/>
                  <a:pt x="16123" y="14833"/>
                </a:cubicBezTo>
                <a:cubicBezTo>
                  <a:pt x="16045" y="14862"/>
                  <a:pt x="15968" y="14849"/>
                  <a:pt x="15900" y="14883"/>
                </a:cubicBezTo>
                <a:cubicBezTo>
                  <a:pt x="15944" y="14953"/>
                  <a:pt x="16012" y="15036"/>
                  <a:pt x="16049" y="15106"/>
                </a:cubicBezTo>
                <a:cubicBezTo>
                  <a:pt x="16114" y="15232"/>
                  <a:pt x="16092" y="15255"/>
                  <a:pt x="15999" y="15354"/>
                </a:cubicBezTo>
                <a:cubicBezTo>
                  <a:pt x="15916" y="15442"/>
                  <a:pt x="15846" y="15396"/>
                  <a:pt x="15751" y="15354"/>
                </a:cubicBezTo>
                <a:cubicBezTo>
                  <a:pt x="15605" y="15289"/>
                  <a:pt x="15707" y="15159"/>
                  <a:pt x="15751" y="15056"/>
                </a:cubicBezTo>
              </a:path>
              <a:path w="8682" h="2879">
                <a:moveTo>
                  <a:pt x="16396" y="14560"/>
                </a:moveTo>
                <a:cubicBezTo>
                  <a:pt x="16526" y="14593"/>
                  <a:pt x="16574" y="14610"/>
                  <a:pt x="16694" y="14610"/>
                </a:cubicBezTo>
              </a:path>
              <a:path w="8682" h="2879">
                <a:moveTo>
                  <a:pt x="16470" y="14784"/>
                </a:moveTo>
                <a:cubicBezTo>
                  <a:pt x="16608" y="14829"/>
                  <a:pt x="16612" y="14841"/>
                  <a:pt x="16743" y="14808"/>
                </a:cubicBezTo>
              </a:path>
              <a:path w="8682" h="2879">
                <a:moveTo>
                  <a:pt x="17711" y="13593"/>
                </a:moveTo>
                <a:lnTo>
                  <a:pt x="17711" y="13593"/>
                </a:lnTo>
              </a:path>
              <a:path w="8682" h="2879">
                <a:moveTo>
                  <a:pt x="17711" y="13593"/>
                </a:moveTo>
                <a:cubicBezTo>
                  <a:pt x="17711" y="13601"/>
                  <a:pt x="17711" y="13610"/>
                  <a:pt x="17711" y="13618"/>
                </a:cubicBezTo>
              </a:path>
              <a:path w="8682" h="2879">
                <a:moveTo>
                  <a:pt x="17711" y="13618"/>
                </a:moveTo>
                <a:cubicBezTo>
                  <a:pt x="17787" y="13705"/>
                  <a:pt x="17800" y="13770"/>
                  <a:pt x="17810" y="13891"/>
                </a:cubicBezTo>
                <a:cubicBezTo>
                  <a:pt x="17817" y="13976"/>
                  <a:pt x="17808" y="14084"/>
                  <a:pt x="17785" y="14163"/>
                </a:cubicBezTo>
                <a:cubicBezTo>
                  <a:pt x="17778" y="14188"/>
                  <a:pt x="17710" y="14343"/>
                  <a:pt x="17735" y="14362"/>
                </a:cubicBezTo>
                <a:cubicBezTo>
                  <a:pt x="17743" y="14354"/>
                  <a:pt x="17752" y="14345"/>
                  <a:pt x="17760" y="14337"/>
                </a:cubicBezTo>
              </a:path>
              <a:path w="8682" h="2879">
                <a:moveTo>
                  <a:pt x="17239" y="14610"/>
                </a:moveTo>
                <a:cubicBezTo>
                  <a:pt x="17296" y="14553"/>
                  <a:pt x="17339" y="14543"/>
                  <a:pt x="17413" y="14511"/>
                </a:cubicBezTo>
                <a:cubicBezTo>
                  <a:pt x="17497" y="14475"/>
                  <a:pt x="17577" y="14467"/>
                  <a:pt x="17661" y="14436"/>
                </a:cubicBezTo>
                <a:cubicBezTo>
                  <a:pt x="17729" y="14411"/>
                  <a:pt x="17795" y="14385"/>
                  <a:pt x="17859" y="14362"/>
                </a:cubicBezTo>
                <a:cubicBezTo>
                  <a:pt x="17933" y="14335"/>
                  <a:pt x="18018" y="14329"/>
                  <a:pt x="18083" y="14362"/>
                </a:cubicBezTo>
                <a:cubicBezTo>
                  <a:pt x="18105" y="14385"/>
                  <a:pt x="18110" y="14393"/>
                  <a:pt x="18132" y="14387"/>
                </a:cubicBezTo>
              </a:path>
              <a:path w="8682" h="2879">
                <a:moveTo>
                  <a:pt x="17438" y="14982"/>
                </a:moveTo>
                <a:cubicBezTo>
                  <a:pt x="17438" y="15156"/>
                  <a:pt x="17445" y="15344"/>
                  <a:pt x="17413" y="15503"/>
                </a:cubicBezTo>
                <a:cubicBezTo>
                  <a:pt x="17413" y="15520"/>
                  <a:pt x="17413" y="15536"/>
                  <a:pt x="17413" y="15553"/>
                </a:cubicBezTo>
                <a:cubicBezTo>
                  <a:pt x="17405" y="15499"/>
                  <a:pt x="17370" y="15451"/>
                  <a:pt x="17363" y="15404"/>
                </a:cubicBezTo>
                <a:cubicBezTo>
                  <a:pt x="17347" y="15297"/>
                  <a:pt x="17343" y="15116"/>
                  <a:pt x="17388" y="15032"/>
                </a:cubicBezTo>
                <a:cubicBezTo>
                  <a:pt x="17423" y="14966"/>
                  <a:pt x="17417" y="14898"/>
                  <a:pt x="17462" y="14833"/>
                </a:cubicBezTo>
                <a:cubicBezTo>
                  <a:pt x="17514" y="14758"/>
                  <a:pt x="17608" y="14679"/>
                  <a:pt x="17686" y="14635"/>
                </a:cubicBezTo>
                <a:cubicBezTo>
                  <a:pt x="17774" y="14585"/>
                  <a:pt x="17844" y="14527"/>
                  <a:pt x="17934" y="14486"/>
                </a:cubicBezTo>
                <a:cubicBezTo>
                  <a:pt x="17985" y="14463"/>
                  <a:pt x="18005" y="14466"/>
                  <a:pt x="18058" y="14461"/>
                </a:cubicBezTo>
              </a:path>
              <a:path w="8682" h="2879">
                <a:moveTo>
                  <a:pt x="17785" y="14759"/>
                </a:moveTo>
                <a:cubicBezTo>
                  <a:pt x="17743" y="14800"/>
                  <a:pt x="17735" y="14808"/>
                  <a:pt x="17711" y="14833"/>
                </a:cubicBezTo>
                <a:cubicBezTo>
                  <a:pt x="17753" y="14812"/>
                  <a:pt x="17821" y="14745"/>
                  <a:pt x="17859" y="14734"/>
                </a:cubicBezTo>
                <a:cubicBezTo>
                  <a:pt x="17955" y="14706"/>
                  <a:pt x="17989" y="14788"/>
                  <a:pt x="17959" y="14858"/>
                </a:cubicBezTo>
                <a:cubicBezTo>
                  <a:pt x="17929" y="14928"/>
                  <a:pt x="17889" y="15019"/>
                  <a:pt x="17859" y="15081"/>
                </a:cubicBezTo>
                <a:cubicBezTo>
                  <a:pt x="17841" y="15118"/>
                  <a:pt x="17832" y="15145"/>
                  <a:pt x="17810" y="15180"/>
                </a:cubicBezTo>
                <a:cubicBezTo>
                  <a:pt x="17840" y="15128"/>
                  <a:pt x="17862" y="15068"/>
                  <a:pt x="17934" y="15081"/>
                </a:cubicBezTo>
                <a:cubicBezTo>
                  <a:pt x="18022" y="15097"/>
                  <a:pt x="18037" y="15199"/>
                  <a:pt x="18008" y="15280"/>
                </a:cubicBezTo>
                <a:cubicBezTo>
                  <a:pt x="17961" y="15415"/>
                  <a:pt x="17871" y="15546"/>
                  <a:pt x="17810" y="15677"/>
                </a:cubicBezTo>
              </a:path>
              <a:path w="8682" h="2879">
                <a:moveTo>
                  <a:pt x="18430" y="14908"/>
                </a:moveTo>
                <a:cubicBezTo>
                  <a:pt x="18438" y="14965"/>
                  <a:pt x="18455" y="14995"/>
                  <a:pt x="18455" y="15056"/>
                </a:cubicBezTo>
              </a:path>
              <a:path w="8682" h="2879">
                <a:moveTo>
                  <a:pt x="18479" y="15429"/>
                </a:moveTo>
                <a:cubicBezTo>
                  <a:pt x="18519" y="15503"/>
                  <a:pt x="18435" y="15368"/>
                  <a:pt x="18430" y="15329"/>
                </a:cubicBezTo>
                <a:cubicBezTo>
                  <a:pt x="18407" y="15157"/>
                  <a:pt x="18438" y="14976"/>
                  <a:pt x="18455" y="14808"/>
                </a:cubicBezTo>
                <a:cubicBezTo>
                  <a:pt x="18467" y="14686"/>
                  <a:pt x="18502" y="14659"/>
                  <a:pt x="18554" y="14560"/>
                </a:cubicBezTo>
                <a:cubicBezTo>
                  <a:pt x="18608" y="14458"/>
                  <a:pt x="18620" y="14441"/>
                  <a:pt x="18703" y="14362"/>
                </a:cubicBezTo>
                <a:cubicBezTo>
                  <a:pt x="18769" y="14299"/>
                  <a:pt x="18820" y="14275"/>
                  <a:pt x="18901" y="14238"/>
                </a:cubicBezTo>
                <a:cubicBezTo>
                  <a:pt x="18955" y="14214"/>
                  <a:pt x="19002" y="14173"/>
                  <a:pt x="19050" y="14139"/>
                </a:cubicBezTo>
              </a:path>
              <a:path w="8682" h="2879">
                <a:moveTo>
                  <a:pt x="18752" y="14536"/>
                </a:moveTo>
                <a:cubicBezTo>
                  <a:pt x="18697" y="14591"/>
                  <a:pt x="18687" y="14631"/>
                  <a:pt x="18678" y="14709"/>
                </a:cubicBezTo>
                <a:cubicBezTo>
                  <a:pt x="18753" y="14691"/>
                  <a:pt x="18765" y="14651"/>
                  <a:pt x="18827" y="14610"/>
                </a:cubicBezTo>
                <a:cubicBezTo>
                  <a:pt x="18879" y="14576"/>
                  <a:pt x="18939" y="14566"/>
                  <a:pt x="18976" y="14585"/>
                </a:cubicBezTo>
                <a:cubicBezTo>
                  <a:pt x="18969" y="14642"/>
                  <a:pt x="18948" y="14741"/>
                  <a:pt x="18901" y="14784"/>
                </a:cubicBezTo>
                <a:cubicBezTo>
                  <a:pt x="18848" y="14833"/>
                  <a:pt x="18822" y="14849"/>
                  <a:pt x="18777" y="14908"/>
                </a:cubicBezTo>
                <a:cubicBezTo>
                  <a:pt x="18769" y="14916"/>
                  <a:pt x="18760" y="14924"/>
                  <a:pt x="18752" y="14932"/>
                </a:cubicBezTo>
                <a:cubicBezTo>
                  <a:pt x="18807" y="14889"/>
                  <a:pt x="18877" y="14860"/>
                  <a:pt x="18951" y="14883"/>
                </a:cubicBezTo>
                <a:cubicBezTo>
                  <a:pt x="18992" y="14896"/>
                  <a:pt x="19030" y="14996"/>
                  <a:pt x="19025" y="15032"/>
                </a:cubicBezTo>
                <a:cubicBezTo>
                  <a:pt x="19008" y="15147"/>
                  <a:pt x="18962" y="15234"/>
                  <a:pt x="18901" y="15329"/>
                </a:cubicBezTo>
                <a:cubicBezTo>
                  <a:pt x="18858" y="15395"/>
                  <a:pt x="18828" y="15445"/>
                  <a:pt x="18777" y="15503"/>
                </a:cubicBezTo>
              </a:path>
              <a:path w="8682" h="2879">
                <a:moveTo>
                  <a:pt x="18331" y="13568"/>
                </a:moveTo>
                <a:cubicBezTo>
                  <a:pt x="18339" y="13664"/>
                  <a:pt x="18368" y="13744"/>
                  <a:pt x="18380" y="13841"/>
                </a:cubicBezTo>
                <a:cubicBezTo>
                  <a:pt x="18390" y="13924"/>
                  <a:pt x="18396" y="14006"/>
                  <a:pt x="18405" y="14089"/>
                </a:cubicBezTo>
                <a:cubicBezTo>
                  <a:pt x="18405" y="13907"/>
                  <a:pt x="18366" y="13654"/>
                  <a:pt x="18430" y="13494"/>
                </a:cubicBezTo>
                <a:cubicBezTo>
                  <a:pt x="18460" y="13419"/>
                  <a:pt x="18474" y="13400"/>
                  <a:pt x="18529" y="13345"/>
                </a:cubicBezTo>
                <a:cubicBezTo>
                  <a:pt x="18585" y="13289"/>
                  <a:pt x="18645" y="13245"/>
                  <a:pt x="18703" y="13196"/>
                </a:cubicBezTo>
                <a:cubicBezTo>
                  <a:pt x="18770" y="13139"/>
                  <a:pt x="18818" y="13134"/>
                  <a:pt x="18901" y="13097"/>
                </a:cubicBezTo>
                <a:cubicBezTo>
                  <a:pt x="18965" y="13068"/>
                  <a:pt x="19015" y="13043"/>
                  <a:pt x="19075" y="13022"/>
                </a:cubicBezTo>
                <a:cubicBezTo>
                  <a:pt x="19091" y="13014"/>
                  <a:pt x="19108" y="13006"/>
                  <a:pt x="19124" y="12998"/>
                </a:cubicBezTo>
              </a:path>
              <a:path w="8682" h="2879">
                <a:moveTo>
                  <a:pt x="18728" y="13395"/>
                </a:moveTo>
                <a:cubicBezTo>
                  <a:pt x="18660" y="13462"/>
                  <a:pt x="18616" y="13482"/>
                  <a:pt x="18604" y="13568"/>
                </a:cubicBezTo>
                <a:cubicBezTo>
                  <a:pt x="18663" y="13520"/>
                  <a:pt x="18733" y="13502"/>
                  <a:pt x="18802" y="13469"/>
                </a:cubicBezTo>
                <a:cubicBezTo>
                  <a:pt x="18876" y="13434"/>
                  <a:pt x="18903" y="13445"/>
                  <a:pt x="18976" y="13469"/>
                </a:cubicBezTo>
                <a:cubicBezTo>
                  <a:pt x="18969" y="13516"/>
                  <a:pt x="18941" y="13583"/>
                  <a:pt x="18901" y="13618"/>
                </a:cubicBezTo>
                <a:cubicBezTo>
                  <a:pt x="18858" y="13655"/>
                  <a:pt x="18820" y="13674"/>
                  <a:pt x="18777" y="13717"/>
                </a:cubicBezTo>
                <a:cubicBezTo>
                  <a:pt x="18830" y="13664"/>
                  <a:pt x="18851" y="13645"/>
                  <a:pt x="18926" y="13618"/>
                </a:cubicBezTo>
                <a:cubicBezTo>
                  <a:pt x="18986" y="13596"/>
                  <a:pt x="19118" y="13590"/>
                  <a:pt x="19100" y="13692"/>
                </a:cubicBezTo>
                <a:cubicBezTo>
                  <a:pt x="19090" y="13747"/>
                  <a:pt x="18981" y="13907"/>
                  <a:pt x="18951" y="13940"/>
                </a:cubicBezTo>
                <a:cubicBezTo>
                  <a:pt x="18886" y="14010"/>
                  <a:pt x="18785" y="14068"/>
                  <a:pt x="18728" y="14139"/>
                </a:cubicBezTo>
                <a:cubicBezTo>
                  <a:pt x="18708" y="14179"/>
                  <a:pt x="18709" y="14195"/>
                  <a:pt x="18678" y="14188"/>
                </a:cubicBezTo>
              </a:path>
              <a:path w="8682" h="2879">
                <a:moveTo>
                  <a:pt x="19571" y="13940"/>
                </a:moveTo>
                <a:cubicBezTo>
                  <a:pt x="19647" y="13932"/>
                  <a:pt x="19729" y="13903"/>
                  <a:pt x="19794" y="13891"/>
                </a:cubicBezTo>
                <a:cubicBezTo>
                  <a:pt x="19848" y="13881"/>
                  <a:pt x="19895" y="13893"/>
                  <a:pt x="19918" y="13915"/>
                </a:cubicBezTo>
              </a:path>
              <a:path w="8682" h="2879">
                <a:moveTo>
                  <a:pt x="19521" y="14139"/>
                </a:moveTo>
                <a:cubicBezTo>
                  <a:pt x="19578" y="14131"/>
                  <a:pt x="19667" y="14112"/>
                  <a:pt x="19720" y="14089"/>
                </a:cubicBezTo>
                <a:cubicBezTo>
                  <a:pt x="19774" y="14066"/>
                  <a:pt x="19827" y="14043"/>
                  <a:pt x="19893" y="14039"/>
                </a:cubicBezTo>
                <a:cubicBezTo>
                  <a:pt x="19971" y="14035"/>
                  <a:pt x="19987" y="14068"/>
                  <a:pt x="19968" y="14015"/>
                </a:cubicBezTo>
              </a:path>
              <a:path w="8682" h="2879">
                <a:moveTo>
                  <a:pt x="20389" y="13171"/>
                </a:moveTo>
                <a:cubicBezTo>
                  <a:pt x="20407" y="13275"/>
                  <a:pt x="20379" y="13381"/>
                  <a:pt x="20389" y="13469"/>
                </a:cubicBezTo>
                <a:cubicBezTo>
                  <a:pt x="20396" y="13535"/>
                  <a:pt x="20414" y="13594"/>
                  <a:pt x="20414" y="13667"/>
                </a:cubicBezTo>
                <a:cubicBezTo>
                  <a:pt x="20414" y="13740"/>
                  <a:pt x="20439" y="13808"/>
                  <a:pt x="20439" y="13891"/>
                </a:cubicBezTo>
                <a:cubicBezTo>
                  <a:pt x="20414" y="13815"/>
                  <a:pt x="20435" y="13741"/>
                  <a:pt x="20414" y="13667"/>
                </a:cubicBezTo>
                <a:cubicBezTo>
                  <a:pt x="20394" y="13596"/>
                  <a:pt x="20389" y="13546"/>
                  <a:pt x="20389" y="13469"/>
                </a:cubicBezTo>
                <a:cubicBezTo>
                  <a:pt x="20389" y="13367"/>
                  <a:pt x="20376" y="13265"/>
                  <a:pt x="20414" y="13171"/>
                </a:cubicBezTo>
                <a:cubicBezTo>
                  <a:pt x="20447" y="13090"/>
                  <a:pt x="20480" y="13027"/>
                  <a:pt x="20538" y="12973"/>
                </a:cubicBezTo>
                <a:cubicBezTo>
                  <a:pt x="20587" y="12928"/>
                  <a:pt x="20677" y="12944"/>
                  <a:pt x="20737" y="12923"/>
                </a:cubicBezTo>
                <a:cubicBezTo>
                  <a:pt x="20794" y="12903"/>
                  <a:pt x="20876" y="12857"/>
                  <a:pt x="20935" y="12849"/>
                </a:cubicBezTo>
                <a:cubicBezTo>
                  <a:pt x="21041" y="12834"/>
                  <a:pt x="21149" y="12804"/>
                  <a:pt x="21258" y="12799"/>
                </a:cubicBezTo>
                <a:cubicBezTo>
                  <a:pt x="21307" y="12797"/>
                  <a:pt x="21357" y="12799"/>
                  <a:pt x="21406" y="12799"/>
                </a:cubicBezTo>
              </a:path>
              <a:path w="8682" h="2879">
                <a:moveTo>
                  <a:pt x="20886" y="13122"/>
                </a:moveTo>
                <a:cubicBezTo>
                  <a:pt x="20861" y="13146"/>
                  <a:pt x="20852" y="13154"/>
                  <a:pt x="20836" y="13171"/>
                </a:cubicBezTo>
                <a:cubicBezTo>
                  <a:pt x="20883" y="13194"/>
                  <a:pt x="20942" y="13145"/>
                  <a:pt x="21010" y="13122"/>
                </a:cubicBezTo>
                <a:cubicBezTo>
                  <a:pt x="21107" y="13089"/>
                  <a:pt x="21147" y="13110"/>
                  <a:pt x="21233" y="13122"/>
                </a:cubicBezTo>
                <a:cubicBezTo>
                  <a:pt x="21212" y="13216"/>
                  <a:pt x="21179" y="13261"/>
                  <a:pt x="21109" y="13320"/>
                </a:cubicBezTo>
                <a:cubicBezTo>
                  <a:pt x="21065" y="13357"/>
                  <a:pt x="21026" y="13403"/>
                  <a:pt x="20985" y="13444"/>
                </a:cubicBezTo>
                <a:cubicBezTo>
                  <a:pt x="21044" y="13385"/>
                  <a:pt x="21071" y="13373"/>
                  <a:pt x="21158" y="13370"/>
                </a:cubicBezTo>
                <a:cubicBezTo>
                  <a:pt x="21228" y="13367"/>
                  <a:pt x="21291" y="13381"/>
                  <a:pt x="21332" y="13444"/>
                </a:cubicBezTo>
                <a:cubicBezTo>
                  <a:pt x="21371" y="13504"/>
                  <a:pt x="21336" y="13565"/>
                  <a:pt x="21307" y="13618"/>
                </a:cubicBezTo>
                <a:cubicBezTo>
                  <a:pt x="21269" y="13689"/>
                  <a:pt x="21205" y="13706"/>
                  <a:pt x="21134" y="13742"/>
                </a:cubicBezTo>
                <a:cubicBezTo>
                  <a:pt x="21044" y="13787"/>
                  <a:pt x="20999" y="13859"/>
                  <a:pt x="20886" y="13891"/>
                </a:cubicBezTo>
                <a:cubicBezTo>
                  <a:pt x="20844" y="13891"/>
                  <a:pt x="20836" y="13891"/>
                  <a:pt x="20811" y="13891"/>
                </a:cubicBezTo>
              </a:path>
              <a:path w="8682" h="2879">
                <a:moveTo>
                  <a:pt x="20265" y="13965"/>
                </a:moveTo>
                <a:cubicBezTo>
                  <a:pt x="20325" y="14001"/>
                  <a:pt x="20390" y="13990"/>
                  <a:pt x="20464" y="13990"/>
                </a:cubicBezTo>
                <a:cubicBezTo>
                  <a:pt x="20552" y="13990"/>
                  <a:pt x="20627" y="13978"/>
                  <a:pt x="20712" y="13965"/>
                </a:cubicBezTo>
                <a:cubicBezTo>
                  <a:pt x="20830" y="13947"/>
                  <a:pt x="20970" y="13942"/>
                  <a:pt x="21084" y="13915"/>
                </a:cubicBezTo>
                <a:cubicBezTo>
                  <a:pt x="21169" y="13895"/>
                  <a:pt x="21271" y="13853"/>
                  <a:pt x="21357" y="13841"/>
                </a:cubicBezTo>
                <a:cubicBezTo>
                  <a:pt x="21456" y="13827"/>
                  <a:pt x="21526" y="13804"/>
                  <a:pt x="21630" y="13791"/>
                </a:cubicBezTo>
                <a:cubicBezTo>
                  <a:pt x="21646" y="13791"/>
                  <a:pt x="21663" y="13791"/>
                  <a:pt x="21679" y="13791"/>
                </a:cubicBezTo>
              </a:path>
              <a:path w="8682" h="2879">
                <a:moveTo>
                  <a:pt x="20786" y="14064"/>
                </a:moveTo>
                <a:cubicBezTo>
                  <a:pt x="20764" y="14087"/>
                  <a:pt x="20759" y="14095"/>
                  <a:pt x="20737" y="14089"/>
                </a:cubicBezTo>
                <a:cubicBezTo>
                  <a:pt x="20776" y="14108"/>
                  <a:pt x="20836" y="14101"/>
                  <a:pt x="20886" y="14064"/>
                </a:cubicBezTo>
                <a:cubicBezTo>
                  <a:pt x="20945" y="14020"/>
                  <a:pt x="20999" y="14027"/>
                  <a:pt x="21059" y="13990"/>
                </a:cubicBezTo>
                <a:cubicBezTo>
                  <a:pt x="21123" y="13950"/>
                  <a:pt x="21122" y="13940"/>
                  <a:pt x="21208" y="13940"/>
                </a:cubicBezTo>
                <a:cubicBezTo>
                  <a:pt x="21271" y="13940"/>
                  <a:pt x="21331" y="13988"/>
                  <a:pt x="21307" y="14064"/>
                </a:cubicBezTo>
                <a:cubicBezTo>
                  <a:pt x="21293" y="14108"/>
                  <a:pt x="21221" y="14186"/>
                  <a:pt x="21183" y="14213"/>
                </a:cubicBezTo>
                <a:cubicBezTo>
                  <a:pt x="21149" y="14237"/>
                  <a:pt x="21096" y="14295"/>
                  <a:pt x="21059" y="14312"/>
                </a:cubicBezTo>
                <a:cubicBezTo>
                  <a:pt x="20994" y="14334"/>
                  <a:pt x="20979" y="14342"/>
                  <a:pt x="20935" y="14337"/>
                </a:cubicBezTo>
                <a:cubicBezTo>
                  <a:pt x="20988" y="14285"/>
                  <a:pt x="21009" y="14288"/>
                  <a:pt x="21084" y="14288"/>
                </a:cubicBezTo>
                <a:cubicBezTo>
                  <a:pt x="21135" y="14288"/>
                  <a:pt x="21194" y="14306"/>
                  <a:pt x="21233" y="14337"/>
                </a:cubicBezTo>
                <a:cubicBezTo>
                  <a:pt x="21306" y="14396"/>
                  <a:pt x="21304" y="14444"/>
                  <a:pt x="21307" y="14536"/>
                </a:cubicBezTo>
                <a:cubicBezTo>
                  <a:pt x="21310" y="14615"/>
                  <a:pt x="21287" y="14676"/>
                  <a:pt x="21233" y="14734"/>
                </a:cubicBezTo>
                <a:cubicBezTo>
                  <a:pt x="21193" y="14777"/>
                  <a:pt x="21134" y="14826"/>
                  <a:pt x="21084" y="14858"/>
                </a:cubicBezTo>
                <a:cubicBezTo>
                  <a:pt x="21038" y="14887"/>
                  <a:pt x="20865" y="14934"/>
                  <a:pt x="20811" y="14932"/>
                </a:cubicBezTo>
                <a:cubicBezTo>
                  <a:pt x="20790" y="14931"/>
                  <a:pt x="20677" y="14891"/>
                  <a:pt x="20662" y="14883"/>
                </a:cubicBezTo>
                <a:cubicBezTo>
                  <a:pt x="20592" y="14847"/>
                  <a:pt x="20602" y="14839"/>
                  <a:pt x="20613" y="149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Ink 19"/>
          <p:cNvSpPr/>
          <p:nvPr/>
        </p:nvSpPr>
        <p:spPr>
          <a:xfrm>
            <a:off x="3241800" y="1677960"/>
            <a:ext cx="160200" cy="536760"/>
          </a:xfrm>
          <a:custGeom>
            <a:avLst/>
            <a:gdLst/>
            <a:ahLst/>
            <a:rect l="l" t="t" r="r" b="b"/>
            <a:pathLst>
              <a:path w="448" h="1490">
                <a:moveTo>
                  <a:pt x="9451" y="4663"/>
                </a:moveTo>
                <a:cubicBezTo>
                  <a:pt x="9395" y="4707"/>
                  <a:pt x="9361" y="4722"/>
                  <a:pt x="9327" y="4787"/>
                </a:cubicBezTo>
                <a:cubicBezTo>
                  <a:pt x="9283" y="4871"/>
                  <a:pt x="9232" y="4933"/>
                  <a:pt x="9178" y="5011"/>
                </a:cubicBezTo>
                <a:cubicBezTo>
                  <a:pt x="9091" y="5137"/>
                  <a:pt x="9073" y="5288"/>
                  <a:pt x="9029" y="5432"/>
                </a:cubicBezTo>
                <a:cubicBezTo>
                  <a:pt x="9001" y="5526"/>
                  <a:pt x="8987" y="5655"/>
                  <a:pt x="9004" y="5755"/>
                </a:cubicBezTo>
                <a:cubicBezTo>
                  <a:pt x="9020" y="5847"/>
                  <a:pt x="9065" y="5959"/>
                  <a:pt x="9128" y="6028"/>
                </a:cubicBezTo>
                <a:cubicBezTo>
                  <a:pt x="9164" y="6067"/>
                  <a:pt x="9213" y="6088"/>
                  <a:pt x="9252" y="6127"/>
                </a:cubicBezTo>
                <a:cubicBezTo>
                  <a:pt x="9292" y="6167"/>
                  <a:pt x="9301" y="6154"/>
                  <a:pt x="9277" y="60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Ink 20"/>
          <p:cNvSpPr/>
          <p:nvPr/>
        </p:nvSpPr>
        <p:spPr>
          <a:xfrm>
            <a:off x="3643200" y="1660680"/>
            <a:ext cx="9720" cy="206280"/>
          </a:xfrm>
          <a:custGeom>
            <a:avLst/>
            <a:gdLst/>
            <a:ahLst/>
            <a:rect l="l" t="t" r="r" b="b"/>
            <a:pathLst>
              <a:path w="26" h="571">
                <a:moveTo>
                  <a:pt x="10120" y="4614"/>
                </a:moveTo>
                <a:cubicBezTo>
                  <a:pt x="10120" y="4775"/>
                  <a:pt x="10120" y="4932"/>
                  <a:pt x="10145" y="5085"/>
                </a:cubicBezTo>
                <a:cubicBezTo>
                  <a:pt x="10145" y="5135"/>
                  <a:pt x="10145" y="5151"/>
                  <a:pt x="10145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Ink 21"/>
          <p:cNvSpPr/>
          <p:nvPr/>
        </p:nvSpPr>
        <p:spPr>
          <a:xfrm>
            <a:off x="3438360" y="1911240"/>
            <a:ext cx="330480" cy="17640"/>
          </a:xfrm>
          <a:custGeom>
            <a:avLst/>
            <a:gdLst/>
            <a:ahLst/>
            <a:rect l="l" t="t" r="r" b="b"/>
            <a:pathLst>
              <a:path w="919" h="51">
                <a:moveTo>
                  <a:pt x="9550" y="5358"/>
                </a:moveTo>
                <a:cubicBezTo>
                  <a:pt x="9678" y="5358"/>
                  <a:pt x="9795" y="5342"/>
                  <a:pt x="9922" y="5333"/>
                </a:cubicBezTo>
                <a:cubicBezTo>
                  <a:pt x="10040" y="5324"/>
                  <a:pt x="10148" y="5308"/>
                  <a:pt x="10269" y="5308"/>
                </a:cubicBezTo>
                <a:cubicBezTo>
                  <a:pt x="10342" y="5308"/>
                  <a:pt x="10461" y="5280"/>
                  <a:pt x="10443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Ink 22"/>
          <p:cNvSpPr/>
          <p:nvPr/>
        </p:nvSpPr>
        <p:spPr>
          <a:xfrm>
            <a:off x="3527280" y="2009880"/>
            <a:ext cx="204840" cy="177840"/>
          </a:xfrm>
          <a:custGeom>
            <a:avLst/>
            <a:gdLst/>
            <a:ahLst/>
            <a:rect l="l" t="t" r="r" b="b"/>
            <a:pathLst>
              <a:path w="571" h="497">
                <a:moveTo>
                  <a:pt x="9872" y="5581"/>
                </a:moveTo>
                <a:cubicBezTo>
                  <a:pt x="9939" y="5615"/>
                  <a:pt x="10019" y="5599"/>
                  <a:pt x="10096" y="5606"/>
                </a:cubicBezTo>
                <a:cubicBezTo>
                  <a:pt x="10154" y="5612"/>
                  <a:pt x="10172" y="5602"/>
                  <a:pt x="10220" y="5631"/>
                </a:cubicBezTo>
                <a:cubicBezTo>
                  <a:pt x="10209" y="5704"/>
                  <a:pt x="10161" y="5757"/>
                  <a:pt x="10096" y="5804"/>
                </a:cubicBezTo>
                <a:cubicBezTo>
                  <a:pt x="10012" y="5865"/>
                  <a:pt x="9933" y="5945"/>
                  <a:pt x="9847" y="6003"/>
                </a:cubicBezTo>
                <a:cubicBezTo>
                  <a:pt x="9831" y="6011"/>
                  <a:pt x="9814" y="6020"/>
                  <a:pt x="9798" y="6028"/>
                </a:cubicBezTo>
                <a:cubicBezTo>
                  <a:pt x="9878" y="6107"/>
                  <a:pt x="9911" y="6068"/>
                  <a:pt x="10021" y="6052"/>
                </a:cubicBezTo>
                <a:cubicBezTo>
                  <a:pt x="10099" y="6041"/>
                  <a:pt x="10168" y="6046"/>
                  <a:pt x="10244" y="6028"/>
                </a:cubicBezTo>
                <a:cubicBezTo>
                  <a:pt x="10285" y="6020"/>
                  <a:pt x="10327" y="6011"/>
                  <a:pt x="10368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Ink 23"/>
          <p:cNvSpPr/>
          <p:nvPr/>
        </p:nvSpPr>
        <p:spPr>
          <a:xfrm>
            <a:off x="3821040" y="2125800"/>
            <a:ext cx="28800" cy="98280"/>
          </a:xfrm>
          <a:custGeom>
            <a:avLst/>
            <a:gdLst/>
            <a:ahLst/>
            <a:rect l="l" t="t" r="r" b="b"/>
            <a:pathLst>
              <a:path w="76" h="273">
                <a:moveTo>
                  <a:pt x="10691" y="5904"/>
                </a:moveTo>
                <a:cubicBezTo>
                  <a:pt x="10684" y="5977"/>
                  <a:pt x="10653" y="6015"/>
                  <a:pt x="10641" y="6077"/>
                </a:cubicBezTo>
                <a:cubicBezTo>
                  <a:pt x="10633" y="6117"/>
                  <a:pt x="10643" y="6234"/>
                  <a:pt x="10616" y="61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Ink 24"/>
          <p:cNvSpPr/>
          <p:nvPr/>
        </p:nvSpPr>
        <p:spPr>
          <a:xfrm>
            <a:off x="4010040" y="1677960"/>
            <a:ext cx="214200" cy="233280"/>
          </a:xfrm>
          <a:custGeom>
            <a:avLst/>
            <a:gdLst/>
            <a:ahLst/>
            <a:rect l="l" t="t" r="r" b="b"/>
            <a:pathLst>
              <a:path w="597" h="646">
                <a:moveTo>
                  <a:pt x="11162" y="4862"/>
                </a:moveTo>
                <a:cubicBezTo>
                  <a:pt x="11162" y="5011"/>
                  <a:pt x="11162" y="5159"/>
                  <a:pt x="11162" y="5308"/>
                </a:cubicBezTo>
                <a:cubicBezTo>
                  <a:pt x="11119" y="5238"/>
                  <a:pt x="11137" y="5146"/>
                  <a:pt x="11137" y="5060"/>
                </a:cubicBezTo>
                <a:cubicBezTo>
                  <a:pt x="11137" y="4970"/>
                  <a:pt x="11150" y="4932"/>
                  <a:pt x="11187" y="4862"/>
                </a:cubicBezTo>
                <a:cubicBezTo>
                  <a:pt x="11222" y="4797"/>
                  <a:pt x="11310" y="4733"/>
                  <a:pt x="11385" y="4713"/>
                </a:cubicBezTo>
                <a:cubicBezTo>
                  <a:pt x="11462" y="4693"/>
                  <a:pt x="11557" y="4675"/>
                  <a:pt x="11633" y="4663"/>
                </a:cubicBezTo>
                <a:cubicBezTo>
                  <a:pt x="11683" y="4663"/>
                  <a:pt x="11700" y="4663"/>
                  <a:pt x="11733" y="46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Ink 25"/>
          <p:cNvSpPr/>
          <p:nvPr/>
        </p:nvSpPr>
        <p:spPr>
          <a:xfrm>
            <a:off x="4089240" y="1758960"/>
            <a:ext cx="142920" cy="179280"/>
          </a:xfrm>
          <a:custGeom>
            <a:avLst/>
            <a:gdLst/>
            <a:ahLst/>
            <a:rect l="l" t="t" r="r" b="b"/>
            <a:pathLst>
              <a:path w="397" h="497">
                <a:moveTo>
                  <a:pt x="11410" y="4936"/>
                </a:moveTo>
                <a:cubicBezTo>
                  <a:pt x="11518" y="4888"/>
                  <a:pt x="11569" y="4883"/>
                  <a:pt x="11683" y="4911"/>
                </a:cubicBezTo>
                <a:cubicBezTo>
                  <a:pt x="11663" y="4944"/>
                  <a:pt x="11594" y="5068"/>
                  <a:pt x="11559" y="5085"/>
                </a:cubicBezTo>
                <a:cubicBezTo>
                  <a:pt x="11524" y="5102"/>
                  <a:pt x="11450" y="5105"/>
                  <a:pt x="11410" y="5110"/>
                </a:cubicBezTo>
                <a:cubicBezTo>
                  <a:pt x="11497" y="5143"/>
                  <a:pt x="11600" y="5129"/>
                  <a:pt x="11683" y="5184"/>
                </a:cubicBezTo>
                <a:cubicBezTo>
                  <a:pt x="11725" y="5226"/>
                  <a:pt x="11733" y="5233"/>
                  <a:pt x="11757" y="5259"/>
                </a:cubicBezTo>
                <a:cubicBezTo>
                  <a:pt x="11713" y="5321"/>
                  <a:pt x="11663" y="5348"/>
                  <a:pt x="11584" y="5358"/>
                </a:cubicBezTo>
                <a:cubicBezTo>
                  <a:pt x="11503" y="5369"/>
                  <a:pt x="11438" y="5359"/>
                  <a:pt x="11361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Ink 26"/>
          <p:cNvSpPr/>
          <p:nvPr/>
        </p:nvSpPr>
        <p:spPr>
          <a:xfrm>
            <a:off x="3983040" y="1955880"/>
            <a:ext cx="285840" cy="9360"/>
          </a:xfrm>
          <a:custGeom>
            <a:avLst/>
            <a:gdLst/>
            <a:ahLst/>
            <a:rect l="l" t="t" r="r" b="b"/>
            <a:pathLst>
              <a:path w="795" h="26">
                <a:moveTo>
                  <a:pt x="11063" y="5457"/>
                </a:moveTo>
                <a:cubicBezTo>
                  <a:pt x="11192" y="5457"/>
                  <a:pt x="11309" y="5435"/>
                  <a:pt x="11435" y="5432"/>
                </a:cubicBezTo>
                <a:cubicBezTo>
                  <a:pt x="11555" y="5429"/>
                  <a:pt x="11757" y="5397"/>
                  <a:pt x="11857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Ink 27"/>
          <p:cNvSpPr/>
          <p:nvPr/>
        </p:nvSpPr>
        <p:spPr>
          <a:xfrm>
            <a:off x="4037040" y="2035080"/>
            <a:ext cx="231840" cy="144720"/>
          </a:xfrm>
          <a:custGeom>
            <a:avLst/>
            <a:gdLst/>
            <a:ahLst/>
            <a:rect l="l" t="t" r="r" b="b"/>
            <a:pathLst>
              <a:path w="646" h="398">
                <a:moveTo>
                  <a:pt x="11336" y="5655"/>
                </a:moveTo>
                <a:cubicBezTo>
                  <a:pt x="11390" y="5655"/>
                  <a:pt x="11497" y="5632"/>
                  <a:pt x="11534" y="5680"/>
                </a:cubicBezTo>
                <a:cubicBezTo>
                  <a:pt x="11596" y="5761"/>
                  <a:pt x="11496" y="5839"/>
                  <a:pt x="11435" y="5879"/>
                </a:cubicBezTo>
                <a:cubicBezTo>
                  <a:pt x="11321" y="5954"/>
                  <a:pt x="11192" y="5965"/>
                  <a:pt x="11237" y="6052"/>
                </a:cubicBezTo>
                <a:cubicBezTo>
                  <a:pt x="11341" y="6052"/>
                  <a:pt x="11431" y="6054"/>
                  <a:pt x="11534" y="6028"/>
                </a:cubicBezTo>
                <a:cubicBezTo>
                  <a:pt x="11675" y="5993"/>
                  <a:pt x="11751" y="5951"/>
                  <a:pt x="11857" y="58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Ink 28"/>
          <p:cNvSpPr/>
          <p:nvPr/>
        </p:nvSpPr>
        <p:spPr>
          <a:xfrm>
            <a:off x="4276800" y="1687680"/>
            <a:ext cx="162000" cy="554040"/>
          </a:xfrm>
          <a:custGeom>
            <a:avLst/>
            <a:gdLst/>
            <a:ahLst/>
            <a:rect l="l" t="t" r="r" b="b"/>
            <a:pathLst>
              <a:path w="448" h="1539">
                <a:moveTo>
                  <a:pt x="12030" y="4688"/>
                </a:moveTo>
                <a:cubicBezTo>
                  <a:pt x="12120" y="4790"/>
                  <a:pt x="12176" y="4884"/>
                  <a:pt x="12229" y="5011"/>
                </a:cubicBezTo>
                <a:cubicBezTo>
                  <a:pt x="12289" y="5155"/>
                  <a:pt x="12324" y="5302"/>
                  <a:pt x="12328" y="5457"/>
                </a:cubicBezTo>
                <a:cubicBezTo>
                  <a:pt x="12331" y="5558"/>
                  <a:pt x="12351" y="5711"/>
                  <a:pt x="12303" y="5804"/>
                </a:cubicBezTo>
                <a:cubicBezTo>
                  <a:pt x="12237" y="5933"/>
                  <a:pt x="12107" y="6030"/>
                  <a:pt x="12005" y="6127"/>
                </a:cubicBezTo>
                <a:cubicBezTo>
                  <a:pt x="11956" y="6174"/>
                  <a:pt x="11938" y="6193"/>
                  <a:pt x="11881" y="62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Ink 29"/>
          <p:cNvSpPr/>
          <p:nvPr/>
        </p:nvSpPr>
        <p:spPr>
          <a:xfrm>
            <a:off x="3446640" y="2276640"/>
            <a:ext cx="125280" cy="117360"/>
          </a:xfrm>
          <a:custGeom>
            <a:avLst/>
            <a:gdLst/>
            <a:ahLst/>
            <a:rect l="l" t="t" r="r" b="b"/>
            <a:pathLst>
              <a:path w="348" h="324">
                <a:moveTo>
                  <a:pt x="9575" y="6325"/>
                </a:moveTo>
                <a:cubicBezTo>
                  <a:pt x="9620" y="6372"/>
                  <a:pt x="9636" y="6424"/>
                  <a:pt x="9674" y="6474"/>
                </a:cubicBezTo>
                <a:cubicBezTo>
                  <a:pt x="9740" y="6561"/>
                  <a:pt x="9827" y="6600"/>
                  <a:pt x="9922" y="66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Ink 30"/>
          <p:cNvSpPr/>
          <p:nvPr/>
        </p:nvSpPr>
        <p:spPr>
          <a:xfrm>
            <a:off x="3411360" y="2259000"/>
            <a:ext cx="125640" cy="162000"/>
          </a:xfrm>
          <a:custGeom>
            <a:avLst/>
            <a:gdLst/>
            <a:ahLst/>
            <a:rect l="l" t="t" r="r" b="b"/>
            <a:pathLst>
              <a:path w="349" h="447">
                <a:moveTo>
                  <a:pt x="9823" y="6276"/>
                </a:moveTo>
                <a:cubicBezTo>
                  <a:pt x="9718" y="6431"/>
                  <a:pt x="9616" y="6529"/>
                  <a:pt x="9500" y="6672"/>
                </a:cubicBezTo>
                <a:cubicBezTo>
                  <a:pt x="9492" y="6689"/>
                  <a:pt x="9483" y="6705"/>
                  <a:pt x="9475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nk 31"/>
          <p:cNvSpPr/>
          <p:nvPr/>
        </p:nvSpPr>
        <p:spPr>
          <a:xfrm>
            <a:off x="3919680" y="2313000"/>
            <a:ext cx="206280" cy="258840"/>
          </a:xfrm>
          <a:custGeom>
            <a:avLst/>
            <a:gdLst/>
            <a:ahLst/>
            <a:rect l="l" t="t" r="r" b="b"/>
            <a:pathLst>
              <a:path w="572" h="721">
                <a:moveTo>
                  <a:pt x="11187" y="6499"/>
                </a:moveTo>
                <a:cubicBezTo>
                  <a:pt x="11187" y="6575"/>
                  <a:pt x="11186" y="6604"/>
                  <a:pt x="11212" y="6672"/>
                </a:cubicBezTo>
                <a:cubicBezTo>
                  <a:pt x="11273" y="6663"/>
                  <a:pt x="11312" y="6643"/>
                  <a:pt x="11361" y="6598"/>
                </a:cubicBezTo>
                <a:cubicBezTo>
                  <a:pt x="11413" y="6550"/>
                  <a:pt x="11427" y="6489"/>
                  <a:pt x="11435" y="6424"/>
                </a:cubicBezTo>
                <a:cubicBezTo>
                  <a:pt x="11435" y="6576"/>
                  <a:pt x="11443" y="6723"/>
                  <a:pt x="11460" y="6871"/>
                </a:cubicBezTo>
                <a:cubicBezTo>
                  <a:pt x="11467" y="6934"/>
                  <a:pt x="11461" y="7038"/>
                  <a:pt x="11435" y="7094"/>
                </a:cubicBezTo>
                <a:cubicBezTo>
                  <a:pt x="11401" y="7167"/>
                  <a:pt x="11270" y="7155"/>
                  <a:pt x="11212" y="7144"/>
                </a:cubicBezTo>
                <a:cubicBezTo>
                  <a:pt x="11142" y="7131"/>
                  <a:pt x="11075" y="7061"/>
                  <a:pt x="11013" y="7045"/>
                </a:cubicBezTo>
                <a:cubicBezTo>
                  <a:pt x="10977" y="7036"/>
                  <a:pt x="10926" y="7045"/>
                  <a:pt x="10889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1:58:27Z</dcterms:created>
  <dc:creator>jnewman</dc:creator>
  <dc:description/>
  <dc:language>en-US</dc:language>
  <cp:lastModifiedBy>abeason</cp:lastModifiedBy>
  <dcterms:modified xsi:type="dcterms:W3CDTF">2009-09-22T14:37:45Z</dcterms:modified>
  <cp:revision>17</cp:revision>
  <dc:subject/>
  <dc:title>Lesson 4.2 part three</dc:title>
</cp:coreProperties>
</file>